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8DBCA-3041-463A-88C6-7A7AFC60B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53B77-BCFB-47CA-BEDA-7A9165D8B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A7059-DCCE-4092-8FA6-25123A8E0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64882-320E-4D1E-A063-2A8901EB8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B3B25-2E8A-46CC-BB5A-18EE1184F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40B23-52D2-49BC-9477-DB5A1E0EB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9A79E-5665-4809-976D-E6A79CEF3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48878-847C-424A-8659-50EA023CD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0A27C-CEA8-420C-815A-667158A2C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BC498-822E-43FF-9717-B48879862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B5635-C5B7-488F-9E76-122C6687F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AB544-982C-48CA-B665-E896B11DB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2891C-FEEF-475A-B6D2-F6F661A7193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913040" y="0"/>
            <a:ext cx="5316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935000" y="0"/>
            <a:ext cx="527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4278960" y="6324480"/>
            <a:ext cx="56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我爸爸吃得像马一样多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936800" y="0"/>
            <a:ext cx="52722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4338720" y="5907240"/>
            <a:ext cx="56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游泳时像鱼一样灵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935000" y="0"/>
            <a:ext cx="527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4224240" y="6400800"/>
            <a:ext cx="56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他像大猩猩一样强壮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935000" y="0"/>
            <a:ext cx="527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3809880" y="626256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这就是我爸爸，他真的很酷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66360" y="0"/>
            <a:ext cx="63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也像整天笑眯眯的河马一样快乐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936800" y="0"/>
            <a:ext cx="5272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935000" y="0"/>
            <a:ext cx="527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2498760" y="65754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208400" y="6296040"/>
            <a:ext cx="74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有时他又很温柔，就像我的泰迪熊一样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928880" y="0"/>
            <a:ext cx="528624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2963880" y="82404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他像猫头鹰一样聪明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935000" y="0"/>
            <a:ext cx="527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5181480" y="91440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不过，有时候也会做点傻事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540600" y="6477120"/>
            <a:ext cx="202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这就是我爸爸，他真的很酷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935000" y="0"/>
            <a:ext cx="527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353400" y="6172200"/>
            <a:ext cx="245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我爸爸是个伟大的舞蹈家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935000" y="0"/>
            <a:ext cx="527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4661640" y="68904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也是个了不起的歌手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935000" y="0"/>
            <a:ext cx="527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1935000" y="0"/>
            <a:ext cx="527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193840" y="6346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445560" y="6324480"/>
            <a:ext cx="22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他踢足球的技巧棒呆了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935000" y="0"/>
            <a:ext cx="527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4377600" y="68580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还常常逗我哈哈大笑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2178000" y="0"/>
            <a:ext cx="4788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3570120" y="609480"/>
            <a:ext cx="22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我爱我爸爸，而且你知道吗？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933560" y="0"/>
            <a:ext cx="5275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2133720" y="861840"/>
            <a:ext cx="4786200" cy="485316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4382280" y="230652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爸爸也爱我，永远爱我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935000" y="0"/>
            <a:ext cx="527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471480" y="6261120"/>
            <a:ext cx="25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这就是我爸爸，他真的很酷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965240" y="0"/>
            <a:ext cx="527364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840480" y="61722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他什么都不怕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935000" y="0"/>
            <a:ext cx="527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4433040" y="632772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连大野狼都吓不倒他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935000" y="0"/>
            <a:ext cx="527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278960" y="6324480"/>
            <a:ext cx="56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他一跳可以飞过月亮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940040" y="0"/>
            <a:ext cx="526392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245040" y="6324480"/>
            <a:ext cx="282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还会走钢索（而且不会掉下来）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19160" y="0"/>
            <a:ext cx="530568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698640" y="63244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他敢和巨人摔跤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928880" y="0"/>
            <a:ext cx="528624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2162160" y="624852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参加父亲运动会时，轻轻松松就跑了第一名。这就是我爸爸，他真的很酷！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yue</cp:lastModifiedBy>
  <dcterms:modified xsi:type="dcterms:W3CDTF">2007-10-12T00:32:31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