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411360"/>
            <a:ext cx="9144000" cy="3446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885000" y="3860640"/>
            <a:ext cx="2259000" cy="2799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 rot="973800">
            <a:off x="-396720" y="-647640"/>
            <a:ext cx="1180800" cy="129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10120" y="2852640"/>
            <a:ext cx="3233880" cy="4005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0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2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19890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65284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26:41Z</dcterms:modified>
  <cp:revision>55</cp:revision>
  <dc:subject/>
  <dc:title>PowerPoint Template</dc:title>
</cp:coreProperties>
</file>