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0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spcBef>
                <a:spcPts val="400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spcBef>
                <a:spcPts val="400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spcBef>
                <a:spcPts val="400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6699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2" marL="914400" indent="343080" algn="ctr">
              <a:spcBef>
                <a:spcPts val="400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1371600" indent="241200" algn="ctr">
              <a:spcBef>
                <a:spcPts val="400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1828800" indent="139680" algn="ctr">
              <a:spcBef>
                <a:spcPts val="400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1828800" indent="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1828800" indent="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20606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72412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99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66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66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66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66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6699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黑体"/>
              </a:rPr>
              <a:t>模板的使用</a:t>
            </a: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配色方案修改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配色方案在【格式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幻灯片设计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配色方案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编辑配色方案】下调整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的添加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添加修改在【视图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母版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幻灯片母版】下调整。直接选择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图片删除或修改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黑体"/>
              </a:rPr>
              <a:t>字体格式的设置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母版】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1c1c1c"/>
                </a:solidFill>
                <a:latin typeface="黑体"/>
              </a:rPr>
              <a:t>【幻灯片母版】下调整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56536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黑体"/>
              </a:rPr>
              <a:t>www.nordridesign.com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844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1:58Z</dcterms:modified>
  <cp:revision>55</cp:revision>
  <dc:subject/>
  <dc:title>PowerPoint Template</dc:title>
</cp:coreProperties>
</file>