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7AE6-BA5E-4397-99B2-487F7080C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D762-9A54-4A39-B676-B757DA825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9E2A-DE23-4A13-8E6F-9F92F9D7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A0EE-FCD9-4060-B550-2846E7CC1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D33F-6EAA-45A7-8AFE-03721D375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F598-5426-463C-91D3-B2B6D9133F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12CE-F388-449B-8340-0840DFBAB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9385-BA9F-4A6E-8BB4-2D638E08A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03BE-EA32-4028-8B3B-B7091CCD7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E923-9713-44CB-B5A4-0E6365097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74B3-FF92-4B23-8C99-DEA27D762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97C7-F4EB-468B-8533-180A136FA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9640" y="54936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AB08-23FD-4903-B3F0-E2F9BB772333}" type="slidenum">
              <a:rPr b="1" lang="zh-CN" sz="12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28480" y="5950080"/>
            <a:ext cx="224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8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0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0" y="1486080"/>
            <a:ext cx="45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5640" y="1484280"/>
            <a:ext cx="35272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2771640" y="162756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5f5f5f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5f5f5f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615600"/>
            <a:ext cx="806472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58920" y="249228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808080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808080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898920" y="256284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808080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808080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2819520"/>
            <a:ext cx="2663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1:38Z</dcterms:modified>
  <cp:revision>19</cp:revision>
  <dc:subject/>
  <dc:title>上海诺睿网络信息科技有限公司</dc:title>
</cp:coreProperties>
</file>