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8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74760" y="2154240"/>
            <a:ext cx="46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46400" y="2817720"/>
            <a:ext cx="281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320" y="28735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320" y="21528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6:27Z</dcterms:modified>
  <cp:revision>56</cp:revision>
  <dc:subject/>
  <dc:title>PowerPoint Template</dc:title>
</cp:coreProperties>
</file>