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26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3429000"/>
            <a:ext cx="665280" cy="647640"/>
            <a:chOff x="8172360" y="3429000"/>
            <a:chExt cx="665280" cy="647640"/>
          </a:xfrm>
        </p:grpSpPr>
        <p:sp>
          <p:nvSpPr>
            <p:cNvPr id="4" name=""/>
            <p:cNvSpPr txBox="1"/>
            <p:nvPr/>
          </p:nvSpPr>
          <p:spPr>
            <a:xfrm>
              <a:off x="8172360" y="34290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8604000" y="3762360"/>
              <a:ext cx="2336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</a:rPr>
                <a:t>月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10240" y="4076640"/>
            <a:ext cx="3533760" cy="2289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80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070840" y="4021200"/>
            <a:ext cx="665280" cy="647640"/>
            <a:chOff x="8070840" y="4021200"/>
            <a:chExt cx="665280" cy="647640"/>
          </a:xfrm>
        </p:grpSpPr>
        <p:sp>
          <p:nvSpPr>
            <p:cNvPr id="48" name=""/>
            <p:cNvSpPr txBox="1"/>
            <p:nvPr/>
          </p:nvSpPr>
          <p:spPr>
            <a:xfrm>
              <a:off x="8070840" y="40212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8502480" y="4354560"/>
              <a:ext cx="2336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/>
                      </a:gs>
                      <a:gs pos="100000">
                        <a:srgbClr val="e7f3f4"/>
                      </a:gs>
                    </a:gsLst>
                    <a:lin ang="5400000"/>
                  </a:gradFill>
                  <a:latin typeface="黑体"/>
                </a:rPr>
                <a:t>月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508720" y="4452840"/>
            <a:ext cx="3533760" cy="2289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9528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9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57080" y="2060640"/>
            <a:ext cx="352764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60640"/>
            <a:ext cx="46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260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39:54Z</dcterms:modified>
  <cp:revision>14</cp:revision>
  <dc:subject/>
  <dc:title>上海诺睿网络信息科技有限公司</dc:title>
</cp:coreProperties>
</file>