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741E-2A61-481A-AAB6-D1C5C5BED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068D-391E-4CB1-A6CB-76D731D71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FE92-B3AB-4836-9558-F2E0DCDF2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577E-BCB2-40DE-BF0F-DF43E0829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10C7-95E8-4A62-A25F-9EA58D0CB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5EEA-2FD3-45AD-93B1-F30ED6DFFE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2D8E-FD72-4601-8F4B-C198BC1C9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90EE-0F58-45C9-8C4F-7F0EE6093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95DC-BECF-48CD-B9BC-9344C0119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5310-40F6-42D0-BA69-24A1E0D93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BB1A-23C6-45C8-9D99-09BB8AA39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3BD4-FA08-415C-955D-48FEDF968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0" y="6589440"/>
            <a:ext cx="914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1D56-A179-41F2-B4F8-B9BF4229FED2}" type="slidenum">
              <a:rPr b="1" lang="zh-CN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1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3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0" y="2276640"/>
            <a:ext cx="468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55640" y="2276640"/>
            <a:ext cx="35272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2771640" y="241992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26Z</dcterms:modified>
  <cp:revision>19</cp:revision>
  <dc:subject/>
  <dc:title>上海诺睿网络信息科技有限公司</dc:title>
</cp:coreProperties>
</file>