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D968-F41D-408E-B958-A6B9B9143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A309-0905-48E3-AC80-17330040D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32AC-0D00-4AF0-A3A3-9966F8AD1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CFF5-8BB4-4080-962B-118672F74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7EFE-3B4D-4B3E-AB0E-D13E166DDE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23CA-0ECC-4FDB-85E8-32504C7839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962E-07A4-46BC-AAA2-96D57A453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6DF4-4720-4383-9311-E5AB0B457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88920-ABF8-40EB-8FE3-CAEB3C7DA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E30E-BD60-4A14-A923-19F29EF46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191CF-B3BF-4B2B-A917-DEB35607A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AF56-8394-44E5-9629-B087AE6B7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524720" y="333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47640" y="627696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11280" y="61326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0" y="6565680"/>
            <a:ext cx="9144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1466-C928-4484-AC58-37202D1C7E2F}" type="slidenum"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451640" y="5877000"/>
            <a:ext cx="1224000" cy="674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380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92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04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4360" y="5516640"/>
            <a:ext cx="46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Arial"/>
                <a:ea typeface="黑体"/>
              </a:rPr>
              <a:t>Nordri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5f5f"/>
                </a:solidFill>
                <a:latin typeface="黑体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5f5f5f"/>
                </a:solidFill>
                <a:latin typeface="黑体"/>
                <a:ea typeface="黑体"/>
              </a:rPr>
              <a:t>中国专业商务媒体（</a:t>
            </a:r>
            <a:r>
              <a:rPr b="0" lang="zh-CN" sz="1400" spc="-1" strike="noStrike">
                <a:solidFill>
                  <a:srgbClr val="5f5f5f"/>
                </a:solidFill>
                <a:latin typeface="黑体"/>
                <a:ea typeface="黑体"/>
              </a:rPr>
              <a:t>PPT</a:t>
            </a:r>
            <a:r>
              <a:rPr b="0" lang="zh-CN" sz="1400" spc="-1" strike="noStrike">
                <a:solidFill>
                  <a:srgbClr val="5f5f5f"/>
                </a:solidFill>
                <a:latin typeface="黑体"/>
                <a:ea typeface="黑体"/>
              </a:rPr>
              <a:t>）设计开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640" y="4724280"/>
            <a:ext cx="352728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100000">
                    <a:srgbClr val="80808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2771640" y="4868280"/>
            <a:ext cx="352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5f5f5f">
                        <a:alpha val="20000"/>
                      </a:srgbClr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5f5f5f">
                      <a:alpha val="20000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幻灯模板使用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258920" y="2781360"/>
            <a:ext cx="215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100000">
                    <a:srgbClr val="80808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898920" y="2851920"/>
            <a:ext cx="21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dddddd">
                        <a:alpha val="0"/>
                      </a:srgbClr>
                    </a:gs>
                    <a:gs pos="100000">
                      <a:srgbClr val="808080">
                        <a:alpha val="32156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dddddd">
                      <a:alpha val="0"/>
                    </a:srgbClr>
                  </a:gs>
                  <a:gs pos="100000">
                    <a:srgbClr val="808080">
                      <a:alpha val="3215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3108240"/>
            <a:ext cx="266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Verdana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>NordriDesign</dc:creator>
  <dc:description/>
  <dc:language>en-US</dc:language>
  <cp:lastModifiedBy>小田</cp:lastModifiedBy>
  <dcterms:modified xsi:type="dcterms:W3CDTF">2008-08-11T08:41:15Z</dcterms:modified>
  <cp:revision>22</cp:revision>
  <dc:subject/>
  <dc:title>上海诺睿网络信息科技有限公司</dc:title>
</cp:coreProperties>
</file>