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3411360"/>
            <a:ext cx="9144000" cy="34466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7796160" y="5013360"/>
            <a:ext cx="1166760" cy="129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9528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3698640" cy="4579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90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2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03640" y="168588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75280" y="234936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349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29:21Z</dcterms:modified>
  <cp:revision>55</cp:revision>
  <dc:subject/>
  <dc:title>PowerPoint Template</dc:title>
</cp:coreProperties>
</file>