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5080-42E1-4932-9E7D-242AE2E33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5EEF-2493-47F3-8C3D-E340F511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2BC5-19FD-4FAD-A034-33D013335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3413-F447-45DF-A920-E89677F62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D9E7-2431-4CE4-AFEF-F7CAAC282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192B-8749-456B-B057-A22D9F1B21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933E-E8C3-4C00-84F3-F32175789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C0B9-3274-46DB-A49D-4A887B71D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75F7-9D5E-4FCE-95EA-C3073ACC3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53F7-F446-4773-B11B-FF37E45C1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D7C7-7B67-45DE-9447-966849053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561E-03B3-4A3A-8D01-AC40937A1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25098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51640" y="368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00840" y="65372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8E28-5051-416B-84D6-B3CBEAB7C75D}" type="slidenum"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51640" y="5877000"/>
            <a:ext cx="1224000" cy="674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90" name="" descr="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102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0" y="2276640"/>
            <a:ext cx="4680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Nordri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中国专业商务媒体（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）设计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5640" y="2276640"/>
            <a:ext cx="35272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f8f8f8"/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/>
                  </a:gs>
                  <a:gs pos="100000">
                    <a:srgbClr val="f8f8f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2771640" y="2418120"/>
            <a:ext cx="352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dddddd">
                        <a:alpha val="0"/>
                      </a:srgbClr>
                    </a:gs>
                    <a:gs pos="100000">
                      <a:srgbClr val="f8f8f8">
                        <a:alpha val="20000"/>
                      </a:srgbClr>
                    </a:gs>
                  </a:gsLst>
                  <a:lin ang="5400000"/>
                </a:gradFill>
                <a:latin typeface="黑体"/>
              </a:rPr>
              <a:t>双击添加主标题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ddddd">
                      <a:alpha val="0"/>
                    </a:srgbClr>
                  </a:gs>
                  <a:gs pos="100000">
                    <a:srgbClr val="f8f8f8">
                      <a:alpha val="20000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幻灯模板使用说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900000" y="278136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e7f3f4"/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e7f3f4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1259280" y="2851920"/>
            <a:ext cx="21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bbe0e3">
                      <a:alpha val="0"/>
                    </a:srgbClr>
                  </a:gs>
                  <a:gs pos="100000">
                    <a:srgbClr val="e8f5f6">
                      <a:alpha val="32156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3108240"/>
            <a:ext cx="266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>NordriDesign</dc:creator>
  <dc:description/>
  <dc:language>en-US</dc:language>
  <cp:lastModifiedBy>小田</cp:lastModifiedBy>
  <dcterms:modified xsi:type="dcterms:W3CDTF">2008-08-11T08:40:48Z</dcterms:modified>
  <cp:revision>18</cp:revision>
  <dc:subject/>
  <dc:title>上海诺睿网络信息科技有限公司</dc:title>
</cp:coreProperties>
</file>