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5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7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94200" y="220500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5840" y="286848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6836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78136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060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47:21Z</dcterms:modified>
  <cp:revision>56</cp:revision>
  <dc:subject/>
  <dc:title>PowerPoint Template</dc:title>
</cp:coreProperties>
</file>