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565360"/>
            <a:ext cx="914400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6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8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994200" y="472428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865840" y="5388120"/>
            <a:ext cx="28098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515772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43700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57:19Z</dcterms:modified>
  <cp:revision>56</cp:revision>
  <dc:subject/>
  <dc:title>PowerPoint Template</dc:title>
</cp:coreProperties>
</file>