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C2AB-DBE3-45F8-AFBA-4EEAECB87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ED75-791A-4789-8D40-A241B5B63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511A-9BF1-4771-9DF6-0A47841F8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A35A-8D1D-4DAC-8252-8FBDAE118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33A9A-553D-43FB-BC9D-FD1A04F93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4F8F-A6D4-4747-B914-499DDCE003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55452-376D-4C5F-B412-6E79BAF9B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8F321-0733-4FD5-9690-689756C56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AFC5-D329-4BAF-BB60-5D583D33B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20AB-796F-423C-BFC0-A531A851D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ED16F-C08B-4F35-B9F7-6F05D3AA0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7D42-23BC-4215-BED3-6DA7327FD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51640" y="36828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900840" y="653724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0" y="6545160"/>
            <a:ext cx="914400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8DBB-CF5A-450C-99B6-91B20E01CBEE}" type="slidenum"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451640" y="5877000"/>
            <a:ext cx="1224000" cy="674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90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102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0" y="2276640"/>
            <a:ext cx="4680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Nordri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中国专业商务媒体（</a:t>
            </a: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）设计开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55640" y="2276640"/>
            <a:ext cx="352728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dddddd"/>
                    </a:gs>
                    <a:gs pos="100000">
                      <a:srgbClr val="f8f8f8"/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ddddd"/>
                  </a:gs>
                  <a:gs pos="100000">
                    <a:srgbClr val="f8f8f8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2771640" y="2418120"/>
            <a:ext cx="352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dddddd">
                        <a:alpha val="0"/>
                      </a:srgbClr>
                    </a:gs>
                    <a:gs pos="100000">
                      <a:srgbClr val="f8f8f8">
                        <a:alpha val="20000"/>
                      </a:srgbClr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ddddd">
                      <a:alpha val="0"/>
                    </a:srgbClr>
                  </a:gs>
                  <a:gs pos="100000">
                    <a:srgbClr val="f8f8f8">
                      <a:alpha val="20000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幻灯模板使用说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图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删除或修改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900000" y="2781360"/>
            <a:ext cx="215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e7f3f4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1259280" y="2851920"/>
            <a:ext cx="21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bbe0e3">
                        <a:alpha val="0"/>
                      </a:srgbClr>
                    </a:gs>
                    <a:gs pos="100000">
                      <a:srgbClr val="e8f5f6">
                        <a:alpha val="32156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e8f5f6">
                      <a:alpha val="3215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2" name=""/>
          <p:cNvSpPr/>
          <p:nvPr/>
        </p:nvSpPr>
        <p:spPr>
          <a:xfrm>
            <a:off x="5651640" y="3108240"/>
            <a:ext cx="266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>NordriDesign</dc:creator>
  <dc:description/>
  <dc:language>en-US</dc:language>
  <cp:lastModifiedBy>小田</cp:lastModifiedBy>
  <dcterms:modified xsi:type="dcterms:W3CDTF">2008-08-11T08:41:02Z</dcterms:modified>
  <cp:revision>21</cp:revision>
  <dc:subject/>
  <dc:title>上海诺睿网络信息科技有限公司</dc:title>
</cp:coreProperties>
</file>