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89200" y="1052280"/>
            <a:ext cx="6897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4683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5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7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94200" y="458136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5840" y="524520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89200" y="1052280"/>
            <a:ext cx="6897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492360" y="5518080"/>
            <a:ext cx="565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92360" y="4797360"/>
            <a:ext cx="5651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54:12Z</dcterms:modified>
  <cp:revision>55</cp:revision>
  <dc:subject/>
  <dc:title>PowerPoint Template</dc:title>
</cp:coreProperties>
</file>