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黑体"/>
                <a:ea typeface="黑体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黑体"/>
                <a:ea typeface="黑体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华文细黑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486900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55324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黑体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8784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15772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5:33Z</dcterms:modified>
  <cp:revision>56</cp:revision>
  <dc:subject/>
  <dc:title>PowerPoint Template</dc:title>
</cp:coreProperties>
</file>