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770E-1469-4704-9A9C-5C44D6C99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140F-4FF1-4ECC-BE30-8A93EABE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37C8-CCEB-4897-9A06-230DF85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E591-041D-46FE-9322-E3A38B5DB6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F6211-F8A7-46E3-B9E8-24A291A6C9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4D983-6DD4-4915-B26D-9852BBF4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32F3A-29B5-439F-9DBC-C0775413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EF375-962A-4751-97BE-579D3803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B2A16-D19E-449C-952B-F5C9C985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3C41D-D739-4359-BD73-4A701A55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69A4C-62CD-4855-8D9B-E3D5455F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3278-BB36-4913-9778-2C92D9E2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95EDB-6086-4AC0-AAD6-27A9A6C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AC1C1-B3B6-4118-B422-402F2830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6B3EA-F5CA-469A-892A-F3690897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C394C-3BD7-4AC4-8C4B-CDB6A61E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D37D4-C2BC-459C-A406-29E6D7A5A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4DFF-DA78-4E3C-9C46-301AA4E8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5467-3448-424B-8668-1B2E2718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1A6F-C2C0-4FE0-A586-113C9E4B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B513-3D2A-4547-9063-7A939302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4347-20EE-4F80-A18C-9F2D935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9C99-3A24-4953-A503-4809C79C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B175-9343-46AA-A390-31D02793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841E-E082-4E5B-B5E6-D952FBC76B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6E62-485E-4DEA-A70B-0568A74BA56A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4097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331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图片 13314" descr="马丁像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3315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4337" descr="madingludejin0822"/>
          <p:cNvPicPr/>
          <p:nvPr/>
        </p:nvPicPr>
        <p:blipFill>
          <a:blip r:embed="rId1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105" name="我有一个梦想1.mp3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06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5361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6385" descr="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6386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11" name="图片 16387" descr="1042763474764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16388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组合 16389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14" name="图片 16390" descr="0824m-king-5"/>
            <p:cNvPicPr/>
            <p:nvPr/>
          </p:nvPicPr>
          <p:blipFill>
            <a:blip r:embed="rId3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16391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7409" descr="未命名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7410" descr="md7"/>
          <p:cNvPicPr/>
          <p:nvPr/>
        </p:nvPicPr>
        <p:blipFill>
          <a:blip r:embed="rId2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7411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内容占位符 18435" descr="我有一个梦想的相关图片1"/>
          <p:cNvPicPr/>
          <p:nvPr/>
        </p:nvPicPr>
        <p:blipFill>
          <a:blip r:embed="rId1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  <p:sp>
        <p:nvSpPr>
          <p:cNvPr id="124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9458" descr="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9459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19460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图片 19461" descr="1-2"/>
          <p:cNvPicPr/>
          <p:nvPr/>
        </p:nvPicPr>
        <p:blipFill>
          <a:blip r:embed="rId2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  <p:sp>
        <p:nvSpPr>
          <p:cNvPr id="130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20483" descr="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0484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图片 20485" descr="md4"/>
          <p:cNvPicPr/>
          <p:nvPr/>
        </p:nvPicPr>
        <p:blipFill>
          <a:blip r:embed="rId2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  <p:sp>
        <p:nvSpPr>
          <p:cNvPr id="136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21507" descr="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1508" descr="20038261508071"/>
          <p:cNvPicPr/>
          <p:nvPr/>
        </p:nvPicPr>
        <p:blipFill>
          <a:blip r:embed="rId2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1509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2531" descr="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22532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图片 22533" descr="madingludejin0822"/>
          <p:cNvPicPr/>
          <p:nvPr/>
        </p:nvPicPr>
        <p:blipFill>
          <a:blip r:embed="rId2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2534" descr="0824m-king-1"/>
          <p:cNvPicPr/>
          <p:nvPr/>
        </p:nvPicPr>
        <p:blipFill>
          <a:blip r:embed="rId3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  <p:sp>
        <p:nvSpPr>
          <p:cNvPr id="149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5121" descr="我有一个梦想的相关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  <p:sp>
        <p:nvSpPr>
          <p:cNvPr id="82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3553" descr="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23554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23555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23556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23557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5603" descr="0044"/>
          <p:cNvPicPr/>
          <p:nvPr/>
        </p:nvPicPr>
        <p:blipFill>
          <a:blip r:embed="rId1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25604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25605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文本框 25606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25607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25608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文本框 25609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文本框 25610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25611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左大括号 25612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25613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左大括号 25614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25615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25616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25617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25618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6627" descr="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26628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本框 26629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7649" descr="0044"/>
          <p:cNvPicPr/>
          <p:nvPr/>
        </p:nvPicPr>
        <p:blipFill>
          <a:blip r:embed="rId1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27650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文本框 27651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左大括号 27652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文本框 27653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文本框 27654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本框 27655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文本框 27656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文本框 27657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27658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27659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28675" descr="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28676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28677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对象 30721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30722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31745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31746"/>
          <p:cNvSpPr/>
          <p:nvPr/>
        </p:nvSpPr>
        <p:spPr>
          <a:xfrm>
            <a:off x="0" y="3284640"/>
            <a:ext cx="91440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145" descr="我有一个梦想的相关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4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作业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字词带拼音各写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7169" descr="madingludejin0822"/>
          <p:cNvPicPr/>
          <p:nvPr/>
        </p:nvPicPr>
        <p:blipFill>
          <a:blip r:embed="rId1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sp>
        <p:nvSpPr>
          <p:cNvPr id="86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8193" descr="我有一个梦想的相关图片3"/>
          <p:cNvPicPr/>
          <p:nvPr/>
        </p:nvPicPr>
        <p:blipFill>
          <a:blip r:embed="rId1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88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9217" descr="1061692050_QQaiw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0241" descr="20038261508071"/>
          <p:cNvPicPr/>
          <p:nvPr/>
        </p:nvPicPr>
        <p:blipFill>
          <a:blip r:embed="rId1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  <p:sp>
        <p:nvSpPr>
          <p:cNvPr id="92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1265" descr="11853447_2004082800185297368700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2289" descr="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2290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12291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片 12292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  <p:sp>
        <p:nvSpPr>
          <p:cNvPr id="99" name="日期占位符 1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wuhan</cp:lastModifiedBy>
  <dcterms:modified xsi:type="dcterms:W3CDTF">2016-04-19T03:56:02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