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4.jpeg" ContentType="image/jpeg"/>
  <Override PartName="/ppt/media/image27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1BB9-AE58-4C88-8DF7-CE469466B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9C42-477A-4B42-87D7-21B52784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899E4-6694-4AE4-AE09-79140D97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B9F62-CD69-42F6-B632-E63F226E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01C327-1936-4A13-B600-98DDF67E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56D74-E1EB-4BBB-9FBE-0CA8BB2A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D1A60-A00F-40DB-A895-65C0E8AC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13CF8-D6C4-408D-ABB1-AF36A671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31D2D-85E3-47E0-A178-439CC81F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A09D2B-D2A2-400E-9683-339F9E101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9FE18-53EB-4C78-BB2B-5EFEAE4A1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9860EC-A5A4-4A53-9232-C233449D4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7A18-14B2-4C81-B966-A2F13FF65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F97D1C-16B1-4040-AD1B-C0245B9F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0FE08A-5786-4118-ABA4-3A7C5E54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1CA144-77BB-4EE1-BCF6-1DF04E41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5C42A-B4F6-462C-A43F-7A9F7951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345B6A-BB62-4057-9C60-1EACBE8D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CC2192-974D-4C4B-9019-C067B504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AAAA73-05E0-467A-9A6A-DA128196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19DA7-481F-43A8-BA7B-8D555F32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A81070-BEFE-4C43-9770-5B08E17E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44A6E2-2FEF-4903-A7B0-0478BC7E5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2193-FE65-459C-86DC-80CF6F707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4654BD-E61D-4F98-8AC9-26D84049E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D5F54-40ED-4C8D-B316-89EDD6FA3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3FF6C-E20E-4938-880B-6E57B5AB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48AA6-7901-4E53-95E0-C9D3A4CF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6C5E3-E303-42C0-A59D-333FF098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4C10E-35F5-4984-8C24-66E4F1D9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32D93-B7E1-4715-AAD3-EE681657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62C53-665E-47EB-9694-FE277242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6F333-154C-46A2-A62C-DC8A96FC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C9360-6E6F-4CF3-A8F7-F2603242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3C0B-8C0C-4A4D-BEC1-3528D2A8B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A92A6-D441-4D99-9C1F-8145E2A2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B86F7-93D9-4340-B255-991E34488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6090B-11FE-4038-B4C7-A5B5919E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25FF99-5773-47DC-8D38-1D32F645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AF6439-A4E9-4224-8941-6F021520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361BA6-C058-44C2-873B-254DF868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1B2062-B0CD-40CC-8273-A2BA8670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71EE86-BD96-4D08-99E1-BBBA0853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1F2D1-7F78-410F-A309-84A7651C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9DDECD-E2B8-43CE-80AA-FF973C1D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6CCF-F9C7-4972-BBD9-DF574797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059E9-6454-4A22-9C91-6AB84830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2E1A8-FEFA-48E6-8ADC-354275B9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2C50B1-4D6F-4819-94B1-38437836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F5816A-DDC7-49C1-B621-24A933A6B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C882E7-6802-4E18-BD48-653F6830F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B7B587-E94D-43FF-8769-1AE8DBC16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E02D44-30BF-4CD7-838E-63B86D9B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BB6BAC-7071-4D02-9C62-32C6D12A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CA4B9F-EA55-4F2B-BA34-5ED35363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84B351-171F-4126-B057-65BAC7C3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46D8-C468-4472-B146-31E693FA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AAF57D-BC0D-44F7-A6C1-CF415D20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B409A9-9867-499F-8888-728FD613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7AE96B-BD9A-4F38-95B7-C61A4B75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539CBB-3CE4-447D-A259-49BF0F36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FADEBB-77D7-4C8B-8D9F-0A35646D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B74787-F6C5-47D3-BDCC-8E080DFF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B19652-CFD4-41BF-B392-9C5F68AEE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F7E8-080F-484C-9BF7-ACC41CD6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2106-5597-4577-94F2-D0E10017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C7D1-AB00-4C6A-B1C8-66EB9FC5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968D-BCE7-4FE1-9A66-2E74AE9B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6F5B-8B83-4957-A04B-8E312168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D471-8F82-4070-BA19-CF91854F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0AB4-DD9B-49D8-944D-391850CA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0054-C70B-445E-B3F0-F38663B0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F4E1-6866-435D-AF78-45A735C88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B18D-3C9A-4011-92C1-E8B387BFF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65652-8016-4972-B10E-715544970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EED1D-5264-4778-BDED-4C62BBF5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E90F0-A81A-4239-8E40-B6A644BA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2E2A6-17C4-4F2D-9296-C85E18D9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37642-A59C-49A4-97F9-EC320033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57A5-845B-42D0-AB34-ED224DC5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5529C-925D-4F3A-BF3B-78A98311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BC892-C5D9-4EC1-BA05-0946731F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67DF6-5E1D-4AA7-AE83-763EF1A2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B3FD1-F4F5-4D47-8E0B-FAA88900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12C9F-8AA8-473B-B819-23CE1198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BB33C-4E58-4946-A411-5240A5247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D5DAF-4530-4F7D-96FE-DC6338F98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C866E-DF1F-4B95-B737-0925784F1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0C790-E3B9-4CE3-95A0-FE8AAABC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2DC97-B93B-4674-A9BD-C1160585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C71A-5A05-464E-BFA1-D72F7507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E2587-6FCF-4382-AC0B-5961C9F5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58AA6-6BEE-4442-942D-AA440BF5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B6019-35D0-4DD3-A192-1A1394D8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72C8F-F970-4B18-BF70-7B2B5DBF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8BF63-A753-48FF-A12E-7C4A960C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D61BE-A897-4341-9714-849CD188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102DD-FC56-4572-8176-700538FD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299F9-3E4F-4E13-B74A-AF38AE9E9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CEE1D-DB8A-43AE-A674-6BB56554B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E77EF-1C44-422C-BB14-1E579B063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D034-8D30-43DB-A5B2-1F162AA3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BF1C4-4FB9-4CB1-830F-6D2AF10E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FB508-EBE3-4971-802E-519C251F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F05DD-5F15-480D-87B8-A09D2814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6D8D3-8780-47C7-A8CC-B312FE10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FF0CE-B834-4B38-B3D8-029A6A4A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B3E66-9245-4E97-8EC7-6E74E827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A4C61-962F-464A-AD87-603C58DE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CDB4A-7B6A-4DFA-A207-7BC7966B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6C61D-8848-45FF-A825-6D54C102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37EE5-8D5F-4BC4-B6E3-5FC90621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0A8F-6F47-4A91-9F98-C6829BAF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D5F2D-8121-4B6D-AB33-E807653C1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AA34B-6552-4D2D-9388-162A89644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2D063-7FC2-4412-AD11-52CC6D79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28962-0068-4C47-BEA1-0468CFF1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3F028-DC25-4EFE-9311-88EF3778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0D218-3839-4FB3-92AA-308EC962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5300A-8A84-499F-B550-A8261811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0893D-0D42-41E8-BFA6-F7E7CE7F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3FD76-C957-4C53-8077-4275B672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CB103-4123-48F7-914B-64A240A4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223D-D069-40B7-8396-CD2E4CAD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137C9-6F4A-4253-A21E-591873C0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80F37-0E50-4AA8-8001-6FA166421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52171-98F6-47DE-91B0-FFB61F25C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CBD2C-8C85-4027-8F37-31B6EC42A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F4373-5911-49F0-B2EB-0C7895AE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C4CE9-3ECF-4BD9-A59E-A5BE6F84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265DB-EC4D-4BA4-9642-5A19B01F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04F31-C63D-46C5-825B-E17995C7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7B66C-0E21-47FA-BB70-B907FD94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57056-1399-414F-A440-E0492131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66A8-6A60-4BDB-9A3B-BA13CA20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F5367-7530-4DF8-9CD0-78687F65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3C724-8648-48E1-B077-EB2DA124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B3074-20D1-45A0-98FA-A74C3E47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CE0AE-144D-450E-8A5C-036B0EE86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CBE13-FF30-404F-A176-512103528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6B95E-07CA-4E98-AD04-D9C1E6AE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10A5B-27FF-41AC-A5DC-B89AD7C7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6A5F9-CADB-4F32-9FC1-C0099F7C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467D5-5E1B-4AFD-BDE1-8AEAA690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C8ECD-B8A2-4CEF-A687-CC49ED69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6640-A671-4053-BE2B-9F5D4760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9638A-F8B2-4AAD-81A2-8E9AF279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EB42D-4712-4663-8278-FB282114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328CC-AF38-4E61-84FA-0E5E29F7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86F7C-EE20-4773-B364-12B01D1D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15614-6A71-42EC-A188-34D736D9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030B6-AB81-4086-8C11-5CEC3476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E5E42-CB1F-49E1-BE38-F4AF67603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C2EBA-9DC7-4881-BC76-AEF3A8943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534F1-C960-486A-B63C-8D3A992C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DA088-927D-4350-92B0-314C6563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02B1-2CFE-4DDE-B569-663EF3885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53EF-EFD1-4C16-8488-6A7F8685754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1549-40E7-471C-B152-6DFAD3C5135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C15C-0B8E-4427-B4BD-009A875F136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DB6E-22AC-426A-AE76-241D777D338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C39E-2D3D-4EFE-83D6-719533DBAC4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C6B8-D41F-49C0-A64A-03573B1BFEF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C874-3B2D-48BB-BAEF-F21E27E3FAC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9FD2-C016-4FD0-8211-86B837D7E5F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7B0A-DFD3-4EAC-8977-AAC87D259E0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C24B-E742-4F16-B90A-9E9841C1FB1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35F3-A065-44BD-8774-440B1E518AB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783A-5BB0-40E4-80AA-CBA6F730DB6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9.jpe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excel/" TargetMode="External"/><Relationship Id="rId14" Type="http://schemas.openxmlformats.org/officeDocument/2006/relationships/hyperlink" Target="http://www.1ppt.com/ziliao/" TargetMode="External"/><Relationship Id="rId15" Type="http://schemas.openxmlformats.org/officeDocument/2006/relationships/hyperlink" Target="http://www.1ppt.com/kejian/" TargetMode="External"/><Relationship Id="rId16" Type="http://schemas.openxmlformats.org/officeDocument/2006/relationships/hyperlink" Target="http://www.1ppt.com/fanwen/" TargetMode="External"/><Relationship Id="rId17" Type="http://schemas.openxmlformats.org/officeDocument/2006/relationships/hyperlink" Target="http://www.1ppt.com/fanwen/" TargetMode="External"/><Relationship Id="rId18" Type="http://schemas.openxmlformats.org/officeDocument/2006/relationships/hyperlink" Target="http://www.1ppt.com/shiti/" TargetMode="External"/><Relationship Id="rId19" Type="http://schemas.openxmlformats.org/officeDocument/2006/relationships/hyperlink" Target="http://www.1ppt.com/jiaoan/" TargetMode="External"/><Relationship Id="rId20" Type="http://schemas.openxmlformats.org/officeDocument/2006/relationships/image" Target="../media/image25.png"/><Relationship Id="rId21" Type="http://schemas.openxmlformats.org/officeDocument/2006/relationships/image" Target="../media/image26.png"/><Relationship Id="rId22" Type="http://schemas.openxmlformats.org/officeDocument/2006/relationships/image" Target="../media/image27.png"/><Relationship Id="rId2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4" descr="圆圆的月亮056"/>
          <p:cNvPicPr/>
          <p:nvPr/>
        </p:nvPicPr>
        <p:blipFill>
          <a:blip r:embed="rId1"/>
          <a:srcRect l="2891" t="0" r="0" b="0"/>
          <a:stretch/>
        </p:blipFill>
        <p:spPr>
          <a:xfrm>
            <a:off x="1763640" y="0"/>
            <a:ext cx="58644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矩形 5"/>
          <p:cNvSpPr/>
          <p:nvPr/>
        </p:nvSpPr>
        <p:spPr>
          <a:xfrm>
            <a:off x="2268360" y="6308640"/>
            <a:ext cx="30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4" descr="圆圆的月亮065"/>
          <p:cNvPicPr/>
          <p:nvPr/>
        </p:nvPicPr>
        <p:blipFill>
          <a:blip r:embed="rId1"/>
          <a:srcRect l="0" t="926" r="0" b="6845"/>
          <a:stretch/>
        </p:blipFill>
        <p:spPr>
          <a:xfrm>
            <a:off x="1258920" y="0"/>
            <a:ext cx="6458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4" descr="圆圆的月亮066"/>
          <p:cNvPicPr/>
          <p:nvPr/>
        </p:nvPicPr>
        <p:blipFill>
          <a:blip r:embed="rId1"/>
          <a:srcRect l="2159" t="3381" r="0" b="2516"/>
          <a:stretch/>
        </p:blipFill>
        <p:spPr>
          <a:xfrm>
            <a:off x="1403280" y="0"/>
            <a:ext cx="61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4" descr="圆圆的月亮067"/>
          <p:cNvPicPr/>
          <p:nvPr/>
        </p:nvPicPr>
        <p:blipFill>
          <a:blip r:embed="rId1"/>
          <a:srcRect l="0" t="3946" r="0" b="0"/>
          <a:stretch/>
        </p:blipFill>
        <p:spPr>
          <a:xfrm>
            <a:off x="1332000" y="115920"/>
            <a:ext cx="6068880" cy="67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4" descr="圆圆的月亮068"/>
          <p:cNvPicPr/>
          <p:nvPr/>
        </p:nvPicPr>
        <p:blipFill>
          <a:blip r:embed="rId1"/>
          <a:srcRect l="3252" t="1875" r="0" b="4947"/>
          <a:stretch/>
        </p:blipFill>
        <p:spPr>
          <a:xfrm>
            <a:off x="1627200" y="0"/>
            <a:ext cx="618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4" descr="圆圆的月亮069"/>
          <p:cNvPicPr/>
          <p:nvPr/>
        </p:nvPicPr>
        <p:blipFill>
          <a:blip r:embed="rId1"/>
          <a:srcRect l="0" t="0" r="0" b="4970"/>
          <a:stretch/>
        </p:blipFill>
        <p:spPr>
          <a:xfrm>
            <a:off x="1403280" y="0"/>
            <a:ext cx="626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4" descr="圆圆的月亮070"/>
          <p:cNvPicPr/>
          <p:nvPr/>
        </p:nvPicPr>
        <p:blipFill>
          <a:blip r:embed="rId1"/>
          <a:srcRect l="3252" t="3381" r="0" b="8762"/>
          <a:stretch/>
        </p:blipFill>
        <p:spPr>
          <a:xfrm>
            <a:off x="1476360" y="93600"/>
            <a:ext cx="6469200" cy="67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4" descr="圆圆的月亮071"/>
          <p:cNvPicPr/>
          <p:nvPr/>
        </p:nvPicPr>
        <p:blipFill>
          <a:blip r:embed="rId1"/>
          <a:srcRect l="2159" t="926" r="2083" b="5896"/>
          <a:stretch/>
        </p:blipFill>
        <p:spPr>
          <a:xfrm>
            <a:off x="1258920" y="0"/>
            <a:ext cx="612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4" descr="圆圆的月亮072"/>
          <p:cNvPicPr/>
          <p:nvPr/>
        </p:nvPicPr>
        <p:blipFill>
          <a:blip r:embed="rId1"/>
          <a:srcRect l="3230" t="2805" r="0" b="8126"/>
          <a:stretch/>
        </p:blipFill>
        <p:spPr>
          <a:xfrm>
            <a:off x="1403280" y="0"/>
            <a:ext cx="647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4" descr="圆圆的月亮073"/>
          <p:cNvPicPr/>
          <p:nvPr/>
        </p:nvPicPr>
        <p:blipFill>
          <a:blip r:embed="rId1"/>
          <a:srcRect l="0" t="0" r="1992" b="2754"/>
          <a:stretch/>
        </p:blipFill>
        <p:spPr>
          <a:xfrm>
            <a:off x="2048040" y="0"/>
            <a:ext cx="6002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矩形 5"/>
          <p:cNvSpPr/>
          <p:nvPr/>
        </p:nvSpPr>
        <p:spPr>
          <a:xfrm>
            <a:off x="3203640" y="3357720"/>
            <a:ext cx="64764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4" descr="圆圆的月亮074"/>
          <p:cNvPicPr/>
          <p:nvPr/>
        </p:nvPicPr>
        <p:blipFill>
          <a:blip r:embed="rId16"/>
          <a:srcRect l="3230" t="2805" r="0" b="8126"/>
          <a:stretch/>
        </p:blipFill>
        <p:spPr>
          <a:xfrm>
            <a:off x="1403280" y="0"/>
            <a:ext cx="647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4" descr="圆圆的月亮057"/>
          <p:cNvPicPr/>
          <p:nvPr/>
        </p:nvPicPr>
        <p:blipFill>
          <a:blip r:embed="rId1"/>
          <a:srcRect l="2918" t="1262" r="0" b="6794"/>
          <a:stretch/>
        </p:blipFill>
        <p:spPr>
          <a:xfrm>
            <a:off x="1476360" y="0"/>
            <a:ext cx="628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4" descr="圆圆的月亮075"/>
          <p:cNvPicPr/>
          <p:nvPr/>
        </p:nvPicPr>
        <p:blipFill>
          <a:blip r:embed="rId1"/>
          <a:srcRect l="0" t="0" r="1190" b="4970"/>
          <a:stretch/>
        </p:blipFill>
        <p:spPr>
          <a:xfrm>
            <a:off x="133200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4" descr="圆圆的月亮076"/>
          <p:cNvPicPr/>
          <p:nvPr/>
        </p:nvPicPr>
        <p:blipFill>
          <a:blip r:embed="rId1"/>
          <a:srcRect l="4323" t="2805" r="0" b="8126"/>
          <a:stretch/>
        </p:blipFill>
        <p:spPr>
          <a:xfrm>
            <a:off x="1547640" y="27000"/>
            <a:ext cx="639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4" descr="圆圆的月亮077"/>
          <p:cNvPicPr/>
          <p:nvPr/>
        </p:nvPicPr>
        <p:blipFill>
          <a:blip r:embed="rId1"/>
          <a:srcRect l="1093" t="0" r="904" b="10927"/>
          <a:stretch/>
        </p:blipFill>
        <p:spPr>
          <a:xfrm>
            <a:off x="1332000" y="0"/>
            <a:ext cx="655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4" descr="圆圆的月亮078"/>
          <p:cNvPicPr/>
          <p:nvPr/>
        </p:nvPicPr>
        <p:blipFill>
          <a:blip r:embed="rId1"/>
          <a:srcRect l="3230" t="2805" r="926" b="8126"/>
          <a:stretch/>
        </p:blipFill>
        <p:spPr>
          <a:xfrm>
            <a:off x="1476360" y="0"/>
            <a:ext cx="640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4" descr="圆圆的月亮079"/>
          <p:cNvPicPr/>
          <p:nvPr/>
        </p:nvPicPr>
        <p:blipFill>
          <a:blip r:embed="rId1"/>
          <a:srcRect l="0" t="0" r="0" b="10927"/>
          <a:stretch/>
        </p:blipFill>
        <p:spPr>
          <a:xfrm>
            <a:off x="1042920" y="0"/>
            <a:ext cx="668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矩形 4"/>
          <p:cNvSpPr/>
          <p:nvPr/>
        </p:nvSpPr>
        <p:spPr>
          <a:xfrm>
            <a:off x="1573200" y="4329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word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excel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zil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keji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om/fanwen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7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8"/>
              </a:rPr>
              <a:t>www.1ppt.com/shit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9"/>
              </a:rPr>
              <a:t>www.1ppt.com/jiao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7"/>
          <p:cNvSpPr/>
          <p:nvPr/>
        </p:nvSpPr>
        <p:spPr>
          <a:xfrm>
            <a:off x="0" y="2709720"/>
            <a:ext cx="9144000" cy="1366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9" descr=""/>
          <p:cNvPicPr/>
          <p:nvPr/>
        </p:nvPicPr>
        <p:blipFill>
          <a:blip r:embed="rId20"/>
          <a:stretch/>
        </p:blipFill>
        <p:spPr>
          <a:xfrm>
            <a:off x="1652760" y="349200"/>
            <a:ext cx="5581440" cy="194328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3"/>
          <p:cNvSpPr/>
          <p:nvPr/>
        </p:nvSpPr>
        <p:spPr>
          <a:xfrm>
            <a:off x="468360" y="2809800"/>
            <a:ext cx="41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4"/>
          <p:cNvSpPr/>
          <p:nvPr/>
        </p:nvSpPr>
        <p:spPr>
          <a:xfrm>
            <a:off x="4572000" y="280980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10" descr="png-0644"/>
          <p:cNvPicPr/>
          <p:nvPr/>
        </p:nvPicPr>
        <p:blipFill>
          <a:blip r:embed="rId21"/>
          <a:stretch/>
        </p:blipFill>
        <p:spPr>
          <a:xfrm>
            <a:off x="2916360" y="28098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11" descr="png-0652"/>
          <p:cNvPicPr/>
          <p:nvPr/>
        </p:nvPicPr>
        <p:blipFill>
          <a:blip r:embed="rId22"/>
          <a:stretch/>
        </p:blipFill>
        <p:spPr>
          <a:xfrm>
            <a:off x="7234200" y="280980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4" descr="圆圆的月亮058"/>
          <p:cNvPicPr/>
          <p:nvPr/>
        </p:nvPicPr>
        <p:blipFill>
          <a:blip r:embed="rId1"/>
          <a:srcRect l="3252" t="3381" r="1992" b="5896"/>
          <a:stretch/>
        </p:blipFill>
        <p:spPr>
          <a:xfrm>
            <a:off x="1476360" y="0"/>
            <a:ext cx="621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4" descr="圆圆的月亮059"/>
          <p:cNvPicPr/>
          <p:nvPr/>
        </p:nvPicPr>
        <p:blipFill>
          <a:blip r:embed="rId1"/>
          <a:srcRect l="3650" t="2754" r="0" b="5901"/>
          <a:stretch/>
        </p:blipFill>
        <p:spPr>
          <a:xfrm>
            <a:off x="1476360" y="0"/>
            <a:ext cx="628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4" descr="圆圆的月亮060"/>
          <p:cNvPicPr/>
          <p:nvPr/>
        </p:nvPicPr>
        <p:blipFill>
          <a:blip r:embed="rId1"/>
          <a:srcRect l="3252" t="2455" r="0" b="10927"/>
          <a:stretch/>
        </p:blipFill>
        <p:spPr>
          <a:xfrm>
            <a:off x="1476360" y="115920"/>
            <a:ext cx="64692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4" descr="圆圆的月亮061"/>
          <p:cNvPicPr/>
          <p:nvPr/>
        </p:nvPicPr>
        <p:blipFill>
          <a:blip r:embed="rId1"/>
          <a:srcRect l="0" t="0" r="1227" b="5821"/>
          <a:stretch/>
        </p:blipFill>
        <p:spPr>
          <a:xfrm>
            <a:off x="1476360" y="0"/>
            <a:ext cx="624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4" descr="圆圆的月亮062"/>
          <p:cNvPicPr/>
          <p:nvPr/>
        </p:nvPicPr>
        <p:blipFill>
          <a:blip r:embed="rId1"/>
          <a:srcRect l="3230" t="3381" r="926" b="7547"/>
          <a:stretch/>
        </p:blipFill>
        <p:spPr>
          <a:xfrm>
            <a:off x="1619280" y="0"/>
            <a:ext cx="640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4" descr="圆圆的月亮063"/>
          <p:cNvPicPr/>
          <p:nvPr/>
        </p:nvPicPr>
        <p:blipFill>
          <a:blip r:embed="rId1"/>
          <a:srcRect l="0" t="0" r="1394" b="7771"/>
          <a:stretch/>
        </p:blipFill>
        <p:spPr>
          <a:xfrm>
            <a:off x="1403280" y="0"/>
            <a:ext cx="636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4" descr="圆圆的月亮064"/>
          <p:cNvPicPr/>
          <p:nvPr/>
        </p:nvPicPr>
        <p:blipFill>
          <a:blip r:embed="rId1"/>
          <a:srcRect l="3230" t="2805" r="2019" b="8126"/>
          <a:stretch/>
        </p:blipFill>
        <p:spPr>
          <a:xfrm>
            <a:off x="1332000" y="0"/>
            <a:ext cx="633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12:33:28Z</dcterms:created>
  <dc:creator>新教育</dc:creator>
  <dc:description/>
  <dc:language>en-US</dc:language>
  <cp:lastModifiedBy>wuhan</cp:lastModifiedBy>
  <dcterms:modified xsi:type="dcterms:W3CDTF">2016-05-24T00:47:48Z</dcterms:modified>
  <cp:revision>1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