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4732-8F73-4E7B-8D59-D6DDC43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83412-9FFA-4C8D-B000-9DA61F6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7A7D3-32A9-444B-8102-8D87CF5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34C87-A383-4DBD-8CB5-137722F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6FAD7-B41E-4E5A-A560-0ACCD07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335E-8A67-4331-93D4-0CD0008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3A49-2132-41B5-9DA9-81D62DD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6D83E-EF0C-4FBD-B103-25C3927A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5EF6-C335-40DE-B47F-67EA8CB2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A759-B612-4565-8376-4A200669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C31FE-88C2-4281-A8B7-4DC69C8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52EEA-5F06-4C12-8940-8AB13F59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5E7D-69E3-44FE-A9D6-8720DAD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6AD0-8B50-46E4-A2DE-1F8E493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93164-99B5-4DB2-81CA-734531F0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91CC-CEB9-4448-8F13-0AACC0A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DC25-BF1A-4E18-B018-7BF829A9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5BB9B-9D1E-4516-94EA-4B77D1F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84000-4B21-4414-B8C8-BA13B47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F7C38-8D00-4CC9-984A-E3A6C725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EFA54-A738-4D98-9090-5C622D8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C8A66-4A7F-4FCB-8F31-D121C149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DCCFC-478B-44A3-9565-BB4315C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B482D-57E5-496D-A302-4D9522E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14E1-EBDA-42C8-B7BE-38A8346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B3710-72C7-456B-A547-8998598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2E643-6154-48A8-A06C-6FA2F612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A36F1-1ADE-4E38-B05F-F474F49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49877-B52C-47C9-A971-238561F6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DBECE-FE8C-493F-9B1B-F29454D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93A-0C30-4EDC-93CA-A7C198BF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ECE8B-D12D-4048-B53B-1272E9C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679F0-6601-4B51-A66F-61998B2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D465C-3563-4205-BEC4-81336AC3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C56A7-030F-44D5-AD70-F4167C69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F9D4B-0931-4E9D-B696-81F0824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A210E-E577-4A34-AE71-37BEC74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390C1-BA3C-469B-976B-E03B6FD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619AB-BB90-4F23-9675-3FD66DAD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6D282-4A6C-4DD7-94A5-31DCABD4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EF618-2641-4C30-BC15-80C3930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1FE-EDB7-45DB-84CC-A0B719A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92A73-D0DF-4F05-AEBA-A79B6A6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D932B-EEE9-4866-8CE7-C9FB793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DB4C-2E19-4399-9F89-F66EE2E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99AB5-84C3-4338-8316-A8928C70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43DC-D50A-4D9B-BF1E-4FF3AC93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161D-4E75-4850-9EF5-F24C5BE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F0CAF-441C-4F43-B10C-C1166BDF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F573-E4C4-415D-A2D3-5E9871E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AF5C8-F133-4A2E-9975-E535358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B8F93-FF8F-418D-8850-CD915F7D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C9C-2A1F-4ADE-A4B6-E73FBFEB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AD202-EECC-48AA-BC3B-DE60C769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8EBE8-F492-4306-A28D-5BB37D48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7E28-9785-42F4-9429-887DC5B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E760-E5D7-4519-8D27-E552B22B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DCC9-14C8-4C77-B583-38C8F145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D6EA4-041F-4BD7-8BCD-C3C13EA8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22C6C-48E4-4E0E-8E0D-B5CAA35A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4E0-EC54-4C3C-BC06-22FF925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E7D-6740-4EC8-BA2D-8E400676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C58-790F-401D-A89F-3E01E6B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82E-F2E5-4585-9DA4-1195CA6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217-7388-41E0-85D3-38E8388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660-4890-496E-B238-33289CF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823-9933-44F8-AB9D-FF1B96CD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104-0DA9-4DAE-9AF2-6799028F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73F-4536-43DC-9BC4-2A03F127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BEF-ADE0-4F46-AECB-560AE765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C3EB-17E8-4612-B7AE-AA75ABF2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708B-248B-4C49-9F33-D0FD3B9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C8C-EF75-4F73-9E93-2C6B4F1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EE5-8520-4647-A357-DE520F8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F04-C47C-494D-AD46-60D5B23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CFA-FD08-4AE1-92DA-519D5EFE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978C-650A-4745-A4B1-CF4084A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D0B-C4B0-417C-A9CE-D506F0B7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74D-9762-4E06-8C98-29E61C6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ED6A-38ED-4A65-8788-31AECF42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A91-7EFC-496C-9FD1-4CA604BC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9554-D72C-4782-ACE1-DC899257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F0B8-5C76-4C42-88FA-8B9E871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634C-CD51-47FA-947E-20DC8B0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3185-388A-4E8D-A499-CCCD4CB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79E0-CB81-4BC8-ABAC-129F333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F1FD-6446-4E9A-AB97-B505BD61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CEEAE-A9CD-4DAE-9D9C-E0A942D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94C5-A78C-4AFA-BF7E-E99A589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C6CE-2DF5-4E18-8DF8-552CB27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FBE6-4348-4FAC-A871-0C2CE06B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58C0-79BF-4A00-9A67-6E904DF4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5599-FACE-4677-BFA2-89299245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1B76-D8FC-40FE-8643-00CC3F24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BD34-7F6C-4EF1-8937-6474732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76D3-1112-4211-AA34-31D099F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0563-49BA-4D09-A14B-CB4BE6C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04EB-27A3-4B1F-BC54-B08025F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98CB-65B5-44B9-9221-D3D8FF1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B957-2149-48FF-B82F-FBAFF34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EC0F-869E-40F5-876B-8A0D7C2C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6295-3645-4ACB-B1C5-1053990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6B41-EB3E-49C0-A378-078891B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D5D3-9DCB-4EBD-9A0D-C9FD8419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BFF6-AB30-428C-9307-730EA3BA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1C1F-19B2-46E4-A8B7-31321D06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3308-B51F-4230-A6B5-066B08E9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4E4E-0644-4FA4-873A-44B6244D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0EF7-00C2-40A6-84BD-8541C5D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56D0-3F18-4B14-8FEB-2244D90D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8E4E8-8389-4511-9DC0-7A377E21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0B0DC-4F3F-4694-BFF6-465170F0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F607-998D-4E7E-84B3-E3849025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F2F3-907E-4F82-AF98-1002A39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E21EC-C0A3-4C51-B76C-0A8E662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37FB-6D20-455B-96DD-D172863D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486C-3132-463A-B0E6-A7030805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3EF3-195B-41B0-833B-7C67AEF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EC65-D834-4D8D-82DF-1BDEA7D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8BDE-768B-4EFD-9386-AED8E08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DA17-D70A-4DBB-B0DE-EA7E63D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540E7-1693-40C7-8BEC-A7F6A65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C8AE-06AE-459F-94C9-595DF50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7A7E-91BE-4A78-AA9A-2D5464C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83A1-C6EE-471D-AECA-4DDA277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960E-9881-4A90-A04A-F5A4A15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8B78-714B-483E-AD5D-65683D8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CAA7-F527-4AAE-9D6D-25A69EBB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08219-1C94-45A4-8681-745D14D7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E306-ACEC-4D71-9BF3-951A9F0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E047-1ED1-4877-A4AC-74FDB2E3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F7533-5C04-4BF8-BD3B-CC4E166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C117F-8184-42BD-8DF2-161062C1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2086A-15B3-4E1C-9B1A-2BCBAAA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79429-30D0-4412-B65D-6D47B4B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603F-E17B-4971-A960-8B7D051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F4A52-C38C-4EF2-9B05-2C0ECF7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AFC51-4400-43D3-9B35-8340967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8ECD-7432-4E8C-A261-66A749FC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3C33-DBC1-48F8-8C1A-7C05170C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2461-68DF-4F26-90D0-79CC7DFF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E7C5C-FD75-4F12-8C3C-802E5EC3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A611-D8CF-4826-AF1F-8B9EC87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3DA3-40E4-4FB2-AC71-EF4BC32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CA8-1BE2-45A1-9F1B-8B67376EF6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A5A-2E00-4C52-ACDE-E84711D783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515-3C1D-4E7A-A6B7-C0249FCEFB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3C0C-5F25-49F9-8C46-30D2658A7F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86E-AD63-4072-9626-F1FCA620308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BFE-EE6D-4705-842A-94D8079FDD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4645-FFBD-464C-8E84-C2CFDDE484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168-CA4A-4A72-9748-38E3692044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D7E7-2942-47A2-9B8D-007C1E0676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241C-7F8A-436F-95CF-460D3A6494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391-78D5-437F-BC02-9C05E187EB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461F-74B5-4CC4-A0BE-80CE2061A4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矩形 5"/>
          <p:cNvSpPr/>
          <p:nvPr/>
        </p:nvSpPr>
        <p:spPr>
          <a:xfrm>
            <a:off x="2514600" y="59436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6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00:55:01Z</dcterms:created>
  <dc:creator/>
  <dc:description/>
  <dc:language>en-US</dc:language>
  <cp:lastModifiedBy>wuhan</cp:lastModifiedBy>
  <dcterms:modified xsi:type="dcterms:W3CDTF">2016-05-26T00:55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