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64D-48BC-46C0-AB59-204E468D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CA5-7C0B-4FDA-9129-689DAF16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6D38F-E32D-44B9-8C85-5609C5C4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AF25B-2AA4-4690-AC62-D0A01783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1898B-5B25-4BE6-9E22-991245FE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43C06-B9B2-42EE-9CB6-86701A0D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CFBCC-FA2A-4FC1-AB5D-6C6D9B6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DB1BD-C358-4E18-A994-F19D2F0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1CB55-CE63-4088-AC61-84F7109B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F6813-82BA-4222-8A34-566F8ACC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CDFFA-80F8-440C-A805-759E9104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1274B-EB78-4BBF-B3D0-F81CF42B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1D3-480E-44D8-80F6-FD4FCF9E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76040-F823-4213-8B55-623C0606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1DC31-D11F-4CE7-A658-4E9B6308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4B393-40ED-4022-A618-8EBB2D2E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11293-8F16-44E5-B5BB-93C555A9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CF2F0-9764-4209-A660-7673092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6052C-BD4A-4557-9107-AB3B8D7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DC531-DBF7-4D6A-AB9C-94C745B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59D32-8F6D-438E-A276-F7EC679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90691-2898-4108-9199-CCD86797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89A53-B26B-466E-9C72-175F76AC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5E7-BB86-4066-9EFA-3E5E69A1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94111-CA95-4D21-BA10-F2E292D0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0DBA9-B237-44B2-B57B-174C871C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D3BAC-F7F3-4547-96A1-99CDC087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893C2-A9BC-4386-A99C-5A1D6474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70904-E185-4BFC-84C6-8AFF3165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D1B0D-E859-4F13-B098-F6B8F590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076FE-9BB8-432C-A095-43EE4162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A9DBD-7FDC-4D2F-AFC9-D22413B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F4210-BBC4-401D-B219-00F069A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FFF6C-6DF0-4849-A303-6453D5A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4659-32DD-4377-B56E-CB653431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FD102-8BFA-49A7-967C-8DBA82AC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C8433-0B38-40EA-B991-48410367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30C28-31F7-45CD-88BD-4CEA8B49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A5AB6-396C-4156-A9C2-F0CE9092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D35AD-0848-4924-A58B-FB89B9A6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AA16F-56A9-48A5-ACE2-2F42080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982B0-7CC4-4CF8-9409-C5F7E18F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EB31A-84CD-48E2-B4FC-9AF59D3F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6C452-A1A5-4906-82F5-2FB53DC3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A9B61-3BB1-4D1D-8885-38977D5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6086-6A14-4C6E-A43F-DCDF6C34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26A6A-4D3B-4B0F-99C7-8410DEC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B1DE1-8946-4A8D-B3D5-B5FF5D5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5E960-0070-4B66-B318-93325216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08D53-522B-4FAD-882C-944B1736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D5A4C-D1F9-4EAC-B408-9A34C386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77BEF-D234-41DA-B4FE-90F5208C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17D3A-9332-4200-ADA5-7B3E1B8F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25030-8CBA-493C-9C3A-26B7246E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A39E0-EEB2-426F-9479-15E376DE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F9FC2-8118-4FDE-8A10-222E64B5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E77D-9321-4E44-AAE4-915E1C98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CA185-C94E-4FA7-92E1-DF79BD0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24F96-00AF-4409-A058-D26BB61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DEA44-041D-488F-809F-FB74EA76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BE9EC-0244-4845-B286-8824B2F2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B87D8-AEA2-4F00-8133-9DFEC897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3A7DC-4748-474C-BD23-5F525CD8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789E2-767B-4F1E-89FD-EDD37179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05D8-7B42-4752-89E7-696E5F09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6EA3-3E19-4614-947F-49E823B5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A541-F280-4945-846D-D0F2DDE2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F4D8-9617-4871-85BE-FE7BC83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871-6144-4010-B1CC-10E3DCF7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8E74-6888-4EE9-A6D1-E646CF5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D3E3-2DF2-478E-8AEC-F6E6613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11C3-0A26-4D88-8F32-2903F5A4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A651-7F96-474F-A713-409055C3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6B95-5E90-4A7B-96EB-D9F889AE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21DC-3596-4EB7-9BF1-DC7A00D4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408E-A3D5-4010-AE67-3F8B25DD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ED64-F3BA-4045-A83E-657366B4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CD4E-1FE1-4E63-9AE9-364C1B88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1886-9E2E-4671-B515-D28E1F49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4E3-AC51-4930-8AFE-78E3CDC7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5CF3E-8CC4-4E77-BC74-72115FA6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BB81-49E4-476B-BB95-0D96DBAA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4748-84B4-4B66-8180-BB79504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6895-A79E-44E1-92C1-0C980362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E20E-C515-435A-A0E8-78A45B5A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E217-DEFC-46AC-8A2B-CC02BDE5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09990-A98A-4FC1-B268-9FDBF4AB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C0B1-4347-4337-83C3-6CF9328C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55C6-F47F-4F16-8D83-0D5C9567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8F0B-E242-4C54-B874-192962A3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F58-AE51-4A51-87AD-47043228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636E-4210-4FE5-9E6F-F89277EE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F6384-1020-4326-884C-CC344902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66A1-EA42-412F-9799-526D2786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A513-A068-475A-BDCA-7A6F0667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4C4C-EF76-4BB7-BC72-4686FD8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781A-45F9-4C0F-A7B3-CD6E6ABB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BBE0-004A-4530-B3F1-5BA680A5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DF49-EDBC-43BD-BDA1-FC4AB002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8EE3-8DB7-4B24-AD58-EB5A55BB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DCD31-930A-4976-B226-D126C2E6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298-B5A5-44E4-AACB-8F976F7E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823E-18F8-4B66-8923-27B69921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7AD4E-2461-4FB7-818C-9523BF40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A650E-4B28-4D06-84A6-4F6B7015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FC71-84F2-4C6C-AAD8-FCA1DC42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02FE-9B0F-4A37-8AB9-B61A3991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24B2-9BFC-4D08-A97F-9C244171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46A9-AE80-4CE3-9B4F-2EA48FE0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57255-B93E-42E7-BCDD-5FA8B52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6036-E9C1-4531-A6E6-0E3AC373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3AE72-F189-400B-8503-F5AB2AF5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E37-75CF-49EE-957F-E4F01E69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29FA-E65F-4D11-AB54-3164396D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816FD-9BB1-4D6A-8259-60C1B05C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EB426-E4FF-4A23-95EA-70CB4CA1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8E7B1-CDE4-4694-9D8D-857D6D1D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1E3E8-0F2A-4519-BFF1-FC55577A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A3D5-B10F-4BC8-A4E8-39DC03D0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8229-5F8B-4DF0-830B-F666BD00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CF1FD-4F5A-4ABA-B515-54E85806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671E-4BFF-4C24-8880-B2F8AF5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C52BB-2981-441F-A4F4-78EA4AAC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761-A0A9-4FAA-9E0D-22B09BB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D7C80-9DCF-4603-9C70-DC34CD66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F786-1850-424D-B38D-41A67601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694A2-4C3B-4AF4-AD56-15D96309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40770-4D59-46E5-978E-59BD436C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5887E-E52D-4E22-B477-45B8A152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F6E35-E142-4CFA-AD63-CA4F27A9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CF298-EF05-4E01-8249-2D12B758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A02BC-A967-4768-82B3-909B4DE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EE6BB-0E2E-437E-BCAF-46874A23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0DD37-A2C5-4D37-8941-EBB557EA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B32-C642-4C5B-8240-3A72947E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7CDA4-146A-4AC3-86E2-CA3C25EB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018E1-A98F-4430-B2D4-651808C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6524E-1DBB-4E64-BAC2-DF0EA78F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9A142-BB32-4CC0-BD9A-7F1460F3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9D06-479B-4F97-9B57-AD91AA16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0A29B-CFD9-475B-8825-390E4D06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D5515-4134-42C5-B324-365D5967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676E3-88DB-4638-B7C6-C058624A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E8B6-E493-4F15-A56C-73051E9E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349C6-53C1-4BDE-80FD-465663CE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0A4-C26A-43EE-8AEF-CA7F4C3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09C6A-7CD4-4878-BD7F-5503E8A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FC878-0078-4AD4-92F4-230F634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E373C-82CA-45A6-AB07-9BB76BD2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18CE7-FDDB-466F-8625-B81529DB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E90C1-DF86-4C36-88E8-3F8F16A4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DC641-95C0-4D89-A03F-33FBAD9D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AEA19-1E68-4158-B999-DB0E2172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F6CB8-4997-4E99-B9BA-983E2346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9CB79-B621-402E-89A5-2A3CADCF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FDEC3-1D36-45D6-AA24-0D15A0C2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EBB4-25A0-40DF-9533-3FD798DE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223C-A96B-4087-B624-83A2859B02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FCA-7422-4141-AC99-DE5273AF38B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FC44-C9CE-4CD7-B8F7-C9A9CF0F4C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E052-1592-44EC-B01A-40A2225B3A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FF3-FD2A-4423-9FC5-AB137409E7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A80A-2466-4907-B530-A93C467FE7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3080-8DB0-4E68-8DE3-2884DF3AFA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6967-6D78-4587-9491-9E3393A60B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E430-8F6A-4066-B512-0E23B999C8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7504-FEF1-4785-9BB4-F01EF14C7A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DB0-F213-400B-9E1C-B45B1FA3AA0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6F18-03A7-4E10-9820-5AF891A3ED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8" descr="200882116484157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矩形 7"/>
          <p:cNvSpPr/>
          <p:nvPr/>
        </p:nvSpPr>
        <p:spPr>
          <a:xfrm>
            <a:off x="6083280" y="623736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7"/>
          <p:cNvSpPr/>
          <p:nvPr/>
        </p:nvSpPr>
        <p:spPr>
          <a:xfrm>
            <a:off x="0" y="907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20088211654124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200882116555186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200882116560535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4" descr="200882116563184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2008821165649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200882116571374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20088211658015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200882116581811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200882116583988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200882116585735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200882116490758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200882116591454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200882116594755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20088211700023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20088211700247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200882117004484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20088211701316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200882117014583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4" descr="20088211702037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200882116493357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20088211649577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200882116501463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20088211652365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200882116525334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200882116532816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200882116535122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46:37Z</dcterms:created>
  <dc:creator>微软用户</dc:creator>
  <dc:description/>
  <dc:language>en-US</dc:language>
  <cp:lastModifiedBy>wuhan</cp:lastModifiedBy>
  <dcterms:modified xsi:type="dcterms:W3CDTF">2016-05-26T00:44:1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