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drumroll.wav" ContentType="audio/x-wav"/>
  <Override PartName="/ppt/media/image15.png" ContentType="image/png"/>
  <Override PartName="/ppt/media/image5.gif" ContentType="image/gif"/>
  <Override PartName="/ppt/media/image14.jpeg" ContentType="image/jpe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3.jpeg" ContentType="image/jpeg"/>
  <Override PartName="/ppt/media/image20.gif" ContentType="image/gif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692-AFF6-431D-9245-4424EAC8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6A2-0F61-4D01-8450-D23813F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EE1-A163-47F1-83F6-117EFAB9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C95-109F-4199-8E4B-BE628CF5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BBB-EA0E-436F-843C-B0D772A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9E2-4D4B-433A-90EE-03E11DC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544-B979-40BC-B599-1915381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4DE-551C-4764-9758-B6D0A52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819-BC9B-4346-8A55-26D459CD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5CA-B4DA-46F8-A771-F79355B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E23-1A39-463C-96EA-0D22136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1C8-5488-42D8-AE36-0EF0ADF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8E7-316C-458F-B561-7FD330A7A7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baoku.com/gif/101/imagepage/image20.htm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60000"/>
          </a:blip>
          <a:srcRect l="3335" t="12669" r="3335" b="73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057400" y="1773360"/>
            <a:ext cx="48196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小蝌蚪找妈妈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8081321515936"/>
          <p:cNvPicPr/>
          <p:nvPr/>
        </p:nvPicPr>
        <p:blipFill>
          <a:blip r:embed="rId1"/>
          <a:stretch/>
        </p:blipFill>
        <p:spPr>
          <a:xfrm>
            <a:off x="-1116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572000" y="58104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长出两条后腿。他们看见鲤鱼妈妈在教小鲤鱼捕食，就迎上去，问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鲤鱼阿姨，我们的妈妈在哪里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鲤鱼妈妈说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你们的妈妈四条腿，宽嘴巴。你们到那边去找吧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ic_252914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540400" y="1069920"/>
            <a:ext cx="3352680" cy="28494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鲤鱼阿姨，我们的妈妈在哪里？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"/>
              </a:rPr>
              <a:t>你们的妈妈四条腿，宽嘴巴。你们到那边去找吧！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008081321515936"/>
          <p:cNvPicPr/>
          <p:nvPr/>
        </p:nvPicPr>
        <p:blipFill>
          <a:blip r:embed="rId1"/>
          <a:stretch/>
        </p:blipFill>
        <p:spPr>
          <a:xfrm>
            <a:off x="-1116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572000" y="581040"/>
            <a:ext cx="44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长出两条后腿。他们看见鲤鱼妈妈在教小鲤鱼捕食，就迎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鲤鱼妈妈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你们的妈妈四条腿，宽嘴巴。你们到那边去找吧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8081321515928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572000" y="189000"/>
            <a:ext cx="4429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长出两条前腿。他们看见一只乌龟摆动着四条腿在水里游，连忙追上去，叫着：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妈妈，妈妈！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乌龟笑着说：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我不是你们的妈妈。你们的妈妈头顶上有两只大眼睛，披着绿衣裳。你们到那边去找吧！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pic_252915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16000" y="925560"/>
            <a:ext cx="414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楷体"/>
              </a:rPr>
              <a:t>妈妈，妈妈！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"/>
              </a:rPr>
              <a:t>我不是你们的妈妈。你们的妈妈头顶上有两只大眼睛，披着绿衣裳。你们到那边去找吧！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8081321515928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0" y="189000"/>
            <a:ext cx="4429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长出两条前腿。他们看见一只乌龟摆动着四条腿在水里游，连忙追上去，叫着</a:t>
            </a:r>
            <a:r>
              <a:rPr b="1" lang="zh-CN" sz="3500" spc="-1" strike="noStrike">
                <a:solidFill>
                  <a:srgbClr val="ff0000"/>
                </a:solidFill>
                <a:latin typeface="Arial"/>
                <a:ea typeface="楷体"/>
              </a:rPr>
              <a:t>：</a:t>
            </a: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500" spc="-1" strike="noStrike">
                <a:solidFill>
                  <a:srgbClr val="ff0000"/>
                </a:solidFill>
                <a:latin typeface="Arial"/>
                <a:ea typeface="楷体"/>
              </a:rPr>
              <a:t>妈妈，妈妈！</a:t>
            </a:r>
            <a:r>
              <a:rPr b="1" lang="zh-CN" sz="35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"/>
              </a:rPr>
              <a:t>乌龟笑着说</a:t>
            </a:r>
            <a:r>
              <a:rPr b="1" lang="zh-CN" sz="3500" spc="-1" strike="noStrike">
                <a:solidFill>
                  <a:srgbClr val="0000ff"/>
                </a:solidFill>
                <a:latin typeface="Arial"/>
                <a:ea typeface="楷体"/>
              </a:rPr>
              <a:t>：</a:t>
            </a: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500" spc="-1" strike="noStrike">
                <a:solidFill>
                  <a:srgbClr val="0000ff"/>
                </a:solidFill>
                <a:latin typeface="Arial"/>
                <a:ea typeface="楷体"/>
              </a:rPr>
              <a:t>我不是你们的妈妈。你们的妈妈头顶上有两只大眼睛，披着绿衣裳。你们到那边去找吧！</a:t>
            </a:r>
            <a:r>
              <a:rPr b="1" lang="zh-CN" sz="35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20000" y="907560"/>
            <a:ext cx="1728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948360" y="2133360"/>
            <a:ext cx="1727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alibri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77080" y="2421000"/>
            <a:ext cx="2519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932360" y="76500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尾巴变短了。他们游到荷花旁边，看见荷叶上蹲着一只大青蛙，披着碧绿的衣裳，露着雪白的肚皮，鼓着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ic_25291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144360" y="404640"/>
            <a:ext cx="939636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ic_252916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4800600" y="1295280"/>
            <a:ext cx="3962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荷叶上</a:t>
            </a:r>
            <a:r>
              <a:rPr b="1" lang="zh-CN" sz="5400" spc="-1" strike="noStrike">
                <a:solidFill>
                  <a:srgbClr val="ff3300"/>
                </a:solidFill>
                <a:latin typeface="Calibri"/>
                <a:ea typeface="楷体"/>
              </a:rPr>
              <a:t>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着一只大青蛙，</a:t>
            </a:r>
            <a:r>
              <a:rPr b="1" lang="zh-CN" sz="5400" spc="-1" strike="noStrike">
                <a:solidFill>
                  <a:srgbClr val="ff3300"/>
                </a:solidFill>
                <a:latin typeface="Calibri"/>
                <a:ea typeface="楷体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"/>
              </a:rPr>
              <a:t>碧绿的衣裳，</a:t>
            </a:r>
            <a:r>
              <a:rPr b="1" lang="zh-CN" sz="5400" spc="-1" strike="noStrike">
                <a:solidFill>
                  <a:srgbClr val="ff3300"/>
                </a:solidFill>
                <a:latin typeface="Calibri"/>
                <a:ea typeface="楷体"/>
              </a:rPr>
              <a:t>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楷体"/>
              </a:rPr>
              <a:t>雪白的肚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，</a:t>
            </a:r>
            <a:r>
              <a:rPr b="1" lang="zh-CN" sz="5400" spc="-1" strike="noStrike">
                <a:solidFill>
                  <a:srgbClr val="ff3300"/>
                </a:solidFill>
                <a:latin typeface="Calibri"/>
                <a:ea typeface="楷体"/>
              </a:rPr>
              <a:t>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着一对大眼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20000" y="907560"/>
            <a:ext cx="1728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948360" y="2133360"/>
            <a:ext cx="1727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alibri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77080" y="2421000"/>
            <a:ext cx="2519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0920" y="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932360" y="76500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哇游，过了几天，尾巴变短了。他们游到荷花旁边，看见荷叶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蹲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只大青蛙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披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碧绿的衣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露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雪白的肚皮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鼓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对大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ic_252916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1042920" y="549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8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190440" y="-10008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619280" y="4076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708360" y="1881360"/>
            <a:ext cx="352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雪白的棉花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雪白的云朵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雪白的羊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2360" y="1916280"/>
            <a:ext cx="3527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碧绿的湖水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碧绿的草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碧绿的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W020101223333026468641_副本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788000" y="0"/>
            <a:ext cx="4356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68720" y="692280"/>
            <a:ext cx="39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过去，叫着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妈妈，妈妈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青蛙妈妈低头一看，笑着说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好孩子，你们已经长成青蛙了，快跳上来吧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们后腿一蹬，向前一跳，蹦到了荷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W020101223333026468641_副本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4788000" y="0"/>
            <a:ext cx="4356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968720" y="692280"/>
            <a:ext cx="39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蝌蚪游过去，叫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妈妈，妈妈！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青蛙妈妈低头一看，笑着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好孩子，你们已经长成青蛙了，快跳上来吧！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们后腿一蹬，向前一跳，蹦到了荷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900000" y="11970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青蛙妈妈低头一看，笑着说：“好孩子，你们已经长成青蛙了，快跳上来吧！”他们后腿一（     ），向前一（     ），（      ）到了荷叶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643280" y="3141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  <a:ea typeface="楷体"/>
              </a:rPr>
              <a:t>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370240" y="382896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  <a:ea typeface="楷体"/>
              </a:rPr>
              <a:t>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580000" y="386064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  <a:ea typeface="楷体"/>
              </a:rPr>
              <a:t>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>
            <a:lum bright="30000"/>
          </a:blip>
          <a:srcRect l="1984" t="21042" r="1984" b="4662"/>
          <a:stretch/>
        </p:blipFill>
        <p:spPr>
          <a:xfrm>
            <a:off x="-1440" y="-76320"/>
            <a:ext cx="91468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76320" y="7632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部分探究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3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340000" y="4221000"/>
            <a:ext cx="5183280" cy="23324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你们已经长成青蛙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已经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。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447920" y="22096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读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，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～ ～ ～ ～ ～ ～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描写小蝌蚪变化的句子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pic_252913"/>
          <p:cNvPicPr/>
          <p:nvPr/>
        </p:nvPicPr>
        <p:blipFill>
          <a:blip r:embed="rId1"/>
          <a:srcRect l="0" t="39625" r="62310" b="40780"/>
          <a:stretch/>
        </p:blipFill>
        <p:spPr>
          <a:xfrm>
            <a:off x="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pic_252914"/>
          <p:cNvPicPr/>
          <p:nvPr/>
        </p:nvPicPr>
        <p:blipFill>
          <a:blip r:embed="rId2">
            <a:lum bright="14000"/>
          </a:blip>
          <a:srcRect l="41865" t="51399" r="37214" b="29357"/>
          <a:stretch/>
        </p:blipFill>
        <p:spPr>
          <a:xfrm>
            <a:off x="1830240" y="122076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ic_252915"/>
          <p:cNvPicPr/>
          <p:nvPr/>
        </p:nvPicPr>
        <p:blipFill>
          <a:blip r:embed="rId3">
            <a:lum bright="6000"/>
          </a:blip>
          <a:srcRect l="0" t="51751" r="65537" b="25892"/>
          <a:stretch/>
        </p:blipFill>
        <p:spPr>
          <a:xfrm>
            <a:off x="3581280" y="2436840"/>
            <a:ext cx="181620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pic_252916"/>
          <p:cNvPicPr/>
          <p:nvPr/>
        </p:nvPicPr>
        <p:blipFill>
          <a:blip r:embed="rId4"/>
          <a:srcRect l="9844" t="68307" r="49541" b="864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pic_252918"/>
          <p:cNvPicPr/>
          <p:nvPr/>
        </p:nvPicPr>
        <p:blipFill>
          <a:blip r:embed="rId5"/>
          <a:srcRect l="9385" t="68067" r="57390" b="7504"/>
          <a:stretch/>
        </p:blipFill>
        <p:spPr>
          <a:xfrm>
            <a:off x="7238880" y="48769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4282920" y="235080"/>
            <a:ext cx="489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"/>
              </a:rPr>
              <a:t>你能用自己的话说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"/>
              </a:rPr>
              <a:t>小蝌蚪的变化过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0" y="2643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"/>
              </a:rPr>
              <a:t>长出后腿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714680" y="3357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"/>
              </a:rPr>
              <a:t>长出前腿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5812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"/>
              </a:rPr>
              <a:t>尾巴变短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410080" y="5867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"/>
              </a:rPr>
              <a:t>尾巴消失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右箭头 14"/>
          <p:cNvSpPr/>
          <p:nvPr/>
        </p:nvSpPr>
        <p:spPr>
          <a:xfrm>
            <a:off x="857160" y="2143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右箭头 15"/>
          <p:cNvSpPr/>
          <p:nvPr/>
        </p:nvSpPr>
        <p:spPr>
          <a:xfrm>
            <a:off x="2571840" y="3000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右箭头 16"/>
          <p:cNvSpPr/>
          <p:nvPr/>
        </p:nvSpPr>
        <p:spPr>
          <a:xfrm>
            <a:off x="4429080" y="43578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右箭头 17"/>
          <p:cNvSpPr/>
          <p:nvPr/>
        </p:nvSpPr>
        <p:spPr>
          <a:xfrm>
            <a:off x="621504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TextBox 18" descr=""/>
          <p:cNvPicPr/>
          <p:nvPr/>
        </p:nvPicPr>
        <p:blipFill>
          <a:blip r:embed="rId6"/>
          <a:stretch/>
        </p:blipFill>
        <p:spPr>
          <a:xfrm>
            <a:off x="1866960" y="15840"/>
            <a:ext cx="684000" cy="117972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19" descr=""/>
          <p:cNvPicPr/>
          <p:nvPr/>
        </p:nvPicPr>
        <p:blipFill>
          <a:blip r:embed="rId7"/>
          <a:stretch/>
        </p:blipFill>
        <p:spPr>
          <a:xfrm>
            <a:off x="7786800" y="4286160"/>
            <a:ext cx="11430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5280" y="2204640"/>
            <a:ext cx="7920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池塘里有一群小蝌蚪，他们游啊游，过了几天，长出两条（    ），又过了几天，长出两条（      ），没过多久，（      ）不见了，变成了一只只能捉害虫的（ 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2916360" y="404640"/>
            <a:ext cx="3456000" cy="10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12320" y="270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后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6000" y="3284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前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63708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尾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"/>
              </a:rPr>
              <a:t>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08081321515957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5256360" y="1413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不知什么时候，小青蛙的尾巴已经不见了。他们跟着妈妈，天天去捉害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边框5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187280" y="2060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"/>
              </a:rPr>
              <a:t>一只青蛙一天能吃七十多只害虫，一年消灭一万五千多只害虫。真是保护庄稼的能手，我们一定要保护它们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30322"/>
          <p:cNvPicPr/>
          <p:nvPr/>
        </p:nvPicPr>
        <p:blipFill>
          <a:blip r:embed="rId2"/>
          <a:stretch/>
        </p:blipFill>
        <p:spPr>
          <a:xfrm>
            <a:off x="971640" y="40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3500280" y="9288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科学小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58920" y="609480"/>
            <a:ext cx="853416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大脑             披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灰身             露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长尾             鼓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蝌蚪  找   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出两条后腿           尾巴变短、不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出两条前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11280" y="3141720"/>
            <a:ext cx="533520" cy="457200"/>
            <a:chOff x="2411280" y="3141720"/>
            <a:chExt cx="533520" cy="457200"/>
          </a:xfrm>
        </p:grpSpPr>
        <p:sp>
          <p:nvSpPr>
            <p:cNvPr id="172" name="Line 3"/>
            <p:cNvSpPr/>
            <p:nvPr/>
          </p:nvSpPr>
          <p:spPr>
            <a:xfrm flipH="1">
              <a:off x="2411280" y="31417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411280" y="31417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86000" y="4343400"/>
            <a:ext cx="1447920" cy="609480"/>
            <a:chOff x="2286000" y="4343400"/>
            <a:chExt cx="1447920" cy="609480"/>
          </a:xfrm>
        </p:grpSpPr>
        <p:sp>
          <p:nvSpPr>
            <p:cNvPr id="175" name="Line 4"/>
            <p:cNvSpPr/>
            <p:nvPr/>
          </p:nvSpPr>
          <p:spPr>
            <a:xfrm>
              <a:off x="2286000" y="434340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2286000" y="434340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148360" y="4365720"/>
            <a:ext cx="1511280" cy="576000"/>
            <a:chOff x="5148360" y="4365720"/>
            <a:chExt cx="1511280" cy="576000"/>
          </a:xfrm>
        </p:grpSpPr>
        <p:sp>
          <p:nvSpPr>
            <p:cNvPr id="178" name="Line 5"/>
            <p:cNvSpPr/>
            <p:nvPr/>
          </p:nvSpPr>
          <p:spPr>
            <a:xfrm flipV="1">
              <a:off x="5148360" y="4365720"/>
              <a:ext cx="151128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 rot="10800000">
              <a:off x="5148360" y="4365720"/>
              <a:ext cx="151128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012000" y="3141720"/>
            <a:ext cx="457200" cy="457200"/>
            <a:chOff x="6012000" y="3141720"/>
            <a:chExt cx="457200" cy="457200"/>
          </a:xfrm>
        </p:grpSpPr>
        <p:sp>
          <p:nvSpPr>
            <p:cNvPr id="181" name="Line 6"/>
            <p:cNvSpPr/>
            <p:nvPr/>
          </p:nvSpPr>
          <p:spPr>
            <a:xfrm flipH="1" flipV="1">
              <a:off x="6012000" y="3141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 rot="10800000">
              <a:off x="6012000" y="31417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8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187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189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192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只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9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在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199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201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204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现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11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213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216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9"/>
          <p:cNvSpPr/>
          <p:nvPr/>
        </p:nvSpPr>
        <p:spPr>
          <a:xfrm>
            <a:off x="4788000" y="9079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么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23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225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228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9"/>
          <p:cNvSpPr/>
          <p:nvPr/>
        </p:nvSpPr>
        <p:spPr>
          <a:xfrm>
            <a:off x="4788000" y="907920"/>
            <a:ext cx="2233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怎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768680" y="620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变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35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237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240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改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变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变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变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11111"/>
          <p:cNvPicPr/>
          <p:nvPr/>
        </p:nvPicPr>
        <p:blipFill>
          <a:blip r:embed="rId1"/>
          <a:stretch/>
        </p:blipFill>
        <p:spPr>
          <a:xfrm>
            <a:off x="0" y="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24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"/>
              </a:rPr>
              <a:t>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1116000" y="907920"/>
            <a:ext cx="2951280" cy="2975040"/>
            <a:chOff x="1116000" y="907920"/>
            <a:chExt cx="2951280" cy="2975040"/>
          </a:xfrm>
        </p:grpSpPr>
        <p:sp>
          <p:nvSpPr>
            <p:cNvPr id="247" name="Rectangle 3"/>
            <p:cNvSpPr/>
            <p:nvPr/>
          </p:nvSpPr>
          <p:spPr>
            <a:xfrm>
              <a:off x="1116000" y="907920"/>
              <a:ext cx="2950200" cy="296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116000" y="2389320"/>
              <a:ext cx="2951280" cy="360"/>
              <a:chOff x="1116000" y="2389320"/>
              <a:chExt cx="2951280" cy="360"/>
            </a:xfrm>
          </p:grpSpPr>
          <p:sp>
            <p:nvSpPr>
              <p:cNvPr id="249" name="Line 4"/>
              <p:cNvSpPr/>
              <p:nvPr/>
            </p:nvSpPr>
            <p:spPr>
              <a:xfrm>
                <a:off x="1116000" y="238932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1116000" y="238932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590920" y="918360"/>
              <a:ext cx="720" cy="2964600"/>
              <a:chOff x="2590920" y="918360"/>
              <a:chExt cx="720" cy="2964600"/>
            </a:xfrm>
          </p:grpSpPr>
          <p:sp>
            <p:nvSpPr>
              <p:cNvPr id="252" name="Line 5"/>
              <p:cNvSpPr/>
              <p:nvPr/>
            </p:nvSpPr>
            <p:spPr>
              <a:xfrm flipH="1">
                <a:off x="2590920" y="918360"/>
                <a:ext cx="720" cy="29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 rot="5400000">
                <a:off x="1108800" y="2400120"/>
                <a:ext cx="29646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9"/>
          <p:cNvSpPr/>
          <p:nvPr/>
        </p:nvSpPr>
        <p:spPr>
          <a:xfrm>
            <a:off x="4788000" y="907920"/>
            <a:ext cx="223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纸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柳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条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76360" y="44280"/>
            <a:ext cx="8675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685800" y="304920"/>
            <a:ext cx="7848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Calibri"/>
                <a:ea typeface="楷体_GB2312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１、实地观察小蝌蚪和青蛙，或在家长的帮助下，捉几只小蝌蚪养一阵子，观察他们的变化，并记录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２、通过看书、上网、请教等各种形式，查找关于青蛙是益虫、小蝌蚪尾巴消失之谜、蝌蚪的生活习性等资料，课间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533520" y="2286000"/>
            <a:ext cx="7238880" cy="1599840"/>
            <a:chOff x="533520" y="2286000"/>
            <a:chExt cx="7238880" cy="1599840"/>
          </a:xfrm>
        </p:grpSpPr>
        <p:sp>
          <p:nvSpPr>
            <p:cNvPr id="54" name="Oval 3"/>
            <p:cNvSpPr/>
            <p:nvPr/>
          </p:nvSpPr>
          <p:spPr>
            <a:xfrm>
              <a:off x="1752840" y="2286000"/>
              <a:ext cx="2819160" cy="1599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533520" y="262260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黑灰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WordArt 5"/>
          <p:cNvSpPr txBox="1"/>
          <p:nvPr/>
        </p:nvSpPr>
        <p:spPr>
          <a:xfrm>
            <a:off x="2209680" y="6858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谁是认字小能手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762120" y="2895480"/>
            <a:ext cx="7238880" cy="1599840"/>
            <a:chOff x="762120" y="2895480"/>
            <a:chExt cx="7238880" cy="1599840"/>
          </a:xfrm>
        </p:grpSpPr>
        <p:sp>
          <p:nvSpPr>
            <p:cNvPr id="58" name="Oval 7"/>
            <p:cNvSpPr/>
            <p:nvPr/>
          </p:nvSpPr>
          <p:spPr>
            <a:xfrm>
              <a:off x="1981440" y="2895480"/>
              <a:ext cx="2819160" cy="15998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762120" y="323208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追上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9"/>
          <p:cNvSpPr/>
          <p:nvPr/>
        </p:nvSpPr>
        <p:spPr>
          <a:xfrm>
            <a:off x="4572000" y="2362320"/>
            <a:ext cx="2133720" cy="16761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头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0"/>
          <p:cNvGrpSpPr/>
          <p:nvPr/>
        </p:nvGrpSpPr>
        <p:grpSpPr>
          <a:xfrm>
            <a:off x="838080" y="2209680"/>
            <a:ext cx="7238880" cy="1599840"/>
            <a:chOff x="838080" y="2209680"/>
            <a:chExt cx="7238880" cy="1599840"/>
          </a:xfrm>
        </p:grpSpPr>
        <p:sp>
          <p:nvSpPr>
            <p:cNvPr id="62" name="Oval 11"/>
            <p:cNvSpPr/>
            <p:nvPr/>
          </p:nvSpPr>
          <p:spPr>
            <a:xfrm>
              <a:off x="2057400" y="2209680"/>
              <a:ext cx="2819160" cy="1599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838080" y="254628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披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295280" y="2819520"/>
            <a:ext cx="7238880" cy="1599840"/>
            <a:chOff x="1295280" y="2819520"/>
            <a:chExt cx="7238880" cy="1599840"/>
          </a:xfrm>
        </p:grpSpPr>
        <p:sp>
          <p:nvSpPr>
            <p:cNvPr id="65" name="Oval 14"/>
            <p:cNvSpPr/>
            <p:nvPr/>
          </p:nvSpPr>
          <p:spPr>
            <a:xfrm>
              <a:off x="2514600" y="2819520"/>
              <a:ext cx="2819160" cy="1599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1295280" y="315612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鼓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1905120" y="3581280"/>
            <a:ext cx="7238880" cy="1599840"/>
            <a:chOff x="1905120" y="3581280"/>
            <a:chExt cx="7238880" cy="1599840"/>
          </a:xfrm>
        </p:grpSpPr>
        <p:sp>
          <p:nvSpPr>
            <p:cNvPr id="68" name="Oval 17"/>
            <p:cNvSpPr/>
            <p:nvPr/>
          </p:nvSpPr>
          <p:spPr>
            <a:xfrm>
              <a:off x="3124440" y="3581280"/>
              <a:ext cx="2819160" cy="15998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1905120" y="391788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没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1905120" y="1523880"/>
            <a:ext cx="7238880" cy="1599840"/>
            <a:chOff x="1905120" y="1523880"/>
            <a:chExt cx="7238880" cy="1599840"/>
          </a:xfrm>
        </p:grpSpPr>
        <p:sp>
          <p:nvSpPr>
            <p:cNvPr id="71" name="Oval 20"/>
            <p:cNvSpPr/>
            <p:nvPr/>
          </p:nvSpPr>
          <p:spPr>
            <a:xfrm>
              <a:off x="3124440" y="1523880"/>
              <a:ext cx="2819160" cy="1599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1905120" y="1860480"/>
              <a:ext cx="723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现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22"/>
          <p:cNvSpPr/>
          <p:nvPr/>
        </p:nvSpPr>
        <p:spPr>
          <a:xfrm>
            <a:off x="2895480" y="3276720"/>
            <a:ext cx="2819520" cy="1828800"/>
          </a:xfrm>
          <a:prstGeom prst="diamond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>
            <a:off x="3048120" y="3429000"/>
            <a:ext cx="2819160" cy="182880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2514600" y="2895480"/>
            <a:ext cx="2819520" cy="1828800"/>
          </a:xfrm>
          <a:prstGeom prst="diamond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5"/>
          <p:cNvGrpSpPr/>
          <p:nvPr/>
        </p:nvGrpSpPr>
        <p:grpSpPr>
          <a:xfrm>
            <a:off x="1600200" y="2666880"/>
            <a:ext cx="6095880" cy="2895840"/>
            <a:chOff x="1600200" y="2666880"/>
            <a:chExt cx="6095880" cy="2895840"/>
          </a:xfrm>
        </p:grpSpPr>
        <p:pic>
          <p:nvPicPr>
            <p:cNvPr id="77" name="Picture 26" descr="gif020.gif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715000" y="3581280"/>
              <a:ext cx="19810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27"/>
            <p:cNvSpPr txBox="1"/>
            <p:nvPr/>
          </p:nvSpPr>
          <p:spPr>
            <a:xfrm>
              <a:off x="1600200" y="2666880"/>
              <a:ext cx="48006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你们都是认字小能手</a:t>
              </a:r>
              <a:r>
                <a:rPr b="1" lang="en-US" sz="18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!</a:t>
              </a:r>
              <a:endParaRPr b="1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2" descr=""/>
          <p:cNvPicPr/>
          <p:nvPr/>
        </p:nvPicPr>
        <p:blipFill>
          <a:blip r:embed="rId2">
            <a:lum bright="-62000"/>
          </a:blip>
          <a:stretch/>
        </p:blipFill>
        <p:spPr>
          <a:xfrm>
            <a:off x="1258920" y="1700280"/>
            <a:ext cx="63039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435640" y="119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池塘里有一群小蝌蚪，大大的脑袋，黑灰色的身子，甩着长长的尾巴，快活地游来游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435640" y="1197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池塘里有一群小蝌蚪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大大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脑袋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黑灰色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身子，甩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长长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尾巴，快活地游来游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0920" y="4869000"/>
            <a:ext cx="4572000" cy="17838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 ……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快活地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游来游去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_252915"/>
          <p:cNvPicPr/>
          <p:nvPr/>
        </p:nvPicPr>
        <p:blipFill>
          <a:blip r:embed="rId1"/>
          <a:srcRect l="0" t="0" r="59385" b="601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447920" y="22096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齐读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，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———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出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蝌蚪和动物们说的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58:21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6-04-18T03:53:32Z</dcterms:modified>
  <cp:revision>9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