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86A-FD90-4F73-A1C1-419D1597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92E-D281-4344-ACDD-A46F3C4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E05-D1B4-4B24-8994-F04033CE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E01-F781-4A1F-9AC5-CF6995B2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C6C-6C4F-4CA2-9B7B-AB8256B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C87-FAC6-421D-B064-2DDD036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B8C-433D-4008-91BB-8E8F2D2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4CD-DAD2-46CB-AD43-B10DFA2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A9A-F4F5-4C88-8B83-E4D7CFD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261-F8D9-44FF-8B9B-994894C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823-2CBC-4FA1-809C-069081D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1A1-6FB5-478E-A5D5-B5F72951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0B6-B08C-4C00-9D22-0709AE2E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天空之城 宫崎骏.mp3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事讲完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58:11Z</dcterms:created>
  <dc:creator>yang</dc:creator>
  <dc:description/>
  <dc:language>en-US</dc:language>
  <cp:lastModifiedBy>USER</cp:lastModifiedBy>
  <dcterms:modified xsi:type="dcterms:W3CDTF">2013-11-01T15:32:01Z</dcterms:modified>
  <cp:revision>11</cp:revision>
  <dc:subject/>
  <dc:title>幻灯片 1</dc:title>
</cp:coreProperties>
</file>