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0631-67EC-480A-9EAF-4796F361A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19DD-04DE-4091-940C-0CA33236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8519-E92C-4863-B65E-48EC575A2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D65D-3836-4A76-81B1-13889E3B6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7B75-9EB6-44B9-AA8B-7FDA184D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ACE0-3FE7-4A6C-A11A-F59D2D00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6E48-3E30-48A4-A69C-06C0760E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3813-3E7F-4659-A5C7-3869AA45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3DEE-6608-4512-8BDF-4D256BE6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D771-ABA6-4C46-95B1-507A6EB5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2CD6-22F5-4677-BE87-2B8463E4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BFA4-2745-4B03-BCC8-018C70FE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D3BB-BDC1-4266-9BCB-F75440C31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74840" y="44280"/>
            <a:ext cx="6437160" cy="680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920" y="126828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636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6360" y="126828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636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92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636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92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36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360" y="126828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492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21:14:26Z</dcterms:created>
  <dc:creator>Administrator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