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A6E-95F9-40A6-B74F-D53F4D18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A72-F2C3-460F-880B-892CF469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6E8-F766-40D0-AC7C-F50B6143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9A2-B114-4309-AC7D-EF674F89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CF6-2B8F-4E10-9C49-A02977C6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BCC-9E1C-461C-B7EE-9A9FB9E4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9A9-1831-452D-922F-BBD0EEC6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D2E-2DB7-4131-AF1C-27789897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CF9-35C1-44E5-971B-9D9F0F4D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C19-8EA2-4134-AD74-2A4AEE44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0D8-BD64-4D82-9D65-27334872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3F0-5200-4EBB-9407-74E3E7FC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5D81-77CD-484C-B02E-AFCE7ABA36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ysweetmoon.taobao.com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5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1268280"/>
          <a:ext cx="9144000" cy="41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阅读课：排好队，一个接一个">
            <a:hlinkClick r:id="rId1"/>
          </p:cNvPr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332000" y="0"/>
            <a:ext cx="666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阅读课：排好队，一个接一个"/>
          <p:cNvPicPr/>
          <p:nvPr/>
        </p:nvPicPr>
        <p:blipFill>
          <a:blip r:embed="rId1">
            <a:lum contrast="6000"/>
          </a:blip>
          <a:srcRect l="0" t="1481" r="0" b="0"/>
          <a:stretch/>
        </p:blipFill>
        <p:spPr>
          <a:xfrm>
            <a:off x="0" y="981000"/>
            <a:ext cx="91440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阅读课：排好队，一个接一个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836640"/>
            <a:ext cx="91440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阅读课：排好队，一个接一个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阅读课：排好队，一个接一个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阅读课：排好队，一个接一个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1125360"/>
            <a:ext cx="9144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1125360"/>
          <a:ext cx="914400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1440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1197000"/>
            <a:ext cx="914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阅读课：排好队，一个接一个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907920"/>
            <a:ext cx="9144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1:56:18Z</dcterms:created>
  <dc:creator>dell</dc:creator>
  <dc:description/>
  <dc:language>en-US</dc:language>
  <cp:lastModifiedBy>dell</cp:lastModifiedBy>
  <dcterms:modified xsi:type="dcterms:W3CDTF">2011-04-27T02:53:45Z</dcterms:modified>
  <cp:revision>7</cp:revision>
  <dc:subject/>
  <dc:title>幻灯片 1</dc:title>
</cp:coreProperties>
</file>