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2FF-28D9-4D0B-90F9-12D37A64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C7A-6CAE-40FC-A6E4-2F1EB36B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3D7A7-E625-45D2-9EB7-26E80F20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ABFA1-B101-4C44-A5A2-06A1253F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407A9-E6D4-48DE-A3ED-E3629E96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FA820-9EF6-49F9-B002-4FCB2D9E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FC535-35BD-4A65-9E6D-F9690D51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7C22E-0E89-4B02-8A7A-D0E8A09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F10C7-198E-4340-B316-E26A139B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D71E5-1D5A-4828-AAE2-D2654FE1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33EB0-84D5-407A-ADE7-99547ACE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249D4-EE97-45DF-A0EB-AE0CD8D6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ACE-0B79-485E-95AC-FB37D872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2B30E-FCF4-4744-A7BF-BCDB583D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55ACF-B0E0-4892-8DF2-4042C19F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60155-123F-4125-87D1-3AD5EFE5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CCC68-A9F5-4151-939E-1CF0A449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D0687-11D6-4075-B759-AC6BCEC3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97B12-9E3B-4A9E-B15F-E884E9E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FD3CF-2B04-44A6-9874-BE966BA9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A8AE1-F7AE-4BE3-8635-48A20144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D6FF8-9180-441C-AA58-E986190F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6B1C3-B970-4F0F-9C4E-4B3E7131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2CA-22F7-4783-9C48-E2E52354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9D24D-F731-485F-9BDF-875609DC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A68BE-404B-4EB4-80F4-0907CC71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B5383-0BF3-4A3C-BB4E-2A7CA4FC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E40DA-B5C0-4A45-AE5F-63E52BB4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89244-F61A-4063-A82C-8C4EBA1F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ED9D1-EBCE-4575-922B-F144EA20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751AF-29BB-40A5-A568-08EBD7CC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42419-D6EC-4C06-88E5-8CB95A95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65814-1F4F-4B77-837F-8C69976E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3255D-FBC9-4EDB-A84E-F0396A9D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C5AC-BA22-4A80-BCB7-DAD52210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CD85B-F2B0-45CC-A9EB-76F17ED1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0FEA4-91C8-45FC-BDE6-D7D2755F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4DB5C-9C19-4563-A21E-3585513F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21BC2-94CE-4C26-B5B7-E9573B21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08561-B4F7-4FB6-875A-7DC2F009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68B13-7112-4BC9-8050-D1C3706C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5FDCE-4E75-40AD-ADBD-BED4B411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62D52-4C15-4605-BA12-B7492F54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AC9BC-5793-474F-957F-391914D0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5F5EF-13CB-40F7-8265-2214AD76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1354-0F28-4F52-B403-79FCA56D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D1532-38A0-4678-AB47-770A49D4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D9287-A7B6-451A-B02B-2823EC31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1FEF1-63EB-4A67-9725-B5589B83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2DAB2-6DB7-4A2A-82E5-1B9CA1CD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24A7A-6E2A-4480-9854-30BF6DCC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60032-C932-48B3-B48B-D5F1093E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40D31-94DD-404D-8980-9ED4CB53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4254C-C6AE-4391-A327-8C5495FF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BD045-5952-47F8-A298-5C15F3DF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8212A-EC6C-4194-A293-46F4B480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E245-2672-4DBB-9DC7-8610802B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5FB41-AB71-41B1-8301-26E4310B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68574-58BF-4F52-A757-940DAFBF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4D138-92FA-4F4D-AF54-67C6F9D8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37B4B-FFB8-4835-85DC-7AED47C2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B4EFD-A2DF-4CE8-BD72-414B3FD0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24A05-D122-4F71-A3E6-655BBCF0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8ED0F-3BBC-4F16-85F7-248AEF4E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798C-8E92-491B-B932-7F45E768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9827-27C6-43BE-B253-05FF612C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D075-3A8A-47B7-B803-952AB249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66E5-054C-41A9-89E7-00FB285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7A5-0B10-466B-A76D-882E6947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CA39-DA09-4BF3-895E-46A1D3D7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8A76-7F91-4CEC-9B5B-6F316373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D56F-9D13-46AF-B8E7-41C46F8B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49E5-B400-40CA-8F2A-20E5381F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09AF-C450-4568-A47D-4C9C5FCA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08BE-BA1C-4B71-9723-B5BC75A3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41F99-E18F-42CC-B7E2-AC0EB31D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613C-7376-471C-95E8-1FD334D6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FA80E-EF2F-45A1-BC02-9A6FD047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C4A7-B9E8-41D6-9573-E188A2DA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2AF-DCC1-4500-B3C0-ADFBBA38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A88BE-01CA-42E8-B60D-2D9E16AB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B21AF-3D74-4699-881C-01818893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7E8D-998D-4696-BB33-83179E1A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31CB-3E15-44EF-9E9C-DAB97EF3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A8908-49B4-4E60-9DF2-375EC45B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0253-A6F0-407E-BAE7-538C5F18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3C7C-74C5-46C6-A4E0-CA2CE549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7FE61-614B-4753-AB21-8FD1B5F3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C8D7E-1125-4D2E-AB9C-4090857D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9F216-8770-4CAD-A23D-C9C111CE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866-F2D4-4E06-9F2C-41D475CC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95A7B-782B-4228-840C-FD844FA7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D2F0B-690D-4122-BD34-A33FDB79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EFAE-10C4-48D2-87B3-239DC69C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7839A-A0E3-4B81-8EFB-65BE8996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3ED6-3F01-48FE-A5B4-DD1D09A2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94EA7-6378-4DC9-B786-436CEA5D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F4493-3921-4873-A94E-5B60446D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3966-6483-4504-9D8E-B53669F3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F77E4-7CFD-4986-BD53-BD7AE356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21F84-4A3A-49DF-871C-650E65F8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9C3-5B5E-4C64-BA7E-AFEF00FD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2C901-5FBC-40B2-AB77-A23EA6CD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071E9-055D-4CAE-972A-3E1207B6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5B332-4C21-4FEB-844E-FBE5A2DD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4B478-F3AA-48E6-8697-35A13BDB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35422-F598-4FCE-88F6-72CAB9E2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7EF68-613C-422D-8D79-E35E6286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F4F44-3EC6-48DA-AB08-8DF272B2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75448-21AC-4B1F-A54E-94DF54A3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53326-AD17-4359-8E4F-806A9A31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B911E-4F02-4B39-BCD0-41191D0E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616-A215-4DED-890E-6A21F0B9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26AFC-B43E-4BCB-8EB6-116508B6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CE8C3-2724-4859-85B4-0FB6ADEC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C5297-D486-4CCE-9738-CBC0F30A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80011-71FB-4251-9589-08CA5858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DB03C-E52D-478A-BF13-8D94028D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695F2-0826-4DAC-8C02-ABB79223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40B3D-ADD9-45F0-8870-6B2C322F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1AF7D-467C-45BB-B010-7116A391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BF542-F780-4451-8CBC-7B14362F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73786-01A4-47A9-8BB8-E7FFD052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5A4-F759-4C1E-992A-664AC140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E0CE4-0573-4A36-86BF-EF180A6B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25062-E270-4AA7-B200-C11B31C5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DDB48-44EF-4835-B8C6-488B68D3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F6BF8-647D-41FF-B7CF-B2EBBB31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DE59C-B0D5-4B69-8F60-B8035E22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97978-82FC-48ED-AE2D-F3692260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7A5D3-C89B-47AD-A3D1-69D7DF08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09816-4171-4288-A0AA-F3E08BF2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D0256-0A88-40BD-B998-3C08A8CB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1B6E3-8EE5-4FB8-AA5C-289F2E0C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863-DCD8-47BE-8994-8A322974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765F7-12C3-4D52-817E-14AAC2F9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F0942-BF90-4219-A398-5084BE8B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B1B49-77A2-449C-B63E-A534FF1C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188F5-9508-4E6C-A681-5BB631B0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490CD-7AD8-4174-87A0-DE8C327C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F9AE9-F0B3-47F3-8C60-199B4E87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4E6F9-0C88-4C40-8D01-81A5BA7A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374C4-3079-4EA3-BDC7-BFD53B3B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176DF-0CD7-48A0-B8AB-DD6D8542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AAA06-2E8D-4F23-9C64-038D21C8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B41-A8B5-4770-9C9E-5E4F71A7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15DD7-3682-49CF-BB98-E0357DC7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5067D-767C-492B-B10A-2A0B529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CCA62-9DFD-4969-B13C-CAC1930A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E6190-20CF-4149-9CCB-12F8C5FA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E0FAA-6462-43D5-8635-A67B4266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D2877-8A41-407E-B990-803A0556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48F65-4633-45EA-ADF4-6631C327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CB4F8-FEAA-4992-BD28-95F6DA63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39B83-F369-4CA7-A99E-4A4ACB62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96F7F-3AF6-4619-8BD1-93AD3E35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4714-B2A4-4825-883A-219FAF310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F832-465C-42DD-952F-958DB66EA0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A5FD-97B9-453A-9801-A189BB8A25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E07E-1C6E-4627-A24A-646CEF6B53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0DF3-292C-4124-AA9D-05B466C53D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AC9F-C3F9-4EC7-9F09-ACBB04973F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04B1-D355-4232-80B1-1CDFFAFED8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E45C-67E4-4C1F-88FC-63BE131753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87C5-2737-4B2D-ACB8-30FFF90D93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A765-F56A-4735-A676-D2C40EF3A5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5DEE-6F03-468E-A5BF-25B6442566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162E-51E3-4063-A797-D5D74826F3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7A5A-0381-4F12-907A-339B1CA13F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1.jpe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小猪变形记001"/>
          <p:cNvPicPr/>
          <p:nvPr/>
        </p:nvPicPr>
        <p:blipFill>
          <a:blip r:embed="rId1"/>
          <a:srcRect l="3209" t="0" r="2363" b="2539"/>
          <a:stretch/>
        </p:blipFill>
        <p:spPr>
          <a:xfrm>
            <a:off x="2340000" y="476280"/>
            <a:ext cx="4248000" cy="5905440"/>
          </a:xfrm>
          <a:prstGeom prst="rect">
            <a:avLst/>
          </a:prstGeom>
          <a:ln w="0">
            <a:noFill/>
          </a:ln>
        </p:spPr>
      </p:pic>
      <p:sp>
        <p:nvSpPr>
          <p:cNvPr id="534" name="矩形 5"/>
          <p:cNvSpPr/>
          <p:nvPr/>
        </p:nvSpPr>
        <p:spPr>
          <a:xfrm>
            <a:off x="2256480" y="47628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小猪变形记012"/>
          <p:cNvPicPr/>
          <p:nvPr/>
        </p:nvPicPr>
        <p:blipFill>
          <a:blip r:embed="rId1"/>
          <a:srcRect l="6389" t="4297" r="5577" b="4193"/>
          <a:stretch/>
        </p:blipFill>
        <p:spPr>
          <a:xfrm>
            <a:off x="255600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小猪变形记013"/>
          <p:cNvPicPr/>
          <p:nvPr/>
        </p:nvPicPr>
        <p:blipFill>
          <a:blip r:embed="rId1"/>
          <a:srcRect l="4834" t="0" r="0" b="3746"/>
          <a:stretch/>
        </p:blipFill>
        <p:spPr>
          <a:xfrm>
            <a:off x="1843200" y="0"/>
            <a:ext cx="503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6" descr=""/>
          <p:cNvPicPr/>
          <p:nvPr/>
        </p:nvPicPr>
        <p:blipFill>
          <a:blip r:embed="rId1"/>
          <a:srcRect l="0" t="0" r="0" b="3696"/>
          <a:stretch/>
        </p:blipFill>
        <p:spPr>
          <a:xfrm>
            <a:off x="182520" y="549360"/>
            <a:ext cx="878220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小猪变形记016"/>
          <p:cNvPicPr/>
          <p:nvPr/>
        </p:nvPicPr>
        <p:blipFill>
          <a:blip r:embed="rId1"/>
          <a:srcRect l="5116" t="7573" r="8433" b="12076"/>
          <a:stretch/>
        </p:blipFill>
        <p:spPr>
          <a:xfrm>
            <a:off x="2771640" y="1052640"/>
            <a:ext cx="388944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小猪变形记017"/>
          <p:cNvPicPr/>
          <p:nvPr/>
        </p:nvPicPr>
        <p:blipFill>
          <a:blip r:embed="rId1"/>
          <a:srcRect l="3068" t="0" r="883" b="6104"/>
          <a:stretch/>
        </p:blipFill>
        <p:spPr>
          <a:xfrm>
            <a:off x="1619280" y="0"/>
            <a:ext cx="52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6" descr=""/>
          <p:cNvPicPr/>
          <p:nvPr/>
        </p:nvPicPr>
        <p:blipFill>
          <a:blip r:embed="rId1"/>
          <a:srcRect l="1989" t="0" r="0" b="3696"/>
          <a:stretch/>
        </p:blipFill>
        <p:spPr>
          <a:xfrm>
            <a:off x="250920" y="404640"/>
            <a:ext cx="86724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小猪变形记020"/>
          <p:cNvPicPr/>
          <p:nvPr/>
        </p:nvPicPr>
        <p:blipFill>
          <a:blip r:embed="rId1"/>
          <a:srcRect l="6422" t="10245" r="5577" b="5372"/>
          <a:stretch/>
        </p:blipFill>
        <p:spPr>
          <a:xfrm>
            <a:off x="2556000" y="907920"/>
            <a:ext cx="3959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小猪变形记021"/>
          <p:cNvPicPr/>
          <p:nvPr/>
        </p:nvPicPr>
        <p:blipFill>
          <a:blip r:embed="rId1"/>
          <a:srcRect l="1588" t="0" r="7198" b="7308"/>
          <a:stretch/>
        </p:blipFill>
        <p:spPr>
          <a:xfrm>
            <a:off x="2340000" y="404640"/>
            <a:ext cx="4103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6" descr=""/>
          <p:cNvPicPr/>
          <p:nvPr/>
        </p:nvPicPr>
        <p:blipFill>
          <a:blip r:embed="rId1"/>
          <a:srcRect l="0" t="1813" r="0" b="4273"/>
          <a:stretch/>
        </p:blipFill>
        <p:spPr>
          <a:xfrm>
            <a:off x="109440" y="476280"/>
            <a:ext cx="8925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小猪变形记024"/>
          <p:cNvPicPr/>
          <p:nvPr/>
        </p:nvPicPr>
        <p:blipFill>
          <a:blip r:embed="rId1"/>
          <a:srcRect l="6422" t="4744" r="7165" b="6132"/>
          <a:stretch/>
        </p:blipFill>
        <p:spPr>
          <a:xfrm>
            <a:off x="2340000" y="333360"/>
            <a:ext cx="44895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小猪变形记002"/>
          <p:cNvPicPr/>
          <p:nvPr/>
        </p:nvPicPr>
        <p:blipFill>
          <a:blip r:embed="rId1"/>
          <a:srcRect l="3176" t="14773" r="7198" b="17518"/>
          <a:stretch/>
        </p:blipFill>
        <p:spPr>
          <a:xfrm>
            <a:off x="2700360" y="1052640"/>
            <a:ext cx="4740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小猪变形记025"/>
          <p:cNvPicPr/>
          <p:nvPr/>
        </p:nvPicPr>
        <p:blipFill>
          <a:blip r:embed="rId1"/>
          <a:srcRect l="4797" t="7126" r="5577" b="3746"/>
          <a:stretch/>
        </p:blipFill>
        <p:spPr>
          <a:xfrm>
            <a:off x="1971720" y="0"/>
            <a:ext cx="512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6" descr=""/>
          <p:cNvPicPr/>
          <p:nvPr/>
        </p:nvPicPr>
        <p:blipFill>
          <a:blip r:embed="rId16"/>
          <a:srcRect l="2400" t="1206" r="783" b="3696"/>
          <a:stretch/>
        </p:blipFill>
        <p:spPr>
          <a:xfrm>
            <a:off x="250920" y="476280"/>
            <a:ext cx="8640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" descr="小猪变形记028"/>
          <p:cNvPicPr/>
          <p:nvPr/>
        </p:nvPicPr>
        <p:blipFill>
          <a:blip r:embed="rId1"/>
          <a:srcRect l="3176" t="2382" r="0" b="4925"/>
          <a:stretch/>
        </p:blipFill>
        <p:spPr>
          <a:xfrm>
            <a:off x="1979640" y="0"/>
            <a:ext cx="531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小猪变形记029"/>
          <p:cNvPicPr/>
          <p:nvPr/>
        </p:nvPicPr>
        <p:blipFill>
          <a:blip r:embed="rId1"/>
          <a:srcRect l="1588" t="2382" r="2363" b="2567"/>
          <a:stretch/>
        </p:blipFill>
        <p:spPr>
          <a:xfrm>
            <a:off x="2124000" y="0"/>
            <a:ext cx="51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"/>
          <p:cNvPicPr/>
          <p:nvPr/>
        </p:nvPicPr>
        <p:blipFill>
          <a:blip r:embed="rId1"/>
          <a:srcRect l="795" t="2632" r="795" b="3916"/>
          <a:stretch/>
        </p:blipFill>
        <p:spPr>
          <a:xfrm>
            <a:off x="250920" y="549360"/>
            <a:ext cx="8642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powerpoint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9" descr=""/>
          <p:cNvPicPr/>
          <p:nvPr/>
        </p:nvPicPr>
        <p:blipFill>
          <a:blip r:embed="rId8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png-0644"/>
          <p:cNvPicPr/>
          <p:nvPr/>
        </p:nvPicPr>
        <p:blipFill>
          <a:blip r:embed="rId9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1" descr="png-0652"/>
          <p:cNvPicPr/>
          <p:nvPr/>
        </p:nvPicPr>
        <p:blipFill>
          <a:blip r:embed="rId10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"/>
          <p:cNvPicPr/>
          <p:nvPr/>
        </p:nvPicPr>
        <p:blipFill>
          <a:blip r:embed="rId1"/>
          <a:srcRect l="0" t="1357" r="0" b="2666"/>
          <a:stretch/>
        </p:blipFill>
        <p:spPr>
          <a:xfrm>
            <a:off x="181080" y="476280"/>
            <a:ext cx="87818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小猪变形记005"/>
          <p:cNvPicPr/>
          <p:nvPr/>
        </p:nvPicPr>
        <p:blipFill>
          <a:blip r:embed="rId1"/>
          <a:srcRect l="4797" t="0" r="3989" b="2539"/>
          <a:stretch/>
        </p:blipFill>
        <p:spPr>
          <a:xfrm>
            <a:off x="2340000" y="189000"/>
            <a:ext cx="44337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小猪变形记006"/>
          <p:cNvPicPr/>
          <p:nvPr/>
        </p:nvPicPr>
        <p:blipFill>
          <a:blip r:embed="rId1"/>
          <a:srcRect l="3176" t="4297" r="5577" b="7754"/>
          <a:stretch/>
        </p:blipFill>
        <p:spPr>
          <a:xfrm>
            <a:off x="2050920" y="260280"/>
            <a:ext cx="50817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小猪变形记007"/>
          <p:cNvPicPr/>
          <p:nvPr/>
        </p:nvPicPr>
        <p:blipFill>
          <a:blip r:embed="rId1"/>
          <a:srcRect l="1588" t="1179" r="2363" b="4925"/>
          <a:stretch/>
        </p:blipFill>
        <p:spPr>
          <a:xfrm>
            <a:off x="1763640" y="0"/>
            <a:ext cx="520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小猪变形记008"/>
          <p:cNvPicPr/>
          <p:nvPr/>
        </p:nvPicPr>
        <p:blipFill>
          <a:blip r:embed="rId1"/>
          <a:srcRect l="3068" t="3561" r="4092" b="7308"/>
          <a:stretch/>
        </p:blipFill>
        <p:spPr>
          <a:xfrm>
            <a:off x="169236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小猪变形记009"/>
          <p:cNvPicPr/>
          <p:nvPr/>
        </p:nvPicPr>
        <p:blipFill>
          <a:blip r:embed="rId1"/>
          <a:srcRect l="4797" t="2358" r="0" b="3746"/>
          <a:stretch/>
        </p:blipFill>
        <p:spPr>
          <a:xfrm>
            <a:off x="1979640" y="0"/>
            <a:ext cx="516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"/>
          <p:cNvPicPr/>
          <p:nvPr/>
        </p:nvPicPr>
        <p:blipFill>
          <a:blip r:embed="rId1"/>
          <a:srcRect l="0" t="1813" r="0" b="4273"/>
          <a:stretch/>
        </p:blipFill>
        <p:spPr>
          <a:xfrm>
            <a:off x="219240" y="476280"/>
            <a:ext cx="87055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1:04:08Z</dcterms:created>
  <dc:creator>新教育</dc:creator>
  <dc:description/>
  <dc:language>en-US</dc:language>
  <cp:lastModifiedBy>User</cp:lastModifiedBy>
  <dcterms:modified xsi:type="dcterms:W3CDTF">2014-07-22T02:34:56Z</dcterms:modified>
  <cp:revision>6</cp:revision>
  <dc:subject/>
  <dc:title>幻灯片 1</dc:title>
</cp:coreProperties>
</file>