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2D8-2194-4520-8A1A-7B50536B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6D7-D10F-40E5-BE0D-190FD805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BEE-2B00-4B21-A91D-E300AD53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FE6-4ADC-4F01-BCF8-2C4A9A04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5EF5-B704-404F-99CC-A1995B88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FE60-83E3-4E1D-8FEE-8E4E6F50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5B9D-FABE-4BE6-A478-15C55C8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02D7-C4A5-4BE5-B933-3FCE8A61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0319-B762-409E-95F7-97011AA4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C86E-CB07-4C8B-8EFC-08500FEE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419-FC51-4326-B303-F5F82748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4B5-80B2-49E3-BC9F-9287AB6D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4900-9924-43F3-BE92-B081247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B4D9-000A-4A64-A407-6D37699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734D-AC72-4E1E-A22F-9AA7BD59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D8B1-7019-4F0E-B18F-C2108ABE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2A3B-BAA2-4492-8158-FEE0EF2C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550-A03D-4707-91F4-5C33B27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C63-44CC-4C4A-9DB7-9F886FBF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E18-F296-4C18-BD6E-A4EA153A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845-8BC4-45BD-8DD2-26814B69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F74-4EFE-4EF5-82C0-2AB3F08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5D7-9B7C-4039-B15D-8AF867C9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2C8-51B2-43EA-ADE2-F566B8E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0804-34C4-4A37-955E-5783060BB452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01D-060A-49A3-A6F0-BCBD216B912D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市场研究项目计划书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648320" y="6400800"/>
            <a:ext cx="4371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>
            <a:spAutoFit/>
          </a:bodyPr>
          <a:p>
            <a:pPr algn="r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??"/>
              </a:rPr>
              <a:t>©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预期结果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提交内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预期结果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提交方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时间进度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费用预算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供应商简介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主要项目组成员介绍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项目背景介绍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研究目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研究方法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明确定义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研究方法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研究手段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研究方法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研究对象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研究方法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样本设计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研究方法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规模估计与预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信息与数据采集的质量控制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971800"/>
            <a:ext cx="75042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3:21:26Z</dcterms:created>
  <dc:creator/>
  <dc:description/>
  <dc:language>en-US</dc:language>
  <cp:lastModifiedBy> </cp:lastModifiedBy>
  <dcterms:modified xsi:type="dcterms:W3CDTF">2003-09-29T09:13:13Z</dcterms:modified>
  <cp:revision>9</cp:revision>
  <dc:subject/>
  <dc:title/>
</cp:coreProperties>
</file>