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gif" ContentType="image/gif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C98C-7753-4FD8-B2E1-33846EE05A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3924-6E44-46E7-BB5F-5968CF471B7C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E3E9-6FAF-4951-9DC3-129AF9D725D9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FFDC-94B4-4AC0-9776-CDB41571A3DA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7B1-B55B-432C-9F21-FF6A78CC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9DD-C276-4737-8390-47B0D4EE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FE4-516B-443A-9DE3-B180795A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F98-C384-41A2-8EF2-CDD0D3F3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89AC-C8BF-41CA-AE81-704B1F1C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9C70-2183-4F0C-AAB3-08183707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1948-011C-4C53-9C68-6993A3D0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ED11-754B-46B6-BC4E-EB6F4806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7490-E3D4-4E3B-97F6-D872449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6985-47E5-4CE8-B202-8338474A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7F75-96E1-4D60-A8AF-7A793923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31B-DAA5-47FC-9A6F-9C3C5D9E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A518-8C79-4093-9AC2-F74B247E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7EF6-9124-4935-9F18-3FBA4F72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80A6-2909-484C-8932-A87A0215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992B-D21F-4F44-83DA-4BEB23F2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F48D-1461-4DB9-9C04-B5C60DDB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A5D-B531-41AD-B87B-FD48079A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465-27D5-4775-9F85-A3A89D0F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DA3-CB2E-4D2D-A9E1-B0FD034C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E5F-590C-45BE-8DFB-D0D0FB86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82F-A3E9-4C36-A8E2-DDD74948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F89-9ACC-4F6A-9050-B3D07D1B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3F5-E454-4386-99C1-440557B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1910-D8A7-46AF-A6BB-C0AECE065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E45A-EE79-4911-AD6C-8C72CE33E53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ogdiy.cn/html/sucai/20070912/3168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logdiy.cn/html/sucai/20070912/3168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op.xiyee.com/fzltp/1915.html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Picture 5" descr="20071003190654159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39640" y="141300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热烈欢迎各位家长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莅  临  指  导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于毕业班我们主要采取了如下措施：</a:t>
            </a:r>
            <a:br>
              <a:rPr sz="2000"/>
            </a:br>
            <a:r>
              <a:rPr b="0" lang="zh-CN" sz="2000" spc="-1" strike="noStrike">
                <a:solidFill>
                  <a:srgbClr val="003399"/>
                </a:solidFill>
                <a:latin typeface="Arial"/>
              </a:rPr>
              <a:t>   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学校特别重视毕业班的工作，毕业班的教育教学工作是我们学校本学期工作计划的重点工作。我们特别召开了毕业班工作会议，学校各部门都为毕业班的工作开绿灯，做好一切服务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   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．加强对毕业班的过程管理。学校主任深入毕业班听课、查教师备课及作业批改，了解教师的教学情况与学生的学习情况。本学期教学分两个阶段完成，即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月底，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月初完成新课教学任务，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月份进行总复习考试阶段。时间紧，任务重，希望各位家长能给予大力配合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   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做好学生平时质量监测和分析工作。毕业班任课老师在每次测试后，都要对成绩进行认真分析，采取切实可行的辅导措施，最大程度提高学生学习成绩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   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集中训练与个别辅导相结合。各班任课教师根据学生的具体情况，利用课外活动课、 晚自习等时间，既进行集中训练，又进行个别辅导。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571680" y="254628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、共同探讨教育孩子的几个问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一）我们家长该如何配合老师帮助孩子更好地投入到毕业复习中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二）家长如何看待学生之间的误会、矛盾和无意识的冲撞等问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571680" y="285156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黑体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、家长要配合的一些事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特别关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经常与老师联系，反映孩子在家情况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了解在学校的表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关心、关注子女的学习生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注意观察子女的行为习惯 （特别是反常行为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用自己的言行树立榜样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4" name="Picture 4" descr="20079121731444677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97360"/>
            <a:ext cx="7704360" cy="18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特别关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6" name="Picture 3" descr="20079121731444677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97360"/>
            <a:ext cx="7704360" cy="1862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  禁带手机、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p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规律生活、计划学习。 严禁网络游戏，控制上网时间。选择电视节目、控制看电视时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关爱但不要溺爱。民主管理，建立平等关系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2699"/>
                </a:solidFill>
                <a:latin typeface="Arial"/>
              </a:rPr>
              <a:t>关注孩子的安全。饮食安全、交通安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250920" y="1125360"/>
            <a:ext cx="784836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在外留宿。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回家很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带同学住宿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打电话时间长，次数多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受伤回家。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超消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超出友谊。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成绩突然下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穿奇装异服，爱好打扮，沉默寡言。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老是玩电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050920" y="2602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家长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需要注意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6333120" y="500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十问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571320"/>
            <a:ext cx="9286920" cy="65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如果儿童生活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批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的环境之中，他就学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指责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如果儿童生活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敌意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的环境之中，他就学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打架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如果儿童生活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嘲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的环境之中，他就学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难为情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如果儿童生活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羞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的环境之中，他就学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内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如果儿童生活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忍受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的环境之中，他就学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忍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如果儿童生活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鼓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的环境之中，他就学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自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如果儿童生活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赞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的环境之中，他就学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抬高自己的身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如果儿童生活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公平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的环境之中，他就学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伸张正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如果儿童生活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安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的环境之中，他就学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具有信念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如果儿童生活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赞许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的环境之中，他就学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自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8571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希望每个家长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多一份责任，少一分放任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多一分鼓励，少一分训斥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多一份关心，少一分随意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多一分理解，少一分责备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多一分赏识，少一分自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4" name="Picture 3" descr="003933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844640"/>
            <a:ext cx="2836800" cy="48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42920" y="376668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200" spc="-1" strike="noStrike">
                <a:solidFill>
                  <a:srgbClr val="ffff00"/>
                </a:solidFill>
                <a:latin typeface="黑体"/>
                <a:ea typeface="黑体"/>
              </a:rPr>
              <a:t>各位家长，你们的孩子需要我们的教育，我们的学生也需要您的呵护。学校和家庭和谐配合才能培育出我们社会的新人才。我希望通过这次家长会，除了促进我们科任教师与家长之间的沟通交流外，希望我们共同承担起教育孩子的责任，多花一点心思，多花一点时间，让我们的学生，你们的孩子在毕业考试中有一个比较好的、令人满意的成绩。 </a:t>
            </a:r>
            <a:endParaRPr b="0" lang="en-US" sz="2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endParaRPr b="0" lang="en-US" sz="2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2195640" y="2349360"/>
            <a:ext cx="4897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谢谢大家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24000" y="852120"/>
            <a:ext cx="8353440" cy="2592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召开家长会的目的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d31"/>
                </a:solidFill>
                <a:latin typeface="Arial"/>
              </a:rPr>
              <a:t>1.</a:t>
            </a:r>
            <a:r>
              <a:rPr b="1" lang="zh-CN" sz="2200" spc="-1" strike="noStrike">
                <a:solidFill>
                  <a:srgbClr val="001d31"/>
                </a:solidFill>
                <a:latin typeface="Arial"/>
              </a:rPr>
              <a:t>加强家校联系，</a:t>
            </a:r>
            <a:r>
              <a:rPr b="1" lang="zh-CN" sz="2400" spc="-1" strike="noStrike">
                <a:solidFill>
                  <a:srgbClr val="001d31"/>
                </a:solidFill>
                <a:latin typeface="Arial"/>
              </a:rPr>
              <a:t>相互交流孩子在家及在校的情况，以便老师们能够及时调整工作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d31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1d31"/>
                </a:solidFill>
                <a:latin typeface="Arial"/>
              </a:rPr>
              <a:t>希望家长能够积极参与到教育管理中来</a:t>
            </a:r>
            <a:r>
              <a:rPr b="1" lang="en-US" sz="2400" spc="-1" strike="noStrike">
                <a:solidFill>
                  <a:srgbClr val="001d31"/>
                </a:solidFill>
                <a:latin typeface="Arial"/>
              </a:rPr>
              <a:t>,</a:t>
            </a:r>
            <a:r>
              <a:rPr b="1" lang="zh-CN" sz="2200" spc="-1" strike="noStrike">
                <a:solidFill>
                  <a:srgbClr val="001d31"/>
                </a:solidFill>
                <a:latin typeface="Arial"/>
              </a:rPr>
              <a:t>共同探讨教育</a:t>
            </a:r>
            <a:r>
              <a:rPr b="1" lang="en-US" sz="2200" spc="-1" strike="noStrike">
                <a:solidFill>
                  <a:srgbClr val="001d31"/>
                </a:solidFill>
                <a:latin typeface="Arial"/>
              </a:rPr>
              <a:t>,</a:t>
            </a:r>
            <a:r>
              <a:rPr b="1" lang="zh-CN" sz="2200" spc="-1" strike="noStrike">
                <a:solidFill>
                  <a:srgbClr val="001d31"/>
                </a:solidFill>
                <a:latin typeface="Arial"/>
              </a:rPr>
              <a:t>更好地促进孩子的健康成长，</a:t>
            </a:r>
            <a:endParaRPr b="0" lang="en-US" sz="2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d31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1d31"/>
                </a:solidFill>
                <a:latin typeface="Arial"/>
              </a:rPr>
              <a:t>为孩子进入初一学习打下扎实的基础</a:t>
            </a:r>
            <a:r>
              <a:rPr b="1" lang="en-US" sz="2400" spc="-1" strike="noStrike">
                <a:solidFill>
                  <a:srgbClr val="001d31"/>
                </a:solidFill>
                <a:latin typeface="Arial"/>
              </a:rPr>
              <a:t>,</a:t>
            </a:r>
            <a:r>
              <a:rPr b="1" lang="zh-CN" sz="2200" spc="-1" strike="noStrike">
                <a:solidFill>
                  <a:srgbClr val="001d31"/>
                </a:solidFill>
                <a:latin typeface="Arial"/>
              </a:rPr>
              <a:t>为孩子能在本学期的毕业升中考试中取得好成绩共商对策。</a:t>
            </a:r>
            <a:endParaRPr b="0" lang="en-US" sz="2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7a77"/>
                </a:solidFill>
                <a:latin typeface="Arial"/>
              </a:rPr>
              <a:t>       </a:t>
            </a:r>
            <a:r>
              <a:rPr b="0" lang="zh-CN" sz="2200" spc="-1" strike="noStrike">
                <a:solidFill>
                  <a:srgbClr val="007a77"/>
                </a:solidFill>
                <a:latin typeface="Arial"/>
              </a:rPr>
              <a:t>借此机会，我就对本届毕业班的教育教学工作和谈谈我个人的不成熟的看法，不当之处，欢迎各位家长批评、指正。</a:t>
            </a:r>
            <a:endParaRPr b="0" lang="en-US" sz="2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00040" y="984960"/>
            <a:ext cx="82152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班级情况简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孩子的变化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目前存在的问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简介学校开学来的一些重大的决策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“双线推进整体教学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打造持续发展力”课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作息时间修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特色课程的开设、关于国家“体育、艺术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+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等级认定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家长开放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学校对毕业班级的教育教学的一些措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、共同探讨教育孩子的几个问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我们家长该如何帮助孩子更好地投入到毕业复习中，我们该注意什么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二）家长如何看待学生之间的误会、矛盾和无意识的冲撞等问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、家长要配合的一些事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、班级情况简介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2643120"/>
            <a:ext cx="854064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）孩子的变化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281160" indent="-28116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）目前存在的问题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2781360"/>
            <a:ext cx="82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有些学生上课注意力不集中、课堂效率低、学习成绩不理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332000" y="260280"/>
            <a:ext cx="55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班级里学生存在的问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79280" y="11253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b050"/>
                </a:solidFill>
                <a:latin typeface="Tahoma"/>
              </a:rPr>
              <a:t>、有些学生学习目的性不明确，导致学习无动力。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两极分化严重，好的比较突出，差的始终掉在后面跟不上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79280" y="57340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有则改之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无则加勉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防患于未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0" y="4005360"/>
            <a:ext cx="82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、有些学生</a:t>
            </a:r>
            <a:r>
              <a:rPr b="1" lang="zh-CN" sz="3200" spc="-1" strike="noStrike">
                <a:solidFill>
                  <a:srgbClr val="0091f9"/>
                </a:solidFill>
                <a:latin typeface="Arial"/>
              </a:rPr>
              <a:t>说脏话</a:t>
            </a: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，星期日在家不学习，看电视多，上网多，早上起床很晚，作业做得非常不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00040" y="1357200"/>
            <a:ext cx="784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4d4c"/>
                </a:solidFill>
                <a:latin typeface="Arial"/>
              </a:rPr>
              <a:t>自主学习能力不够。早上进了教室不知道背诵什么，自修课不知道做什么效果更加好，只知道赶作业，做作业只不过是为了完成任务，而很少去问同学问老师不会的地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68360" y="57340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有则改之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无则加勉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防患于未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8760" y="41432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对体育不重视（特别是女生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创造条件引导孩子进行锻炼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跳绳、踢毽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带孩子散步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陪孩子多接触大自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培养孩子锻炼的习惯、兴趣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家长的示范作用（举例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01680" y="6094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华文新魏"/>
              </a:rPr>
              <a:t>家庭应采取的措施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571680" y="1997640"/>
            <a:ext cx="8215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简介学校开学来的一些重大的决策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“双线推进整体教学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打造持续发展力”课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作息时间修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特色课程的开设、关于国家“体育、艺术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+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级认定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家长开放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学校对毕业班级的教育教学的一些措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425080" cy="51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本学期对毕业班教育教学措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       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大家都知道，小学六年级，是学生在小学学习生活中最后一个阶段，是学生终生学习的一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转站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，对学生的一生具有重要的意义；同时，小学六年级，也是小学与初中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接轨点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，学生素质的高低，成绩的好坏，即将面临到一个新的环境中受到一个新的挑战</a:t>
            </a: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和新的评价。我们应该认识到，</a:t>
            </a: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六年级是小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至关重要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的</a:t>
            </a:r>
            <a:br>
              <a:rPr sz="3200"/>
            </a:b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一个阶段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6:14:12Z</dcterms:created>
  <dc:creator>微软用户</dc:creator>
  <dc:description/>
  <dc:language>en-US</dc:language>
  <cp:lastModifiedBy>Lenovo</cp:lastModifiedBy>
  <dcterms:modified xsi:type="dcterms:W3CDTF">2012-04-07T00:49:59Z</dcterms:modified>
  <cp:revision>26</cp:revision>
  <dc:subject/>
  <dc:title>幻灯片 1</dc:title>
</cp:coreProperties>
</file>