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49E-3BD3-4173-A164-7D25D190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598-5DB8-45BF-AB2C-FE8D50DF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891-BBA5-4793-AD5A-956F7B93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1DA-9431-4B9D-89AD-F6E11B8E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DA2-E225-4449-8B9D-0FD90B5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9C8-A4EF-4706-9016-BBA67E94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671-F805-4797-9862-D7D32E4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33E-8687-4FD2-912E-470ADDB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65E-A3B4-443C-94B3-DFAD6123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F15-B5F7-47D5-A612-9BBA2675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3A87-34F9-44D2-B0FA-1B8DDFA2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1FB-8323-4B3C-9A8E-E98E6C2E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未标题-1-02.jpg"/>
          <p:cNvPicPr/>
          <p:nvPr/>
        </p:nvPicPr>
        <p:blipFill>
          <a:blip r:embed="rId2"/>
          <a:srcRect l="0" t="19983" r="0" b="0"/>
          <a:stretch/>
        </p:blipFill>
        <p:spPr>
          <a:xfrm>
            <a:off x="1440" y="1370160"/>
            <a:ext cx="9142560" cy="548784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未标题-1-02.jpg"/>
          <p:cNvPicPr/>
          <p:nvPr/>
        </p:nvPicPr>
        <p:blipFill>
          <a:blip r:embed="rId3"/>
          <a:srcRect l="0" t="0" r="0" b="82213"/>
          <a:stretch/>
        </p:blipFill>
        <p:spPr>
          <a:xfrm>
            <a:off x="0" y="430200"/>
            <a:ext cx="9142560" cy="122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1A172-0B35-4288-9DFE-68BE8981A9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54789-9C0C-4C3D-9EA3-C6661D25F7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未标题-1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7" descr="未标题-1-03.jpg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2:19:00Z</dcterms:created>
  <dc:creator>黄蕊 1</dc:creator>
  <dc:description/>
  <dc:language>en-US</dc:language>
  <cp:lastModifiedBy>ztc</cp:lastModifiedBy>
  <dcterms:modified xsi:type="dcterms:W3CDTF">2013-12-02T13:25:0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