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A193-A415-48D0-B101-B6D8C0EF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EEC-C1A8-4637-A00E-218202D9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57AA2-5678-4A64-AA06-631A8B7E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DD11E-E462-4308-9638-19E32620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381F0-4497-43C8-9390-A48EC6A5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6B4D9-8EB6-44D4-92CF-3CB0DDE6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F18D0-2862-4CF3-9BB3-51EEF0A9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878A6-A161-4E7D-AF3E-B8B44736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D19FA-C055-46E5-A720-C875EE19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DF9DF-4640-451F-A558-70AF2DF4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E0082-3AD0-42DA-AF57-56A496B0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644AA-815F-46EC-923F-E822FCEA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0C7-8C48-4477-8ECF-E3FB2D62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65A03-E446-4FED-A9EA-614BC43C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67283-F7E6-475E-BEF4-093B9AB4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C4B60-73D0-4C3F-BA56-90FB8FDF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F225C-209F-450A-BCF1-E3E7C624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4580A-2828-4A32-8B43-4814E065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EA7F3-96B2-4FE6-97D9-C4FC63A2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6CA2F-296A-4831-9FCB-3306F011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8E154-AF68-4881-86DA-9EA3977F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E5784-42B3-4817-8FD4-5B65DF3D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F5DDF-B8D5-47C3-A657-955EBF9A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698-3790-40F8-AB81-339700D1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09D25-67E4-4854-9CDD-4D297AD0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C7017-78F4-494D-B4B0-2BF82264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B34A1-75C6-48FD-915C-9BAED9DC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F6783-87E0-4993-A8D3-3A383DAE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0D66E-74AB-47F8-B542-56786B44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39482-2395-4EE9-BC96-AFDD75DC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99188-B941-4229-8BD9-B578A1E6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02AA6-BB5E-4B86-969A-ECBE2664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4F264-0B33-49B7-BCE8-DFC24594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3558A-F23C-4D38-AEB4-1459396D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17D3-7095-4AD9-9736-6E5EC2E9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2E273-E524-455D-AB66-93374612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1E018-0565-44C8-A6F3-69522273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686E8-41D3-44CB-BD83-7E9473CD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98F34-EBD7-4941-B55E-D01D3A44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6ABD6-6BAA-47E1-8FAE-15553333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4AADA-2A25-436E-B313-40102A37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BC856-FDE1-4AFC-90DB-DDF9BCFC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6A36B-FEDE-457D-802F-B69458C2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86131-CA83-44C8-A88E-432F6F71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62AF8-AE3C-4670-ACE2-99B1D640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994A-7CD7-4311-8AED-CFABA2EC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FB436-2F0B-4337-A802-BEDE4696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7E1B4-A25F-4009-9EC1-AB55970C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4B0A2-6B85-4CA1-A669-A71286F7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DF2AC-8DC4-4EEE-9FBA-DD4DBD5F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BE3B1-8832-49D9-979F-0DB8C436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AF0D1-4AB2-4DC0-B10D-655DAA8A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A0D9F-3665-48A3-A3A3-D148EEA7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B1EFF-DEDE-4799-A03D-F622304F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C7AC6-B53D-4769-952A-B328D5B5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05D80-1829-4858-B1EA-ADA8D1E2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B2F2-E56E-4EF2-B733-CC983E3F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C2D44-7B56-4380-B82B-C507561E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0E0BA-30E8-4BAC-A7F7-A56B5A7A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A8C9C-1ABA-4139-B8C8-6F0B08F3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6928C-A704-4ABF-90F6-E38AAFCA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D0892-639D-428A-947D-68D4C758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F00EE-26FA-46DA-9FBD-529E9476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FF35E-80D5-4702-A54A-508D3A00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85A1-160D-4CF5-B49E-39783F43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AC2F-3273-420C-8E40-892B9D7E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7F20-B935-4727-A785-280CF868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E61E-0FDF-4876-9FC1-FC68A5E0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8784-4FEB-450C-B30B-9DF08CAB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5843-CCAE-4905-B65E-BA1F8477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1F40-B1EE-4089-BEFE-B4877430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5C93-95A3-45D4-B69E-274492F5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EC3F-1FEE-4EA4-97A9-48F42AE8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7E69-76B4-4FEF-9089-10D7BCC3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1CC0-6C2C-442A-9DE9-542B4A5F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6D6CE-85AB-4BBC-A7C1-A32CE1D5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911AD-0E87-4252-8973-9F1E00C1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54E1D-458F-4658-A2ED-E1818998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BE56F-DBB8-42AC-A825-9D2532C1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721-577B-497B-A81B-3704406A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F30A-BA60-458D-B6F1-9DE23E56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541C2-1E13-4F8B-B011-31F8158B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9BB9D-98B7-4CE5-85A2-4EB7BFDA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4B9AF-9F3C-4A24-AE03-B937DB67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D9332-60EB-48C7-858C-CC596508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A79C-8442-450D-A37B-C4F332D0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8C26E-A0B0-4782-80B3-3835F68B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3ECE4-A64E-4AF1-9652-D4226F1E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302C0-A30B-4A7E-A595-1FD1A89A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22CD5-9295-4FE7-B553-CE90073D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D29-FAC7-4922-8917-784967D2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F0A5A-8317-4FE5-BCA5-96727803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4EFE-FE3A-48AC-9C11-DE0E5474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02AAD-B550-4195-9EE5-020EF3BB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45BA8-CC0C-42C7-9B81-0340F5F3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89AC2-3E61-4C04-86A7-A56C7A45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A1B2A-5E9B-48FA-AFEC-9F0BC6F9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735AF-987B-47F7-8B32-0E931F86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AE362-57D7-4796-869C-EF842934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550EA-4159-40F6-A0DC-8E50ADA5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B1B4D-9E80-42B3-B559-0C64A091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1D1-14F6-4A98-8075-FA89429F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80F5E-6CAE-43B9-BABC-8F4BC3D8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62655-3958-4CCE-BDDB-24CD8395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6671D-D32A-42B6-A559-5817196A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F9E3D-3E2B-46BE-A164-D6329C3A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70800-DBD1-45A8-8503-F92C190E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4242D-6C9F-434F-8674-626D12E5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77C7C-EEEB-4CF0-85D3-8977AEAD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F2FFA-E206-40CC-A215-DA1E3C56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F3A1F-9697-413E-9DB9-7AFA1898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395EA-E63B-4FAC-A3FE-719B5156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08E-D5A3-4EFD-9C14-821238C8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9409B-632C-4663-9ADF-284F7D66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04246-8707-44E2-B1FF-3A9BEF55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A1593-1DB3-4840-9E4A-6F51E53E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8D694-33DC-4F46-BD08-05B2CD59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87FF0-64F8-41B4-A542-F1A77B80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C6C85-2BC6-4B70-BF68-68EC653A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F10A3-36FF-4F1A-8677-354A58E6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B4688-858F-415F-899E-18250DF7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AAC75-F4CF-4313-A290-307B0714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090A9-B0C4-4E86-AC15-37632EBA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22B-5BB0-426E-989C-009F7CB7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F0A1D-5C37-437A-BC53-65EE6359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7DF37-9503-4A78-8D66-E41D68AF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0357C-90F8-43EB-B036-674072E1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E9100-4FC8-4DB2-B796-E698FD0A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74E63-FF34-4636-9965-B0FED71F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BD64D-5ABD-4C1F-A94F-AAB151A6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53DC9-973B-478C-8988-E0E708A8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0F444-2AA7-45E5-81B4-2D123847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5CB6E-D644-4CBD-8DC4-B442206F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76D54-837C-4FD4-B107-7A4A9EF4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1C0-8C01-4F28-98B1-A5B86C28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DB7E6-6C14-49C7-99DF-7E84F6B3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068C3-D1C6-4A44-BE08-7CACE846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C54A7-FD35-475E-8C5D-C3C4633D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B857E-9088-4EF0-8B83-57640ACA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E09EC-746E-4B33-A08A-4DB0AEDE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853D2-ED28-4662-987A-F1DB0826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6F6C0-5CD9-4ED9-A7A4-7A715BD8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69309-FB1F-4FC8-84D8-46B1F1FC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EF2AD-D420-4EE7-BFDA-67FD900C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7E698-999B-4B25-8F6A-7676F619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A3A-8515-46ED-A0CD-E72DBBAE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0D644-F8BD-4CBF-BA23-172528D8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984DB-D30E-41C3-B2A3-4F6D6309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7A938-EC17-4629-B270-F396C47E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40FCB-148B-4806-919F-6A468903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4A8C7-4133-4E55-81BE-26275799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EB014-C95A-4C66-8B01-261F058A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F76DE-C60E-4E9E-93C5-E8707A72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34CCE-8633-4286-A9D0-C1A29640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2F994-05CD-4788-8219-13F5DF14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CF16E-7237-4ED6-8460-08629BFF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2856-EDA2-4121-87FD-550D41E3D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6CAB-42EB-41C8-9DEF-650555DCDA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6770-AFDD-4C5A-BC70-2CC88B09AA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5515-A749-46D6-BB94-D34DC27D65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2F84-AAF6-4C71-B657-8A242207AD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2F63-419E-46D0-836D-B76FE1F3FF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5AEA-97B1-4908-9389-8C38758FEF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6417-B79F-4A4F-B934-F6C027DAD5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900F-323C-414F-BC2D-FD67C33C65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CBD8-0E73-4FA3-8CD1-F92A8503C6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B873-6FD6-4BC4-BBCC-1AA644D390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6CF6-E7C4-4628-842E-C45A1BF9E6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B19E-CBD6-46D5-883D-4386BCAB41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820800" y="0"/>
            <a:ext cx="728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0" y="1235160"/>
            <a:ext cx="9144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3240" y="1171440"/>
            <a:ext cx="913752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0" y="98568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0" y="1355760"/>
            <a:ext cx="91440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0" y="13651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4" descr=""/>
          <p:cNvPicPr/>
          <p:nvPr/>
        </p:nvPicPr>
        <p:blipFill>
          <a:blip r:embed="rId16"/>
          <a:stretch/>
        </p:blipFill>
        <p:spPr>
          <a:xfrm>
            <a:off x="3240" y="1171440"/>
            <a:ext cx="9137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"/>
          <p:cNvPicPr/>
          <p:nvPr/>
        </p:nvPicPr>
        <p:blipFill>
          <a:blip r:embed="rId1"/>
          <a:stretch/>
        </p:blipFill>
        <p:spPr>
          <a:xfrm>
            <a:off x="4680" y="1136520"/>
            <a:ext cx="913464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word/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excel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图片 9" descr=""/>
          <p:cNvPicPr/>
          <p:nvPr/>
        </p:nvPicPr>
        <p:blipFill>
          <a:blip r:embed="rId9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0" descr="png-0644"/>
          <p:cNvPicPr/>
          <p:nvPr/>
        </p:nvPicPr>
        <p:blipFill>
          <a:blip r:embed="rId10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1" descr="png-0652"/>
          <p:cNvPicPr/>
          <p:nvPr/>
        </p:nvPicPr>
        <p:blipFill>
          <a:blip r:embed="rId11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312840" y="0"/>
            <a:ext cx="874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-36360" y="912960"/>
            <a:ext cx="91803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0" y="134460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0" y="1390680"/>
            <a:ext cx="9144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4680" y="1317600"/>
            <a:ext cx="913464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1440" y="1062000"/>
            <a:ext cx="91411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6:03:20Z</dcterms:created>
  <dc:creator>ml</dc:creator>
  <dc:description/>
  <dc:language>en-US</dc:language>
  <cp:lastModifiedBy>User</cp:lastModifiedBy>
  <dcterms:modified xsi:type="dcterms:W3CDTF">2014-07-15T03:23:55Z</dcterms:modified>
  <cp:revision>7</cp:revision>
  <dc:subject/>
  <dc:title>幻灯片 1</dc:title>
</cp:coreProperties>
</file>