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471-38DE-4CB0-93CE-00DBBF2A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A18-089C-4915-B825-37A8E73F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A29-6F74-4D94-A30A-F6AE872A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6D8-157F-409D-9EF9-9452B975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075-DA88-4D6C-86AD-7773069C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008-6B0D-4643-8B2B-1AE1276B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1AC-4952-454C-8C18-2CD31F2D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6A4-FFFB-4439-B801-568199ED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9A7-0F49-4B7B-9512-D437AB7A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D63-9A7A-442A-87FF-EDDD2EC4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9F5-F409-450F-B65D-FC3FABC6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98B-0FB4-40D6-B53B-3D923CCE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CB7B-F81F-4025-A2CA-0A08D2E590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718080" y="5254560"/>
            <a:ext cx="568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聚控软件科技有限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60419" descr="QQ截图20151022163905"/>
          <p:cNvPicPr/>
          <p:nvPr/>
        </p:nvPicPr>
        <p:blipFill>
          <a:blip r:embed="rId2"/>
          <a:stretch/>
        </p:blipFill>
        <p:spPr>
          <a:xfrm>
            <a:off x="177840" y="825480"/>
            <a:ext cx="8745480" cy="52545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01" name="文本框 60420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定义策略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0421"/>
          <p:cNvSpPr/>
          <p:nvPr/>
        </p:nvSpPr>
        <p:spPr>
          <a:xfrm>
            <a:off x="2741760" y="2405160"/>
            <a:ext cx="23601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完成之后显示，再在加密策略 里勾上这个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0422"/>
          <p:cNvSpPr/>
          <p:nvPr/>
        </p:nvSpPr>
        <p:spPr>
          <a:xfrm>
            <a:off x="2193840" y="329076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0423"/>
          <p:cNvSpPr/>
          <p:nvPr/>
        </p:nvSpPr>
        <p:spPr>
          <a:xfrm>
            <a:off x="5628960" y="326880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0424"/>
          <p:cNvSpPr/>
          <p:nvPr/>
        </p:nvSpPr>
        <p:spPr>
          <a:xfrm>
            <a:off x="1847520" y="380052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0425"/>
          <p:cNvSpPr/>
          <p:nvPr/>
        </p:nvSpPr>
        <p:spPr>
          <a:xfrm>
            <a:off x="3743280" y="439092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60426"/>
          <p:cNvSpPr/>
          <p:nvPr/>
        </p:nvSpPr>
        <p:spPr>
          <a:xfrm>
            <a:off x="7393680" y="2344680"/>
            <a:ext cx="434880" cy="167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选择策略分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填写策略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添加经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添加文件后缀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点击添加策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0427"/>
          <p:cNvSpPr/>
          <p:nvPr/>
        </p:nvSpPr>
        <p:spPr>
          <a:xfrm>
            <a:off x="5877000" y="5226120"/>
            <a:ext cx="638280" cy="269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0431"/>
          <p:cNvSpPr/>
          <p:nvPr/>
        </p:nvSpPr>
        <p:spPr>
          <a:xfrm>
            <a:off x="6003720" y="493236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动作按钮: 前进或下一项 60432"/>
          <p:cNvSpPr/>
          <p:nvPr/>
        </p:nvSpPr>
        <p:spPr>
          <a:xfrm>
            <a:off x="7189920" y="4373640"/>
            <a:ext cx="583920" cy="322200"/>
          </a:xfrm>
          <a:custGeom>
            <a:avLst/>
            <a:gdLst>
              <a:gd name="textAreaLeft" fmla="*/ 20880 w 583920"/>
              <a:gd name="textAreaRight" fmla="*/ 563040 w 5839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26" h="21600">
                <a:moveTo>
                  <a:pt x="0" y="0"/>
                </a:moveTo>
                <a:lnTo>
                  <a:pt x="39126" y="0"/>
                </a:lnTo>
                <a:lnTo>
                  <a:pt x="39126" y="21600"/>
                </a:lnTo>
                <a:lnTo>
                  <a:pt x="0" y="21600"/>
                </a:lnTo>
                <a:close/>
              </a:path>
              <a:path fill="lightenLess" w="39126" h="21600">
                <a:moveTo>
                  <a:pt x="0" y="0"/>
                </a:moveTo>
                <a:lnTo>
                  <a:pt x="39126" y="0"/>
                </a:lnTo>
                <a:lnTo>
                  <a:pt x="37726" y="1400"/>
                </a:lnTo>
                <a:lnTo>
                  <a:pt x="1400" y="1400"/>
                </a:lnTo>
                <a:close/>
              </a:path>
              <a:path fill="darken" w="39126" h="21600">
                <a:moveTo>
                  <a:pt x="39126" y="0"/>
                </a:moveTo>
                <a:lnTo>
                  <a:pt x="39126" y="21600"/>
                </a:lnTo>
                <a:lnTo>
                  <a:pt x="37726" y="20200"/>
                </a:lnTo>
                <a:lnTo>
                  <a:pt x="37726" y="1400"/>
                </a:lnTo>
                <a:close/>
              </a:path>
              <a:path fill="darkenLess" w="39126" h="21600">
                <a:moveTo>
                  <a:pt x="3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26" y="20200"/>
                </a:lnTo>
                <a:close/>
              </a:path>
              <a:path fill="lighten" w="3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26" h="21600">
                <a:moveTo>
                  <a:pt x="12556" y="3794"/>
                </a:moveTo>
                <a:lnTo>
                  <a:pt x="26569" y="10800"/>
                </a:lnTo>
                <a:lnTo>
                  <a:pt x="125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1443" descr="邮件白名单"/>
          <p:cNvPicPr/>
          <p:nvPr/>
        </p:nvPicPr>
        <p:blipFill>
          <a:blip r:embed="rId2"/>
          <a:stretch/>
        </p:blipFill>
        <p:spPr>
          <a:xfrm>
            <a:off x="225360" y="8208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61444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邮件白名单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1445"/>
          <p:cNvSpPr/>
          <p:nvPr/>
        </p:nvSpPr>
        <p:spPr>
          <a:xfrm>
            <a:off x="6884280" y="2481120"/>
            <a:ext cx="1278000" cy="2232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启动邮件接收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或者发送人白名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添加邮箱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动作按钮: 前进或下一项 61446"/>
          <p:cNvSpPr/>
          <p:nvPr/>
        </p:nvSpPr>
        <p:spPr>
          <a:xfrm>
            <a:off x="7054920" y="197820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62467" descr="服务器白名单"/>
          <p:cNvPicPr/>
          <p:nvPr/>
        </p:nvPicPr>
        <p:blipFill>
          <a:blip r:embed="rId2"/>
          <a:stretch/>
        </p:blipFill>
        <p:spPr>
          <a:xfrm>
            <a:off x="254160" y="819000"/>
            <a:ext cx="8745480" cy="52549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2468"/>
          <p:cNvSpPr/>
          <p:nvPr/>
        </p:nvSpPr>
        <p:spPr>
          <a:xfrm>
            <a:off x="3621960" y="1922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服务器白名单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2469"/>
          <p:cNvSpPr/>
          <p:nvPr/>
        </p:nvSpPr>
        <p:spPr>
          <a:xfrm>
            <a:off x="6763680" y="2463840"/>
            <a:ext cx="1268280" cy="187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开启服务器白名单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添加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P 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和端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动作按钮: 前进或下一项 62470"/>
          <p:cNvSpPr/>
          <p:nvPr/>
        </p:nvSpPr>
        <p:spPr>
          <a:xfrm>
            <a:off x="7180200" y="197820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3492" descr="I:\PPT\TEST副本.pngTEST副本"/>
          <p:cNvPicPr/>
          <p:nvPr/>
        </p:nvPicPr>
        <p:blipFill>
          <a:blip r:embed="rId2"/>
          <a:stretch/>
        </p:blipFill>
        <p:spPr>
          <a:xfrm>
            <a:off x="165240" y="1027080"/>
            <a:ext cx="8745480" cy="48229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63493"/>
          <p:cNvSpPr/>
          <p:nvPr/>
        </p:nvSpPr>
        <p:spPr>
          <a:xfrm>
            <a:off x="3377880" y="19224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审批日志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动作按钮: 前进或下一项 63494"/>
          <p:cNvSpPr/>
          <p:nvPr/>
        </p:nvSpPr>
        <p:spPr>
          <a:xfrm>
            <a:off x="7257960" y="393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4515" descr="加密备份"/>
          <p:cNvPicPr/>
          <p:nvPr/>
        </p:nvPicPr>
        <p:blipFill>
          <a:blip r:embed="rId2"/>
          <a:stretch/>
        </p:blipFill>
        <p:spPr>
          <a:xfrm>
            <a:off x="154080" y="81756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64516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备份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4517"/>
          <p:cNvSpPr/>
          <p:nvPr/>
        </p:nvSpPr>
        <p:spPr>
          <a:xfrm>
            <a:off x="5213160" y="3233880"/>
            <a:ext cx="466920" cy="1163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备份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保留备份文件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点击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动作按钮: 前进或下一项 64518"/>
          <p:cNvSpPr/>
          <p:nvPr/>
        </p:nvSpPr>
        <p:spPr>
          <a:xfrm>
            <a:off x="7054920" y="262908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5539" descr="全盘加解密"/>
          <p:cNvPicPr/>
          <p:nvPr/>
        </p:nvPicPr>
        <p:blipFill>
          <a:blip r:embed="rId2"/>
          <a:stretch/>
        </p:blipFill>
        <p:spPr>
          <a:xfrm>
            <a:off x="206280" y="86364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5540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盘加解密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5542"/>
          <p:cNvSpPr/>
          <p:nvPr/>
        </p:nvSpPr>
        <p:spPr>
          <a:xfrm>
            <a:off x="6252120" y="2933640"/>
            <a:ext cx="1716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全盘加密忽略第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-6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5544"/>
          <p:cNvSpPr/>
          <p:nvPr/>
        </p:nvSpPr>
        <p:spPr>
          <a:xfrm>
            <a:off x="3678120" y="3778200"/>
            <a:ext cx="2105280" cy="112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5545"/>
          <p:cNvSpPr/>
          <p:nvPr/>
        </p:nvSpPr>
        <p:spPr>
          <a:xfrm>
            <a:off x="3439800" y="3193920"/>
            <a:ext cx="14608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注：例外目录默认的不可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可添加其它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动作按钮: 前进或下一项 65546"/>
          <p:cNvSpPr/>
          <p:nvPr/>
        </p:nvSpPr>
        <p:spPr>
          <a:xfrm>
            <a:off x="7199280" y="4874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66563" descr="QQ截图20151022195358"/>
          <p:cNvPicPr/>
          <p:nvPr/>
        </p:nvPicPr>
        <p:blipFill>
          <a:blip r:embed="rId2"/>
          <a:stretch/>
        </p:blipFill>
        <p:spPr>
          <a:xfrm>
            <a:off x="209520" y="8082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66564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手机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6565"/>
          <p:cNvSpPr/>
          <p:nvPr/>
        </p:nvSpPr>
        <p:spPr>
          <a:xfrm>
            <a:off x="4378320" y="2166840"/>
            <a:ext cx="2923920" cy="1053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此步骤设置需要手机端连上了服务器才能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可设置手机端登录的用户名 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手机审批文件在解密审批处设置选择 手机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67585"/>
          <p:cNvSpPr/>
          <p:nvPr/>
        </p:nvSpPr>
        <p:spPr>
          <a:xfrm>
            <a:off x="3140280" y="1778040"/>
            <a:ext cx="274104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客户端常用操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68609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68610" descr="申请解密"/>
          <p:cNvPicPr/>
          <p:nvPr/>
        </p:nvPicPr>
        <p:blipFill>
          <a:blip r:embed="rId2"/>
          <a:stretch/>
        </p:blipFill>
        <p:spPr>
          <a:xfrm>
            <a:off x="27000" y="714240"/>
            <a:ext cx="4562640" cy="34671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68611" descr="提交申请"/>
          <p:cNvPicPr/>
          <p:nvPr/>
        </p:nvPicPr>
        <p:blipFill>
          <a:blip r:embed="rId3"/>
          <a:stretch/>
        </p:blipFill>
        <p:spPr>
          <a:xfrm>
            <a:off x="3706920" y="2190600"/>
            <a:ext cx="5437080" cy="396576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68612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8613"/>
          <p:cNvSpPr/>
          <p:nvPr/>
        </p:nvSpPr>
        <p:spPr>
          <a:xfrm>
            <a:off x="5875920" y="714240"/>
            <a:ext cx="195300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一个审批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提交申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上箭头 68614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下箭头 68615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8616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上箭头 68617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下箭头 68618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68619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上箭头 68620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69633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9634" descr="审批人弹出窗口"/>
          <p:cNvPicPr/>
          <p:nvPr/>
        </p:nvPicPr>
        <p:blipFill>
          <a:blip r:embed="rId2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9635" descr="审批通过"/>
          <p:cNvPicPr/>
          <p:nvPr/>
        </p:nvPicPr>
        <p:blipFill>
          <a:blip r:embed="rId3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69636"/>
          <p:cNvSpPr/>
          <p:nvPr/>
        </p:nvSpPr>
        <p:spPr>
          <a:xfrm>
            <a:off x="679680" y="3822840"/>
            <a:ext cx="12474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人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9637"/>
          <p:cNvSpPr/>
          <p:nvPr/>
        </p:nvSpPr>
        <p:spPr>
          <a:xfrm>
            <a:off x="1930320" y="2549520"/>
            <a:ext cx="765360" cy="244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上箭头 69638"/>
          <p:cNvSpPr/>
          <p:nvPr/>
        </p:nvSpPr>
        <p:spPr>
          <a:xfrm>
            <a:off x="1081080" y="3182760"/>
            <a:ext cx="490680" cy="520920"/>
          </a:xfrm>
          <a:prstGeom prst="upArrow">
            <a:avLst>
              <a:gd name="adj1" fmla="val 50000"/>
              <a:gd name="adj2" fmla="val 265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69639"/>
          <p:cNvSpPr/>
          <p:nvPr/>
        </p:nvSpPr>
        <p:spPr>
          <a:xfrm>
            <a:off x="4462560" y="5616720"/>
            <a:ext cx="26190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查看之后弹出窗口，点击通过审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9640" descr="审批人弹出窗口"/>
          <p:cNvPicPr/>
          <p:nvPr/>
        </p:nvPicPr>
        <p:blipFill>
          <a:blip r:embed="rId4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69641" descr="审批通过"/>
          <p:cNvPicPr/>
          <p:nvPr/>
        </p:nvPicPr>
        <p:blipFill>
          <a:blip r:embed="rId5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2229" descr="加密策略"/>
          <p:cNvPicPr/>
          <p:nvPr/>
        </p:nvPicPr>
        <p:blipFill>
          <a:blip r:embed="rId2"/>
          <a:stretch/>
        </p:blipFill>
        <p:spPr>
          <a:xfrm>
            <a:off x="239760" y="784080"/>
            <a:ext cx="8734320" cy="5259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2"/>
          <p:cNvSpPr/>
          <p:nvPr/>
        </p:nvSpPr>
        <p:spPr>
          <a:xfrm>
            <a:off x="6986520" y="2184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6991200" y="268272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2233"/>
          <p:cNvSpPr/>
          <p:nvPr/>
        </p:nvSpPr>
        <p:spPr>
          <a:xfrm>
            <a:off x="7795080" y="2558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加密参数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加密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2234"/>
          <p:cNvSpPr/>
          <p:nvPr/>
        </p:nvSpPr>
        <p:spPr>
          <a:xfrm>
            <a:off x="7553160" y="328932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透明加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2235"/>
          <p:cNvSpPr/>
          <p:nvPr/>
        </p:nvSpPr>
        <p:spPr>
          <a:xfrm>
            <a:off x="7540200" y="386712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002360" y="3419640"/>
            <a:ext cx="144720" cy="14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7002360" y="401940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2242"/>
          <p:cNvSpPr/>
          <p:nvPr/>
        </p:nvSpPr>
        <p:spPr>
          <a:xfrm>
            <a:off x="7486560" y="2055960"/>
            <a:ext cx="8665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2246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策略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动作按钮: 后退或前一项 52247"/>
          <p:cNvSpPr/>
          <p:nvPr/>
        </p:nvSpPr>
        <p:spPr>
          <a:xfrm>
            <a:off x="7147080" y="4759200"/>
            <a:ext cx="728640" cy="343080"/>
          </a:xfrm>
          <a:custGeom>
            <a:avLst/>
            <a:gdLst>
              <a:gd name="textAreaLeft" fmla="*/ 21960 w 728640"/>
              <a:gd name="textAreaRight" fmla="*/ 706680 w 72864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45849" h="21600">
                <a:moveTo>
                  <a:pt x="0" y="0"/>
                </a:moveTo>
                <a:lnTo>
                  <a:pt x="45849" y="0"/>
                </a:lnTo>
                <a:lnTo>
                  <a:pt x="45849" y="21600"/>
                </a:lnTo>
                <a:lnTo>
                  <a:pt x="0" y="21600"/>
                </a:lnTo>
                <a:close/>
              </a:path>
              <a:path fill="lightenLess" w="45849" h="21600">
                <a:moveTo>
                  <a:pt x="0" y="0"/>
                </a:moveTo>
                <a:lnTo>
                  <a:pt x="45849" y="0"/>
                </a:lnTo>
                <a:lnTo>
                  <a:pt x="44449" y="1400"/>
                </a:lnTo>
                <a:lnTo>
                  <a:pt x="1400" y="1400"/>
                </a:lnTo>
                <a:close/>
              </a:path>
              <a:path fill="darken" w="45849" h="21600">
                <a:moveTo>
                  <a:pt x="45849" y="0"/>
                </a:moveTo>
                <a:lnTo>
                  <a:pt x="45849" y="21600"/>
                </a:lnTo>
                <a:lnTo>
                  <a:pt x="44449" y="20200"/>
                </a:lnTo>
                <a:lnTo>
                  <a:pt x="44449" y="1400"/>
                </a:lnTo>
                <a:close/>
              </a:path>
              <a:path fill="darkenLess" w="45849" h="21600">
                <a:moveTo>
                  <a:pt x="4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49" y="20200"/>
                </a:lnTo>
                <a:close/>
              </a:path>
              <a:path fill="lighten" w="4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49" h="21600">
                <a:moveTo>
                  <a:pt x="15918" y="10800"/>
                </a:moveTo>
                <a:lnTo>
                  <a:pt x="29931" y="3794"/>
                </a:lnTo>
                <a:lnTo>
                  <a:pt x="299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70657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70658" descr="弹出窗口"/>
          <p:cNvPicPr/>
          <p:nvPr/>
        </p:nvPicPr>
        <p:blipFill>
          <a:blip r:embed="rId2"/>
          <a:stretch/>
        </p:blipFill>
        <p:spPr>
          <a:xfrm>
            <a:off x="15840" y="96192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0659" descr="下载文件"/>
          <p:cNvPicPr/>
          <p:nvPr/>
        </p:nvPicPr>
        <p:blipFill>
          <a:blip r:embed="rId3"/>
          <a:stretch/>
        </p:blipFill>
        <p:spPr>
          <a:xfrm>
            <a:off x="3011400" y="968400"/>
            <a:ext cx="6132600" cy="4303800"/>
          </a:xfrm>
          <a:prstGeom prst="rect">
            <a:avLst/>
          </a:prstGeom>
          <a:ln w="0">
            <a:noFill/>
          </a:ln>
        </p:spPr>
      </p:pic>
      <p:sp>
        <p:nvSpPr>
          <p:cNvPr id="160" name="矩形 70660"/>
          <p:cNvSpPr/>
          <p:nvPr/>
        </p:nvSpPr>
        <p:spPr>
          <a:xfrm>
            <a:off x="2265480" y="2695680"/>
            <a:ext cx="655560" cy="276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0661"/>
          <p:cNvSpPr/>
          <p:nvPr/>
        </p:nvSpPr>
        <p:spPr>
          <a:xfrm>
            <a:off x="638280" y="4029120"/>
            <a:ext cx="155232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通过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申请者电脑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上箭头 70662"/>
          <p:cNvSpPr/>
          <p:nvPr/>
        </p:nvSpPr>
        <p:spPr>
          <a:xfrm>
            <a:off x="1068480" y="3448080"/>
            <a:ext cx="571320" cy="48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0663"/>
          <p:cNvSpPr/>
          <p:nvPr/>
        </p:nvSpPr>
        <p:spPr>
          <a:xfrm>
            <a:off x="4302360" y="5375160"/>
            <a:ext cx="30762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弹出接收解密文件的窗口，点击下载文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下载完成之后会弹出解密文件所在的目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71681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71682" descr="已解密文件"/>
          <p:cNvPicPr/>
          <p:nvPr/>
        </p:nvPicPr>
        <p:blipFill>
          <a:blip r:embed="rId2"/>
          <a:stretch/>
        </p:blipFill>
        <p:spPr>
          <a:xfrm>
            <a:off x="806400" y="896760"/>
            <a:ext cx="767736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72705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72706" descr="申请外发"/>
          <p:cNvPicPr/>
          <p:nvPr/>
        </p:nvPicPr>
        <p:blipFill>
          <a:blip r:embed="rId2"/>
          <a:stretch/>
        </p:blipFill>
        <p:spPr>
          <a:xfrm>
            <a:off x="42840" y="776160"/>
            <a:ext cx="4191120" cy="3124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72707" descr="提交外发"/>
          <p:cNvPicPr/>
          <p:nvPr/>
        </p:nvPicPr>
        <p:blipFill>
          <a:blip r:embed="rId3"/>
          <a:stretch/>
        </p:blipFill>
        <p:spPr>
          <a:xfrm>
            <a:off x="3352680" y="2085840"/>
            <a:ext cx="5775480" cy="40179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72708"/>
          <p:cNvSpPr/>
          <p:nvPr/>
        </p:nvSpPr>
        <p:spPr>
          <a:xfrm>
            <a:off x="5828400" y="714240"/>
            <a:ext cx="195300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一个审批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提交申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72709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72710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外发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外发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上箭头 72711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73729"/>
          <p:cNvSpPr/>
          <p:nvPr/>
        </p:nvSpPr>
        <p:spPr>
          <a:xfrm>
            <a:off x="3545280" y="284040"/>
            <a:ext cx="2190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73730" descr="审批人弹出窗口"/>
          <p:cNvPicPr/>
          <p:nvPr/>
        </p:nvPicPr>
        <p:blipFill>
          <a:blip r:embed="rId2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3731" descr="审批通过"/>
          <p:cNvPicPr/>
          <p:nvPr/>
        </p:nvPicPr>
        <p:blipFill>
          <a:blip r:embed="rId3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73732"/>
          <p:cNvSpPr/>
          <p:nvPr/>
        </p:nvSpPr>
        <p:spPr>
          <a:xfrm>
            <a:off x="679680" y="3822840"/>
            <a:ext cx="12474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人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3733"/>
          <p:cNvSpPr/>
          <p:nvPr/>
        </p:nvSpPr>
        <p:spPr>
          <a:xfrm>
            <a:off x="1930320" y="2549520"/>
            <a:ext cx="765360" cy="244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上箭头 73734"/>
          <p:cNvSpPr/>
          <p:nvPr/>
        </p:nvSpPr>
        <p:spPr>
          <a:xfrm>
            <a:off x="1081080" y="3182760"/>
            <a:ext cx="490680" cy="520920"/>
          </a:xfrm>
          <a:prstGeom prst="upArrow">
            <a:avLst>
              <a:gd name="adj1" fmla="val 50000"/>
              <a:gd name="adj2" fmla="val 265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3735"/>
          <p:cNvSpPr/>
          <p:nvPr/>
        </p:nvSpPr>
        <p:spPr>
          <a:xfrm>
            <a:off x="4462560" y="5616720"/>
            <a:ext cx="26190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查看之后弹出窗口，点击通过审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73736" descr="审批人弹出窗口"/>
          <p:cNvPicPr/>
          <p:nvPr/>
        </p:nvPicPr>
        <p:blipFill>
          <a:blip r:embed="rId4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3737" descr="审批通过"/>
          <p:cNvPicPr/>
          <p:nvPr/>
        </p:nvPicPr>
        <p:blipFill>
          <a:blip r:embed="rId5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74753"/>
          <p:cNvSpPr/>
          <p:nvPr/>
        </p:nvSpPr>
        <p:spPr>
          <a:xfrm>
            <a:off x="3545280" y="284040"/>
            <a:ext cx="2190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74754" descr="弹出窗口"/>
          <p:cNvPicPr/>
          <p:nvPr/>
        </p:nvPicPr>
        <p:blipFill>
          <a:blip r:embed="rId2"/>
          <a:stretch/>
        </p:blipFill>
        <p:spPr>
          <a:xfrm>
            <a:off x="15840" y="96192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184" name="矩形 74755"/>
          <p:cNvSpPr/>
          <p:nvPr/>
        </p:nvSpPr>
        <p:spPr>
          <a:xfrm>
            <a:off x="2265480" y="2695680"/>
            <a:ext cx="655560" cy="276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4756"/>
          <p:cNvSpPr/>
          <p:nvPr/>
        </p:nvSpPr>
        <p:spPr>
          <a:xfrm>
            <a:off x="638280" y="4029120"/>
            <a:ext cx="155232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通过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申请者电脑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上箭头 74757"/>
          <p:cNvSpPr/>
          <p:nvPr/>
        </p:nvSpPr>
        <p:spPr>
          <a:xfrm>
            <a:off x="1068480" y="3448080"/>
            <a:ext cx="571320" cy="48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74758"/>
          <p:cNvSpPr/>
          <p:nvPr/>
        </p:nvSpPr>
        <p:spPr>
          <a:xfrm>
            <a:off x="4352760" y="5375160"/>
            <a:ext cx="322884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弹出接收外发包文件的窗口，点击下载文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下载完成之后会弹出外发包文件所在的目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74759" descr="下载外发包"/>
          <p:cNvPicPr/>
          <p:nvPr/>
        </p:nvPicPr>
        <p:blipFill>
          <a:blip r:embed="rId3"/>
          <a:stretch/>
        </p:blipFill>
        <p:spPr>
          <a:xfrm>
            <a:off x="3063960" y="961920"/>
            <a:ext cx="6080040" cy="429264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74760"/>
          <p:cNvSpPr/>
          <p:nvPr/>
        </p:nvSpPr>
        <p:spPr>
          <a:xfrm>
            <a:off x="7136640" y="4322880"/>
            <a:ext cx="1140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选择单文件打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74761"/>
          <p:cNvSpPr/>
          <p:nvPr/>
        </p:nvSpPr>
        <p:spPr>
          <a:xfrm>
            <a:off x="4222440" y="3379680"/>
            <a:ext cx="24865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注：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多文件打包  针对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大型工程制图包含多个子文件的图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75777"/>
          <p:cNvSpPr/>
          <p:nvPr/>
        </p:nvSpPr>
        <p:spPr>
          <a:xfrm>
            <a:off x="3570840" y="2700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75778" descr="外发包"/>
          <p:cNvPicPr/>
          <p:nvPr/>
        </p:nvPicPr>
        <p:blipFill>
          <a:blip r:embed="rId2"/>
          <a:stretch/>
        </p:blipFill>
        <p:spPr>
          <a:xfrm>
            <a:off x="735120" y="1114560"/>
            <a:ext cx="7600680" cy="4356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75779"/>
          <p:cNvSpPr/>
          <p:nvPr/>
        </p:nvSpPr>
        <p:spPr>
          <a:xfrm>
            <a:off x="2776680" y="1909800"/>
            <a:ext cx="2039760" cy="604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5780"/>
          <p:cNvSpPr/>
          <p:nvPr/>
        </p:nvSpPr>
        <p:spPr>
          <a:xfrm>
            <a:off x="4585320" y="2733840"/>
            <a:ext cx="1278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下载外发包文件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060080" y="3429000"/>
            <a:ext cx="6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愿与您共创辉煌、为您服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780000" y="1486080"/>
            <a:ext cx="1584000" cy="158400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53264" descr="加密参数"/>
          <p:cNvPicPr/>
          <p:nvPr/>
        </p:nvPicPr>
        <p:blipFill>
          <a:blip r:embed="rId2"/>
          <a:stretch/>
        </p:blipFill>
        <p:spPr>
          <a:xfrm>
            <a:off x="252360" y="790560"/>
            <a:ext cx="873432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3262"/>
          <p:cNvSpPr/>
          <p:nvPr/>
        </p:nvSpPr>
        <p:spPr>
          <a:xfrm>
            <a:off x="7454520" y="255888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参数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6829560" y="2184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6824520" y="272736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824520" y="3419640"/>
            <a:ext cx="144720" cy="14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3276"/>
          <p:cNvSpPr/>
          <p:nvPr/>
        </p:nvSpPr>
        <p:spPr>
          <a:xfrm>
            <a:off x="7415280" y="2048040"/>
            <a:ext cx="8665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3277"/>
          <p:cNvSpPr/>
          <p:nvPr/>
        </p:nvSpPr>
        <p:spPr>
          <a:xfrm>
            <a:off x="7489440" y="328284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3278"/>
          <p:cNvSpPr/>
          <p:nvPr/>
        </p:nvSpPr>
        <p:spPr>
          <a:xfrm>
            <a:off x="7311960" y="255888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3280"/>
          <p:cNvSpPr/>
          <p:nvPr/>
        </p:nvSpPr>
        <p:spPr>
          <a:xfrm>
            <a:off x="3917880" y="2327400"/>
            <a:ext cx="17809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注：根据实际情况选择对应的参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3281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参数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动作按钮: 后退或前一项 53282"/>
          <p:cNvSpPr/>
          <p:nvPr/>
        </p:nvSpPr>
        <p:spPr>
          <a:xfrm>
            <a:off x="7311960" y="4405320"/>
            <a:ext cx="657360" cy="322200"/>
          </a:xfrm>
          <a:custGeom>
            <a:avLst/>
            <a:gdLst>
              <a:gd name="textAreaLeft" fmla="*/ 20880 w 657360"/>
              <a:gd name="textAreaRight" fmla="*/ 636480 w 657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4044" h="21600">
                <a:moveTo>
                  <a:pt x="0" y="0"/>
                </a:moveTo>
                <a:lnTo>
                  <a:pt x="44044" y="0"/>
                </a:lnTo>
                <a:lnTo>
                  <a:pt x="44044" y="21600"/>
                </a:lnTo>
                <a:lnTo>
                  <a:pt x="0" y="21600"/>
                </a:lnTo>
                <a:close/>
              </a:path>
              <a:path fill="lightenLess" w="44044" h="21600">
                <a:moveTo>
                  <a:pt x="0" y="0"/>
                </a:moveTo>
                <a:lnTo>
                  <a:pt x="44044" y="0"/>
                </a:lnTo>
                <a:lnTo>
                  <a:pt x="42644" y="1400"/>
                </a:lnTo>
                <a:lnTo>
                  <a:pt x="1400" y="1400"/>
                </a:lnTo>
                <a:close/>
              </a:path>
              <a:path fill="darken" w="44044" h="21600">
                <a:moveTo>
                  <a:pt x="44044" y="0"/>
                </a:moveTo>
                <a:lnTo>
                  <a:pt x="44044" y="21600"/>
                </a:lnTo>
                <a:lnTo>
                  <a:pt x="42644" y="20200"/>
                </a:lnTo>
                <a:lnTo>
                  <a:pt x="42644" y="1400"/>
                </a:lnTo>
                <a:close/>
              </a:path>
              <a:path fill="darkenLess" w="44044" h="21600">
                <a:moveTo>
                  <a:pt x="44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4" y="20200"/>
                </a:lnTo>
                <a:close/>
              </a:path>
              <a:path fill="lighten" w="44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4" h="21600">
                <a:moveTo>
                  <a:pt x="15015" y="10800"/>
                </a:moveTo>
                <a:lnTo>
                  <a:pt x="29028" y="3794"/>
                </a:lnTo>
                <a:lnTo>
                  <a:pt x="290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logo"/>
          <p:cNvPicPr/>
          <p:nvPr/>
        </p:nvPicPr>
        <p:blipFill>
          <a:blip r:embed="rId2"/>
          <a:stretch/>
        </p:blipFill>
        <p:spPr>
          <a:xfrm>
            <a:off x="6804000" y="4508640"/>
            <a:ext cx="1873440" cy="1487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4277" descr="解密审批1"/>
          <p:cNvPicPr/>
          <p:nvPr/>
        </p:nvPicPr>
        <p:blipFill>
          <a:blip r:embed="rId3"/>
          <a:stretch/>
        </p:blipFill>
        <p:spPr>
          <a:xfrm>
            <a:off x="157320" y="782640"/>
            <a:ext cx="873432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54278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解密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4279"/>
          <p:cNvSpPr/>
          <p:nvPr/>
        </p:nvSpPr>
        <p:spPr>
          <a:xfrm>
            <a:off x="5119200" y="3319560"/>
            <a:ext cx="1258200" cy="1585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点击添加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双击添加审批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填写名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审批的电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审批类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点击添加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动作按钮: 前进或下一项 54280"/>
          <p:cNvSpPr/>
          <p:nvPr/>
        </p:nvSpPr>
        <p:spPr>
          <a:xfrm>
            <a:off x="7346880" y="326880"/>
            <a:ext cx="584280" cy="32256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9106" h="21600">
                <a:moveTo>
                  <a:pt x="0" y="0"/>
                </a:moveTo>
                <a:lnTo>
                  <a:pt x="39106" y="0"/>
                </a:lnTo>
                <a:lnTo>
                  <a:pt x="39106" y="21600"/>
                </a:lnTo>
                <a:lnTo>
                  <a:pt x="0" y="21600"/>
                </a:lnTo>
                <a:close/>
              </a:path>
              <a:path fill="lightenLess" w="39106" h="21600">
                <a:moveTo>
                  <a:pt x="0" y="0"/>
                </a:moveTo>
                <a:lnTo>
                  <a:pt x="39106" y="0"/>
                </a:lnTo>
                <a:lnTo>
                  <a:pt x="37706" y="1400"/>
                </a:lnTo>
                <a:lnTo>
                  <a:pt x="1400" y="1400"/>
                </a:lnTo>
                <a:close/>
              </a:path>
              <a:path fill="darken" w="39106" h="21600">
                <a:moveTo>
                  <a:pt x="39106" y="0"/>
                </a:moveTo>
                <a:lnTo>
                  <a:pt x="39106" y="21600"/>
                </a:lnTo>
                <a:lnTo>
                  <a:pt x="37706" y="20200"/>
                </a:lnTo>
                <a:lnTo>
                  <a:pt x="37706" y="1400"/>
                </a:lnTo>
                <a:close/>
              </a:path>
              <a:path fill="darkenLess" w="39106" h="21600">
                <a:moveTo>
                  <a:pt x="39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06" y="20200"/>
                </a:lnTo>
                <a:close/>
              </a:path>
              <a:path fill="lighten" w="39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06" h="21600">
                <a:moveTo>
                  <a:pt x="12547" y="3794"/>
                </a:moveTo>
                <a:lnTo>
                  <a:pt x="26560" y="10800"/>
                </a:lnTo>
                <a:lnTo>
                  <a:pt x="125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55301" descr="解密审批"/>
          <p:cNvPicPr/>
          <p:nvPr/>
        </p:nvPicPr>
        <p:blipFill>
          <a:blip r:embed="rId2"/>
          <a:stretch/>
        </p:blipFill>
        <p:spPr>
          <a:xfrm>
            <a:off x="206280" y="781200"/>
            <a:ext cx="8734680" cy="5257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55302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解密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5303"/>
          <p:cNvSpPr/>
          <p:nvPr/>
        </p:nvSpPr>
        <p:spPr>
          <a:xfrm>
            <a:off x="7324560" y="406080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6829560" y="4173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动作按钮: 前进或下一项 55305"/>
          <p:cNvSpPr/>
          <p:nvPr/>
        </p:nvSpPr>
        <p:spPr>
          <a:xfrm>
            <a:off x="7346880" y="2139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56323" descr="文件权限1"/>
          <p:cNvPicPr/>
          <p:nvPr/>
        </p:nvPicPr>
        <p:blipFill>
          <a:blip r:embed="rId2"/>
          <a:stretch/>
        </p:blipFill>
        <p:spPr>
          <a:xfrm>
            <a:off x="182520" y="85248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56324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文件权限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6325"/>
          <p:cNvSpPr/>
          <p:nvPr/>
        </p:nvSpPr>
        <p:spPr>
          <a:xfrm>
            <a:off x="6769440" y="2682720"/>
            <a:ext cx="1262520" cy="151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权限策略</a:t>
            </a: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（可添加自定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设置当前权限可访问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6327"/>
          <p:cNvSpPr/>
          <p:nvPr/>
        </p:nvSpPr>
        <p:spPr>
          <a:xfrm>
            <a:off x="5204160" y="4309920"/>
            <a:ext cx="4291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6328"/>
          <p:cNvSpPr/>
          <p:nvPr/>
        </p:nvSpPr>
        <p:spPr>
          <a:xfrm>
            <a:off x="5497560" y="4614840"/>
            <a:ext cx="52236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动作按钮: 前进或下一项 56329"/>
          <p:cNvSpPr/>
          <p:nvPr/>
        </p:nvSpPr>
        <p:spPr>
          <a:xfrm>
            <a:off x="7054920" y="2139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57347" descr="解密Ukey"/>
          <p:cNvPicPr/>
          <p:nvPr/>
        </p:nvPicPr>
        <p:blipFill>
          <a:blip r:embed="rId2"/>
          <a:stretch/>
        </p:blipFill>
        <p:spPr>
          <a:xfrm>
            <a:off x="179280" y="81612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7348"/>
          <p:cNvSpPr/>
          <p:nvPr/>
        </p:nvSpPr>
        <p:spPr>
          <a:xfrm>
            <a:off x="3223440" y="210960"/>
            <a:ext cx="2196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解密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Ukey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7349"/>
          <p:cNvSpPr/>
          <p:nvPr/>
        </p:nvSpPr>
        <p:spPr>
          <a:xfrm>
            <a:off x="6536880" y="2004840"/>
            <a:ext cx="1794240" cy="187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把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插在服务器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解密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的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点击制作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动作按钮: 前进或下一项 57352"/>
          <p:cNvSpPr/>
          <p:nvPr/>
        </p:nvSpPr>
        <p:spPr>
          <a:xfrm>
            <a:off x="7346880" y="4124160"/>
            <a:ext cx="584280" cy="32256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9106" h="21600">
                <a:moveTo>
                  <a:pt x="0" y="0"/>
                </a:moveTo>
                <a:lnTo>
                  <a:pt x="39106" y="0"/>
                </a:lnTo>
                <a:lnTo>
                  <a:pt x="39106" y="21600"/>
                </a:lnTo>
                <a:lnTo>
                  <a:pt x="0" y="21600"/>
                </a:lnTo>
                <a:close/>
              </a:path>
              <a:path fill="lightenLess" w="39106" h="21600">
                <a:moveTo>
                  <a:pt x="0" y="0"/>
                </a:moveTo>
                <a:lnTo>
                  <a:pt x="39106" y="0"/>
                </a:lnTo>
                <a:lnTo>
                  <a:pt x="37706" y="1400"/>
                </a:lnTo>
                <a:lnTo>
                  <a:pt x="1400" y="1400"/>
                </a:lnTo>
                <a:close/>
              </a:path>
              <a:path fill="darken" w="39106" h="21600">
                <a:moveTo>
                  <a:pt x="39106" y="0"/>
                </a:moveTo>
                <a:lnTo>
                  <a:pt x="39106" y="21600"/>
                </a:lnTo>
                <a:lnTo>
                  <a:pt x="37706" y="20200"/>
                </a:lnTo>
                <a:lnTo>
                  <a:pt x="37706" y="1400"/>
                </a:lnTo>
                <a:close/>
              </a:path>
              <a:path fill="darkenLess" w="39106" h="21600">
                <a:moveTo>
                  <a:pt x="39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06" y="20200"/>
                </a:lnTo>
                <a:close/>
              </a:path>
              <a:path fill="lighten" w="39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06" h="21600">
                <a:moveTo>
                  <a:pt x="12547" y="3794"/>
                </a:moveTo>
                <a:lnTo>
                  <a:pt x="26560" y="10800"/>
                </a:lnTo>
                <a:lnTo>
                  <a:pt x="125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58371"/>
          <p:cNvSpPr/>
          <p:nvPr/>
        </p:nvSpPr>
        <p:spPr>
          <a:xfrm>
            <a:off x="3363480" y="210960"/>
            <a:ext cx="1611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离线设置步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8372" descr="离线策略1"/>
          <p:cNvPicPr/>
          <p:nvPr/>
        </p:nvPicPr>
        <p:blipFill>
          <a:blip r:embed="rId2"/>
          <a:stretch/>
        </p:blipFill>
        <p:spPr>
          <a:xfrm>
            <a:off x="158760" y="8208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58373"/>
          <p:cNvSpPr/>
          <p:nvPr/>
        </p:nvSpPr>
        <p:spPr>
          <a:xfrm>
            <a:off x="6954840" y="2309760"/>
            <a:ext cx="466920" cy="151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开启离线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动作按钮: 前进或下一项 58374"/>
          <p:cNvSpPr/>
          <p:nvPr/>
        </p:nvSpPr>
        <p:spPr>
          <a:xfrm>
            <a:off x="7054920" y="18176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59396"/>
          <p:cNvSpPr/>
          <p:nvPr/>
        </p:nvSpPr>
        <p:spPr>
          <a:xfrm>
            <a:off x="3363480" y="210960"/>
            <a:ext cx="1611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离线设置步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9397" descr="QQ截图20151022155800"/>
          <p:cNvPicPr/>
          <p:nvPr/>
        </p:nvPicPr>
        <p:blipFill>
          <a:blip r:embed="rId2"/>
          <a:stretch/>
        </p:blipFill>
        <p:spPr>
          <a:xfrm>
            <a:off x="193680" y="8082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9398"/>
          <p:cNvSpPr/>
          <p:nvPr/>
        </p:nvSpPr>
        <p:spPr>
          <a:xfrm>
            <a:off x="2754000" y="311148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设置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9399"/>
          <p:cNvSpPr/>
          <p:nvPr/>
        </p:nvSpPr>
        <p:spPr>
          <a:xfrm>
            <a:off x="6779160" y="1959120"/>
            <a:ext cx="72936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选择保存路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59400" descr="QQ截图20151022160314"/>
          <p:cNvPicPr/>
          <p:nvPr/>
        </p:nvPicPr>
        <p:blipFill>
          <a:blip r:embed="rId3"/>
          <a:stretch/>
        </p:blipFill>
        <p:spPr>
          <a:xfrm>
            <a:off x="6234120" y="4060800"/>
            <a:ext cx="1098720" cy="16542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59401"/>
          <p:cNvSpPr/>
          <p:nvPr/>
        </p:nvSpPr>
        <p:spPr>
          <a:xfrm>
            <a:off x="7430040" y="4197240"/>
            <a:ext cx="1411920" cy="946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客户端电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按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hift+ctrl+F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显示图标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右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导入离线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9402"/>
          <p:cNvSpPr/>
          <p:nvPr/>
        </p:nvSpPr>
        <p:spPr>
          <a:xfrm>
            <a:off x="6031080" y="4027320"/>
            <a:ext cx="2908080" cy="184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动作按钮: 前进或下一项 59403"/>
          <p:cNvSpPr/>
          <p:nvPr/>
        </p:nvSpPr>
        <p:spPr>
          <a:xfrm>
            <a:off x="7054920" y="34596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02-22T12:52:24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