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BA34C-D490-4813-A990-6F10176F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7525C-DFDB-44F2-96ED-DDCDB1A0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009F0-0BE6-4085-91F4-BC7BE47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ED86B-FCF1-416F-B05D-2D55280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40B11-CC2C-4809-A424-421F318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9A63D-ACB9-4BC9-87BA-0B900A7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FEE1-AD44-482E-8240-5FFE8B0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5F92-76EE-461A-AF3B-0A7B5948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205F4-1C3B-40FD-84D8-731C67B9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6C515-B998-4329-932C-794CDBC5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7E48F-9E8D-4238-97BF-9E162005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BD3B9-F302-4F9B-B2D4-1B44BBDD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9C03E-F3FA-4D69-AB25-FC216F83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DF857-E121-4C43-BD7E-08AC66B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278DA-1B33-4D5B-86C5-32CF0297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3EDA7-2A89-4856-8994-9F29E7C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D2087-4C20-4457-B134-1207D614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F039A-02F1-4BD9-B090-EB17FCF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66B4E-06F7-4AA9-AD7A-B2C3C39E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532C5-6148-496B-A0BE-1C51FDE9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B97FC-6A4B-4206-B8EB-BA636CB1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C74A9-7D97-41F7-A963-F3297DB4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10A96-7E97-4C38-AEA8-6747F4BF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102D3-8BFA-4F20-89B5-6BF30656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57B1E-56ED-4E06-8CED-3B41D566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75C6B-8506-4137-BABE-E2CC1467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BC05E-2EC9-43A1-AA6D-EAA22A1C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A0A80-8D9A-4DB2-809E-3CACB26B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B96D8-7134-4F94-8461-0B47911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79C15-AB91-4322-AE84-34643D08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488-C904-4CA0-BA13-517353B3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432D3-E326-4EE6-9316-646F65B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E42A0-EFB0-4CCA-BED6-196A7C29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93532-7FF4-4606-9D8E-B7F383D2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80B27-F36A-4C92-BF34-38683FE5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33C65-55F4-4704-A813-D9864BB8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19636-9DEC-408B-8E5D-402A7C0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D56BE-4006-4721-8FF8-119D0DC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D9539-02E2-4E5C-A7DC-2CFB0B1F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ACD59-3D87-4737-8DCD-19C05AB6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23949-7B99-4055-A3A5-2B5C258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C3A-2E5A-402F-A285-A1C90D06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5DE74-2696-42BD-A06D-E5FB66B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1AFCC-0612-4142-BA4D-D9F7920E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451DF-7E50-4D08-A963-08F78A85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72510-1CDF-4AD3-98A2-55029F5E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65589-1BCF-4E34-A232-E5D75A7D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4199C-25FB-4D43-A67D-281EFBD3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03371-F422-41E7-A93F-A07CAB4A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FDAE7-9CB8-4429-BAE5-5CB85EC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3D28E-89B8-4F57-9FAB-0C1534F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C669D-DF5D-41D0-9EC5-A50DF52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19B-B1B4-4620-9EB7-C3C97BCB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02036-6B64-4C83-BB3C-2EDA844F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35277-24D8-4914-9A6F-A507C92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FE9E9-BA18-4F3E-98D0-CE26BE0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88643-F432-469D-B6C8-FF49E12B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8619B-F912-4274-BB4B-BBC41A9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22F31-9EC5-4169-BCB1-E11FEC4B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47B1C-5A33-4823-8F74-3F6F657C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37714-7767-4F35-B812-B07F32E3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C547B-79E3-48AA-9A20-1ACCDDED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977DD-42BF-4B2C-AF83-6DC58E07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603-80E1-4E28-8CCB-9C5385A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8AEB8-FA29-42D4-BAA0-163CB2E8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A975D-748D-40B4-B0A2-6C03EF20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2289C-81F0-4AF7-821E-8671C60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BCBB3-EC0D-4098-A192-68E358C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6FA6C-6BCF-4451-9C96-982F870B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93DF3-67C8-44DF-A870-E7D8A54E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3FFAB-6688-4A43-A17A-C01F7F0A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78E90-D253-4DCD-9038-68AAB629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2654F-6EBC-416E-A22C-78C35286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A0B3C-A765-444F-822B-974411FF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99D-1DA6-466F-9AF9-8C6F24C4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77D2D-F5E9-4A02-A75F-E0446F6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40009-E286-4D64-A8F4-FBDAF126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F3437-F908-4A15-B177-28578AA5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57086-3069-4EBD-937E-5C3D5ED8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7446A-CD0E-457B-BA1D-AF7558D2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62AC7-28C0-4466-8E2B-98F0BC2E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5ED8C-3CA4-4970-9A9C-E9BFE0A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450E6-2F93-4439-8F61-C39762C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3C923-AEE5-4AD9-ADE6-55B25566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D818F-2C02-417E-A57B-83E34D85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58A-1594-425B-ABE7-39CF9115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6E067-1214-4EDC-BE7E-5C0E389C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28F48-017F-454C-8FF3-19121ED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5F77C-DB2B-4FE7-8118-7CFDE4C5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2EAB3-BAE1-4EA2-B895-AEC5223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C3B2F-78F1-49E5-89B6-17E5B5DC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DCD0E-4D9A-4190-A314-CBFD1089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9AB65-168F-4AD2-9527-1EE516AA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020C7-DD36-4AA6-8325-546734C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A0CA9-45D0-4199-BA54-9097EB0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8E090E-DC72-4D8E-A13B-4D5BEF2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30A-A8A5-4BDD-A4C0-B144E3B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A873D-C3EE-4504-AF9E-99080B2B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4CD15-82A5-4549-BE02-90CAEC2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9A3D7-706D-4254-B5ED-5474F7FA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EF9C5-5108-483A-A80F-24707B28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365E8-C899-4C88-80A7-3D239B81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5D857-DDB4-43D3-A219-0404E3A5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E98B5-9D6E-4B57-9FA4-1C8781A8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57B62-EFA6-4003-82BA-F322BE4A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2441A-FA1E-4E29-92A9-3B9D49A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70649-8F3D-4E8C-8DC4-6324C77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D89-9A5C-4AFD-BA45-65C031F8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4BB86-D7F0-407A-BE7B-304F89E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3C946-2A8C-49A5-87FA-4753030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A7E40-B134-49B1-BE40-923E08A1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2F125-3155-439E-965F-2B9B5DA7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FE3F0-6F18-4DE7-A96F-6A479254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F98DB-27B7-46A3-8E27-BDFADA05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A5D26-7977-475D-BE30-6B567384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1E55E-B75C-4896-B460-627DB649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FB9F9-CEC1-4F64-9DCD-DDACEF7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E5303-6952-477D-8144-9025FEBD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972-91C4-4E68-9BB8-26C6EDD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BB15F-D738-4C4E-9CBD-3E60BC3E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049C6-96CE-4637-84C2-C81A660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B8256-0ED1-4221-8D0F-FCD49B6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0716B-E072-4D17-9EA4-6B7076A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962BB-D46D-4E96-925B-FAEC32A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E6DDB-7E38-4E1B-9E9A-82D18D6A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7A169-7599-4807-A900-626FCDF2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6F7A8-ED89-4428-87B0-7BD86BE2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CB66D-87BB-48BA-A2C7-1E1B05F0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E37FA-38DD-4F37-AF00-A980060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14F-95B7-4EE0-A7A9-133ED81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80D73-E3D9-482E-93B8-CAA2CAF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6B9F3-7B4B-4CE4-BCE8-20F9F563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BCDEC-A4AD-417A-82F7-6A49C392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69DDCC-9781-439D-B89D-176FFD0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C6C03-4EC3-498A-8A69-EB2E76E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52D3C-5928-409E-8313-F17E9E6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1DE6A-9369-479D-8536-F131E4C4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4B1C5-8994-4249-A787-15745F33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D1B2B-B382-4428-A266-5D0CD475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F0C17-2CEA-4024-A2C5-2D14241F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677-AA24-40BD-B956-6AD420D8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C90D6-F8F1-429B-A2DA-4D9B7962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29A39-FB14-482D-A0B4-1196C3F4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17039-E14F-4B19-8D81-07BE299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56483-0EF1-4D55-B362-96A46CD0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77181-2466-46E1-9049-900BD3BC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937A1C-4108-4A58-A65D-6ED01DB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FEC8A-8E01-4570-B07D-AB96E06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CE546-4960-4005-8FA6-B2D151C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7238C-BDE0-4893-9AF0-2DA3E5FA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DF6A3-22C3-4B10-BB4F-69422528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409-7ECA-4340-A70A-1B878622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76CC0-AE54-4F11-8C39-AA7E4684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E4E0B-DF4F-43C7-8747-81CBA705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1264A-1C0F-400D-891B-756ECAB4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87A32-282F-4BE0-B29B-4BE05E7D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14970-6494-46FC-A27D-CA0D81A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F0938-EE91-44F2-A3BA-6EBA0A8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77A94-E4D3-48B3-BEAA-50966B7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96AC1-E3A1-4DD3-A2F8-55021BA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76E4E-A632-41B7-8D0F-0662922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C9DCA-95BD-4C69-A778-1CFF76E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3ADE-5736-41D6-A711-F6A3D217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76D9FE-6F79-4205-A39D-A48B1EA8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5FBF6-A09C-40C8-9144-06F078E3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42C7B-CE01-4D83-96A8-F25311CE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911AF-83DF-4041-8341-CE5BF736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838237-FB09-46A8-8C40-56B26D95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49C6F-74E8-4279-9A22-1534F5BF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421896-E1CD-4336-BB5C-60C9E7D9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ED0E7-EE34-4E5F-B85A-C27682D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170E8-A102-4840-A014-89D8346F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DEACC-B325-436B-A2D7-46DB980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DD0E-B206-4603-8F65-7BD469C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C8ACB-7293-450D-AA95-AA0EEF4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DDE69-293C-44C8-A40F-FE3ADF7A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1B0C7-C1A0-4F03-A489-D1B2A0FC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751629-7327-4703-9809-12239327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C3F2F-D4D3-490A-8EFB-AD8A88D9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8EAE8-B455-48A1-B248-1ACD42EF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678A51-D715-4E90-8DDF-924D4652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138B52-75E3-46CD-B197-63C59246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5D6EF-440A-42DC-99E1-964D0FA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0CF9E-0475-4600-84A9-29EB9E0F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FFF8-E446-41E2-89A1-2277FDEE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39015F-D8E0-4BB2-B5E4-C8A40430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C87AA0-9C10-4FFB-8B56-86FE975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3BF73-AA74-4211-B3C5-1BC90907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944E99-70AB-4375-A080-4D19CE3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BB8D81-6757-461B-B098-F358EEBB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A0A0B-E7E5-4590-9565-DE6E62CE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973AFD-23C3-47DF-9B12-5197B536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D883E8-CC2F-4699-BDD4-A00A8917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312AAE-404A-4055-9CB0-747F3F12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4549F2-C2E1-41D9-9262-8946FA2D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4130-7AE7-4810-B1ED-AAC24309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106D9F-220D-419B-9297-5015399D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6149AE-60A8-43FB-9D7E-F88B9856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3A34B-12FD-4E10-9713-EBC0B8B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DD9730-4DA3-45E8-8827-8FA22EB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B58928-71A6-4345-8DB7-F9774A8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244354-D474-474F-9A30-9A60306B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0FE48F-4639-47CC-B313-E2E51C6C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B6FDEF-64B5-481F-AFDF-F11514A1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D1FC9-0392-497D-87CB-4EEAD4EB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A04649-E1B0-4E9E-B565-6DC8660F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D86D-470F-40F6-9FF5-F0398C5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144DE5-BD6D-4FC7-8064-CB26B16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B40FD0-3345-47A7-9A2C-D800FB9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F7C706-D227-45EE-B508-09C45C37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7F4043-990F-4E91-A7A0-F3D689E9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7F299E-59EF-4FD2-A5E9-5F80489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846C87-8223-4922-8688-FD9CBFE0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9CC836-365B-4179-BA5B-413FBD45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E671B7-C8E8-46C3-B978-157DA87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B4C2F5-A482-46D8-9076-3C80F360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B889DB-7A34-439F-9E9A-F3B1E6EA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4D6C-1142-458D-9C0B-AF63B4AC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527724-30CB-4B96-BC8A-C0FA6C36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B05A-06F8-41EC-8F39-9F55F91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2E7E-FBDD-426C-A2C3-FD060538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F48F-22FF-4CDA-B5F9-1D8FB22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3A56-DD5D-420A-96F4-DDDB056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A3DD-C98D-4306-88CF-3AF986F4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025-84BA-4650-BE31-FA9446B3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BB4B-CCA0-4929-91AD-760C86EB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2989-33E7-4EA3-96B1-AFB2D9C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FF06-7497-4FED-B779-2755FB34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7BD7-F2BD-4C9F-88EA-091A0C2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AB92-0006-499F-959A-04F03A67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A4F0-377D-484F-8329-D0A68CF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F880-58A8-4365-BE92-E8C8137D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F5DE-5C39-4C2E-BA10-1AF71886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E174-B0F1-4675-8793-81A62E0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543C-A667-492D-A36F-794E27A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0C3B-E2F5-4587-AB93-886EBEF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FC42-0464-4F38-9E13-C3447504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BD35-255D-4539-B361-43AAF3D2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7EEB-D2E3-4837-9A18-D3F6D0A7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5ED7-D77C-4A38-9C56-2926D4CE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B560-D618-4856-A45F-31B46DB7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D94E-CB25-43F7-806C-B5AE661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7E73-EA13-4F80-8831-BE866C6C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625E-79D7-4DAB-961B-9AE2711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228C-3E86-4189-B113-4206004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E840-FC3B-4496-90AD-C7F80EF1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703D-B044-4826-93B6-A0F7FE21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9615-123D-4095-9D45-C3E376B7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B1D21-A503-4C8C-860D-7607F369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A5F1-F13E-4DC7-853C-6D451617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8663-849F-418D-9834-11F1C7BF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7763-F575-45CB-BB2D-6471725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74FD4-0F44-4211-BB52-0FBB547E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365F-F241-4975-B69F-B89EFF59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A16CC-79D9-428E-B9C3-5F74C90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B65F-FE72-4C9D-9C23-71F4ADB5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748C5-D473-4501-9043-D8D7A0BA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1197-59B3-4746-B549-219AE07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E65FB-E15C-4C55-9A49-EA945AD6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43C43-44E2-4B00-A89D-49757B37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2F07-FF06-49A0-BBC1-0235A0AE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460B-489D-433F-BD6F-6C64F50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0880-6E40-452B-969A-CDEC514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6D7F-2F04-431A-BA8A-7AA9405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E303-D49B-4D45-B961-5FC39290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9A22B-387F-46DF-B752-9BFEEB1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8F33A-8692-4E00-BEF1-5A3F9D1B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F073-3D4A-428A-B5AC-41863CA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52DC-0EC7-41A9-8800-6BC00FF8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6AD6-8B87-453F-9B1D-88EBAE9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45DC-351A-4D81-9376-F4562493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91F7-F171-4A31-958D-6854A6F3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3B73F-C30B-455D-84AF-16310F03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05F52-D8F6-4D96-9BA2-ECB5304B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0E4E1-51C0-40F8-B9EB-271CCDFB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782FF-45FE-4C61-B9B3-648B2E0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5AA88-84B0-48D7-B758-E14CAE4F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E6A47-5481-43D8-9FA2-FFA45052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EDE05-DF09-4A2C-AD5A-492A29BD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71579-D703-4EC5-809C-DE64D05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6202-F945-4950-9B2F-7EDB686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7B28E-362C-40F1-8C77-59110FB0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EEB84-6690-494C-A9C9-EAA7A6EC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1D49A-B97C-4628-BB80-2140B4DD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AA6C-A17F-4B01-B840-E61BD7E2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D9124-2B25-433E-A115-9B8AA9F1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33EF-90AB-49B1-8079-3EF0E797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AA64-BD89-4E91-86C2-5AFCD1AD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7DF-12B2-4D93-9D04-81F737E34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E41-4787-4429-A1A7-5E6B401B9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24D5-A6DE-44B6-AA06-5766BE558F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13E-DA58-4766-9D66-AD29D4C58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AE55-9898-49A8-8086-38C9B7DEE4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800-CF64-4AB5-B6C0-844A0C58CBD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0BC4-4C8C-4214-9E87-BACDB80AA6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822C-31F8-4E26-9FAF-3A977D8BC74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B766-30FB-41F5-83F9-73E82D0798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89F-F451-410E-AFAF-5B454476B36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537-E50A-4A2E-96E1-D20713C889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CD29-B7F0-48FB-9343-236DF8ACA8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EB91-6A5E-40CB-83AA-E1CB6A6B87F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D38D-5A19-4F04-A4F5-134196861C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66E-9AE3-43F9-99A1-5CB7E47DB2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0C1E-380C-4716-8399-5F52A77ED1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B00-7E0D-4D09-862F-17DBB30830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F84A-AADC-4E9B-B6BE-ECE07A768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CDDF-DCEF-491E-BA95-EAA0C397E4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FBF8-7663-4B18-A9CB-0D19DBA1F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974A-B432-469F-BBC2-AFDC9DEAA9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8C0A-FE31-483E-A30C-100CDB498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ACC9-0E0C-4288-B538-D7705BD9DD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9F78-48BD-4F50-AB51-14C73B57B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997" name="矩形 3"/>
          <p:cNvSpPr/>
          <p:nvPr/>
        </p:nvSpPr>
        <p:spPr>
          <a:xfrm>
            <a:off x="2438280" y="61722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3" descr=""/>
          <p:cNvPicPr/>
          <p:nvPr/>
        </p:nvPicPr>
        <p:blipFill>
          <a:blip r:embed="rId1"/>
          <a:stretch/>
        </p:blipFill>
        <p:spPr>
          <a:xfrm>
            <a:off x="2125800" y="0"/>
            <a:ext cx="489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1016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3" descr=""/>
          <p:cNvPicPr/>
          <p:nvPr/>
        </p:nvPicPr>
        <p:blipFill>
          <a:blip r:embed="rId1"/>
          <a:stretch/>
        </p:blipFill>
        <p:spPr>
          <a:xfrm>
            <a:off x="2125800" y="0"/>
            <a:ext cx="489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矩形 3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3" descr=""/>
          <p:cNvPicPr/>
          <p:nvPr/>
        </p:nvPicPr>
        <p:blipFill>
          <a:blip r:embed="rId16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08:19:14Z</dcterms:created>
  <dc:creator/>
  <dc:description/>
  <dc:language>en-US</dc:language>
  <cp:lastModifiedBy>wuhan</cp:lastModifiedBy>
  <dcterms:modified xsi:type="dcterms:W3CDTF">2016-05-26T08:19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