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8B5-F14E-41BC-979D-320AFC3C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1D6-2C05-4204-BD5F-8DBA4373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AFFEF-5D96-404E-8D1C-5E540433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65619-377B-42FC-8106-58DE46B6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C70AD-E729-4E3C-A80D-C582B27A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DE7C0-8A01-4AF0-8DCB-443C1036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60871-B259-4377-8307-1B96CAE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D12B4-7AFA-45B7-9945-836A7C8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CDF2C-F83E-42A9-87E8-4F1466A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30E60-EC0A-46C2-9810-E2B3AB26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154DF-865D-4616-ADEF-4641F066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FC636-53F6-476F-9E7A-36A5D101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EA3-2873-4A66-BF41-5F63AB7E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DB7ED-8B0F-4E3A-88FC-40938447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FD55C-7DE2-47F2-9C22-7BD78ABE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5FEC2-BD40-4143-B174-F9BB58D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23F25-2D24-4A48-AFD5-429684C7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26B15-D605-49A6-95FF-B5F7418A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84FA9-FB71-4D14-AD63-0CE7C8D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FCF16-1329-4F7B-8444-B4E99C1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62AE5-4E1B-4B1D-BF1D-B5AAFB9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F6A57-84A0-4E18-BA30-29E5E4F7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D8D7C-86D8-4696-9736-0EF34D9F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E76-7A9A-4128-B47F-C3DB6343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D2726-02E7-4411-BE4B-0834101B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17B33-00CD-4A61-BB54-5C5D6075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BA408-CA21-430C-81F6-F5D351A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AB6D0-BB3B-4098-ADFF-2B08F589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DCBF1-AEBA-480C-8470-86F6CF6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D9960-91FA-4DEB-AF7A-857E31DA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E4AFD-8841-4A74-B059-AFEAB9A7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AD8CF-FC18-4E35-8DDC-760A98DB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C8388-DF24-4DD8-9B4D-4C45304C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1B5D1-3EFE-4304-B5B0-8B857419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DE26-F37D-4387-844E-53B526BF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95293-74D6-45DC-9470-BE26C0A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E11D8-3027-4265-8274-8ADE9299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B0093-07EC-4A0F-AED5-90549CA3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CCD74-67C3-4CC6-91A9-409C445B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0546F-91A1-47F5-8F99-45B50D9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E83DD-1357-43AD-95E4-D4FF773F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18C09-0CE5-46F3-A3CC-396C850F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CB7BD-BBDC-4D6F-8191-33370958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02A00-67FB-4FDF-B921-E823741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C6AB-7405-40B0-9001-DEFF10D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4F9C-9744-4E0A-B2DF-A64092F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56771-3018-4265-A9EC-65D8AE6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E72F5-BB4A-415D-9638-8D0CB740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38212-42B1-4633-B611-CB5C1B3D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C5B77-E22C-4296-A044-69F499F6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718FB-FC53-45D3-88DC-02963277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4BCC-6ABE-43F1-AF5F-0269D1C2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7D1A-211F-492A-A992-FD7CCC65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4148-B673-4802-B106-57ABE211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2421-C920-4210-B493-F3DABE3E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EE54-72C6-437D-8734-63585377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222-DC0E-405F-9039-82695136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A032-AEAF-43C2-817A-9C4346D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9F9A-04F2-493A-B56A-2CDAA7FB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8645-4505-42D9-A520-A0547074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F3C4-9E41-4CAA-834B-05FB7705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1326-BDB5-44EC-9194-87A2DA57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523B-D90F-4D03-BE65-72018E74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99AA-6460-4EC4-93D6-093E981A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8DE0-50DA-4F2F-9A1B-FC03BBA4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DCFA-C97F-4DD8-98BA-8A78C0E0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85D7-1435-4127-BE45-A1A45642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B2B-B504-4A57-8BFE-646CBEA1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6679-E310-4FD3-993B-51842092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32C5-AFDA-4DA9-B39B-079DE732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F0E8-F96A-4116-8590-7A3E25E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D279-AAF1-4874-8559-A335ED06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3A38-7D3B-4E7D-927F-05B0585A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121A-771E-42FF-B41D-AEC0E74B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FEB8-DB66-47CD-AF5E-21DBD780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4CD4-E5CC-44F0-8E56-B2E2A70F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67E1-EB0C-4EF6-88AE-51441B0A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6CFD-1640-4516-92B3-8FA5408F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522-6298-4BBB-BE92-766F887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C2F61-3A14-446F-A601-38BEF0BE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3756A-EB42-4029-83D2-BD561375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F786F-B72F-468D-AE56-6F22DE0F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6CC45-DDFA-44E6-B495-7B6438E7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7E3C-B7C8-4840-9F06-029D6BC9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60803-B904-4DD2-9040-C61CB477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5F242-6982-4AE9-B456-8556151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E3AB-F8DD-4D6F-AB5C-82D44D5B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6E06-BF35-4CA1-B8EB-2DED20DF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D268B-3759-4BAC-89EC-CB4827E2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74E-DD57-4CF1-8D51-A8A71F95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8F5D6-D08E-4D88-99BC-7D0E6642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02B0D-0340-46A9-A706-F804C4FA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6DF0-E588-4B01-BC4D-E715E6D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98849-92DE-4296-9693-BF51D4E6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15C04-C88F-4CF1-94C8-08BD0C6C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BAA6C-44CB-46F0-A76E-172CB66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FFE97-F1C6-49AA-B366-515949BC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2D96A-8370-45AA-9F60-E1802469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F9087-F349-4BDD-8B5E-991B4FFE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C87F-0A71-440F-9883-9271C8C9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0D1-E0D8-4A5B-8405-A2B4367A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74A3F-0738-42BA-BA72-C7B01124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06023-174B-4A84-AB97-7D0B1FD4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28883-609F-4B32-B57C-5BB59A98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7E4A1-A5B6-41D9-95B8-860A8DC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E9675-7538-4D6D-A830-8B237B44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6E7E7-6980-4BED-8635-CFB22928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CCE39-5442-4FFB-901D-0322B708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C51B-4997-4804-A7CE-4128F7B2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7DA4-9CF8-4D4A-99DF-F3858C3C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67177-B5CF-47B0-93E0-381A422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A71-199D-4273-A34F-1240CCD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68928-349E-4A99-AF22-EA52C88C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32F6D-C550-426F-92C9-98045F4A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7801B-E230-46A5-85AE-DC6E1530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5B13F-FE04-495D-AF54-97EA2FCF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61088-7676-415E-A599-B1BDC8FA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4BE5A-605A-48A7-92BC-4D1F528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653A0-A919-4AF4-B341-19282F8D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5298A-BCDB-4A62-9A21-C45B3321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881F6-532F-43CB-9FA0-B5E4AB1A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98C35-CE8E-4CF2-ACCF-7ECFF5F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94F-1C4A-406C-886E-96EBFEE5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21DA1-E46F-4050-B04D-204BDBED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94B31-DCB2-47C8-AB33-5A1D76C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4336-8134-402C-A562-33C51C8B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5F4D3-6FC0-4A27-BB00-40D550AB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A6AD4-6BF2-4D48-B728-D6E915ED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7802B-9A74-4AB2-87D3-8ECB6B30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C4F52-CC3A-4A86-A345-5A43D2AC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D1D10-7324-4B1B-89BA-3C78A20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41B4A-2556-481E-829A-CB4B9868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226BD-836C-4977-A261-2321254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B59-D4E3-4AB5-82E7-25E85FB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50654-7124-4182-A391-68A388C8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0860B-C653-4857-AA26-1814CCBD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41582-09A5-4715-A86F-655EB3F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B17A-9F15-4A3A-AB37-CFBB299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BD6C-8629-458D-8964-645A5E2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959A1-0EA7-4E83-A6B2-63AE107A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02F6F-6D50-4C24-9BE8-B552323F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2D33D-0E1C-491C-8905-2E1F3C46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9CCAD-A293-488C-BEAD-A9B4AB34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43AB1-4FE4-4745-87C4-FA23B2D0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60A-E698-4B96-A1F2-9A73F78AACC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8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直接连接符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1" name="燕尾形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燕尾形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A31D-16B7-4E07-866E-3C11ED395A04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直接连接符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FA1C-3D9D-47CD-BA11-7BEA127C9B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4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直接连接符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454D-25AB-4B21-A066-7A2A1D7DFBD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任意多边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任意多边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直接连接符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D503-5130-4A4A-BC43-A01CE97A9075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E5C9-FF28-4A25-8F7B-93D4239E29B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直接连接符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燕尾形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DD3A-B6F2-4EF8-ACF6-E9F2C536838A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直接连接符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1002-D172-4315-B965-7A3AD6BB2A8B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5CBD-DD91-46E7-9B10-60E5825FF00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直接连接符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38B0-BCAF-40A3-8F5E-064045A7A93F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0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直接连接符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F40C-E1D7-43DC-83A1-55BF7E1FE0E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2875-D957-459F-B4F8-9534578C704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标题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168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标题 2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D:\Documents\Tencent Files\360166232\Image\Group\%]D((KXHWQ0T)KWE[@$$T[D.png"/>
          <p:cNvPicPr/>
          <p:nvPr/>
        </p:nvPicPr>
        <p:blipFill>
          <a:blip r:embed="rId2"/>
          <a:stretch/>
        </p:blipFill>
        <p:spPr>
          <a:xfrm>
            <a:off x="2765520" y="1484280"/>
            <a:ext cx="3390840" cy="33195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5"/>
          <p:cNvSpPr/>
          <p:nvPr/>
        </p:nvSpPr>
        <p:spPr>
          <a:xfrm>
            <a:off x="971640" y="501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长扫描并关注微信公众号“宇客云家校”；根据自己孩子的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全国学籍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姓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绑定，即可通过微信直接查询到相关的成绩、作业、以及学校通知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标题 2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D:\快盘\宇客云\EaseOk\手机网站素材\帐号绑定.jpg"/>
          <p:cNvPicPr/>
          <p:nvPr/>
        </p:nvPicPr>
        <p:blipFill>
          <a:blip r:embed="rId2"/>
          <a:stretch/>
        </p:blipFill>
        <p:spPr>
          <a:xfrm>
            <a:off x="3203640" y="1341360"/>
            <a:ext cx="28083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标题 2" descr=""/>
          <p:cNvPicPr/>
          <p:nvPr/>
        </p:nvPicPr>
        <p:blipFill>
          <a:blip r:embed="rId1"/>
          <a:stretch/>
        </p:blipFill>
        <p:spPr>
          <a:xfrm>
            <a:off x="304920" y="255600"/>
            <a:ext cx="8381880" cy="1231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D:\快盘\宇客云\EaseOk\手机网站素材\绑定.png"/>
          <p:cNvPicPr/>
          <p:nvPr/>
        </p:nvPicPr>
        <p:blipFill>
          <a:blip r:embed="rId2"/>
          <a:stretch/>
        </p:blipFill>
        <p:spPr>
          <a:xfrm>
            <a:off x="3203640" y="1484280"/>
            <a:ext cx="2714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标题 2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D:\快盘\宇客云\EaseOk\手机网站素材\成绩查询.jpg"/>
          <p:cNvPicPr/>
          <p:nvPr/>
        </p:nvPicPr>
        <p:blipFill>
          <a:blip r:embed="rId2"/>
          <a:stretch/>
        </p:blipFill>
        <p:spPr>
          <a:xfrm>
            <a:off x="3059280" y="1306440"/>
            <a:ext cx="30384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标题 2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D:\快盘\宇客云\EaseOk\宇客云家校\微信查询成绩.png"/>
          <p:cNvPicPr/>
          <p:nvPr/>
        </p:nvPicPr>
        <p:blipFill>
          <a:blip r:embed="rId2"/>
          <a:stretch/>
        </p:blipFill>
        <p:spPr>
          <a:xfrm>
            <a:off x="5148360" y="1881360"/>
            <a:ext cx="3433680" cy="3816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D:\快盘\宇客云\EaseOk\宇客云家校\微信查询界面.jpg"/>
          <p:cNvPicPr/>
          <p:nvPr/>
        </p:nvPicPr>
        <p:blipFill>
          <a:blip r:embed="rId3"/>
          <a:srcRect l="0" t="0" r="0" b="6757"/>
          <a:stretch/>
        </p:blipFill>
        <p:spPr>
          <a:xfrm>
            <a:off x="1116000" y="1514520"/>
            <a:ext cx="2673360" cy="4430520"/>
          </a:xfrm>
          <a:prstGeom prst="rect">
            <a:avLst/>
          </a:prstGeom>
          <a:ln w="0">
            <a:noFill/>
          </a:ln>
        </p:spPr>
      </p:pic>
      <p:sp>
        <p:nvSpPr>
          <p:cNvPr id="571" name="右箭头 3"/>
          <p:cNvSpPr/>
          <p:nvPr/>
        </p:nvSpPr>
        <p:spPr>
          <a:xfrm>
            <a:off x="3995640" y="3645000"/>
            <a:ext cx="1008000" cy="215640"/>
          </a:xfrm>
          <a:prstGeom prst="rightArrow">
            <a:avLst>
              <a:gd name="adj1" fmla="val 50000"/>
              <a:gd name="adj2" fmla="val 5007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07:44:58Z</dcterms:created>
  <dc:creator>Hacker_wwy</dc:creator>
  <dc:description/>
  <dc:language>en-US</dc:language>
  <cp:lastModifiedBy>Hacker_wwy</cp:lastModifiedBy>
  <dcterms:modified xsi:type="dcterms:W3CDTF">2015-10-15T08:03:17Z</dcterms:modified>
  <cp:revision>4</cp:revision>
  <dc:subject/>
  <dc:title>使用微信，免费查询孩子成绩</dc:title>
</cp:coreProperties>
</file>