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8EC-CDF1-4C46-BAC3-C07682FD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360-D699-421F-BC19-01C9FA2B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47A5F-F544-40AD-9E81-1B3A32E9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D2DCA-D27E-4C9F-9639-BD9EC9D3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48A04-AA29-4427-8784-56873291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0B598-D542-4646-9902-5B9134FC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AD759-BCBE-424E-8746-99C19826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F7C94-529C-482E-8970-21E20322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65B2C-86BE-4F27-8083-1997A158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985A8-4824-4FC5-B7E1-F4E99ACC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2DC70-F961-4A6A-88F8-E1C1221B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7C316-D07A-466F-89CE-6716CC05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395-746A-452B-8B3B-41CD2FCD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C173A-F82D-4ED8-8918-CA1FC808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EEA12-5CC6-4A28-B415-7606E15C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5CE99-C75E-4AAD-900E-7C56BB4C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5BD26-AFF2-4C44-BF7A-37E995C6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E502A-7F85-4AFA-A7B1-00FA1CC9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D08D3-4DD3-403B-A2A0-9E040252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27AF7-2727-4991-87E3-6674CB9A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760B8-5136-456D-A4C4-124C29C7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A0192-315E-4791-8182-D8032133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FF4CA-9AB9-4456-BD21-5AB2CA4F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AEF-D1F3-4FD4-AF3A-EFDDF44D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F3251-260F-404C-8016-92072C4C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620EA-38B5-4411-96B7-5CDBE0EA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32555-644D-4DD3-B406-1DB11F40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5CEC3-E84C-43FD-99CB-37A0BD25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06B3F-6C04-4FAE-8568-0B061961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B74F5-03B7-4EF1-8E8B-4138E1BD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4A616-0E10-4F25-93BA-390F2D5F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1613C-24D1-42F2-A5F4-68899E22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53E90-1EEA-4DCD-9E0A-B4795682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962AC-DC69-4294-A828-C952965B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1A76-8886-4A25-87D1-BAA7C42F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659AC-50A6-41FE-8405-106B1EDC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3E804-9600-45EE-BA2A-9C19ADE2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222A5-1E14-4BBE-BA59-F4A30E76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CA4EE-4F02-4CD7-94B8-E8E5DB0D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1F218-2EE3-4270-BDDD-B0A7B1A2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7A391-B9FB-4997-BBD0-730A6FC7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12107-9AC6-4857-A143-2F45E374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86B11-6DC5-424D-BC29-0C946EBB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CF927-8C9D-44E0-8AEC-D6969B32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06744-BD0D-4A66-A03D-C226898C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0635-2195-4589-8D13-DD9BB085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FEA53-D428-4987-9941-3CE8F064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4C5BB-A229-41BC-BD6A-CE02726E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FEA1B-4CD3-429E-B316-1EB2168B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03364-11E7-4309-B681-D340C269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4F3C2-43FD-4DCE-B100-DBD72E34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F506F-F2E2-41BA-AB7D-7B065E66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F3BD4-7F2F-4D7C-B096-1212567A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12FA6-0665-40AA-AD3A-ED0FFDD9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F2978-F080-4363-BCF3-B578D36B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8B1A2-81A2-4FB2-AEA4-C22D3070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C522-7EE7-4E9C-A3CB-6232C116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4D98C-F5D4-49A8-8E02-29AA7CE9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FA564-1BD5-4DEE-A139-45E872D7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5B018-371A-4300-9292-837065B1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3B20D-CAD1-42AD-ACE5-8FE0A205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5B566-443B-4504-BA21-5B9B77BF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4CBB0-180D-4DBC-B274-8C0AE5E6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62E6D-F5AD-44C1-AE62-C8CCFD9A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F3FC-7AB3-4701-B322-6A1495A5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1786-AD1F-4E02-9A75-FAEB8983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540E-00A3-4070-90B8-7F5F7145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49BA-051A-4D45-B77C-B0A0CABE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A57-523D-45D1-8165-2843A6AD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38FD-4354-4DE7-A2B3-57376005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6369-ABCB-42EC-940A-AF73D875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A3E3-ECB2-40D2-A6F7-BC8F2C5B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3188-06F3-401D-879B-3276338F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11C7-65C6-4031-94B4-E6113F50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8E881-C864-462D-8CEC-DF679684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B3968-5584-4D51-86D2-95AB2FBC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F1639-4D00-4284-A062-E5686769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F9D3C-645D-4307-8595-9BA34A9C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CC18D-2770-48AB-9683-18DCB005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4DE-EF9C-478F-A23F-20B261EA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2850F-840D-4C5A-8FFC-0843CD57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E0F0F-6084-411F-8206-2D987B89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C1A5-EFC8-4B5D-913A-3487DC9D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046B1-7DEC-4C48-9053-D53148A2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24D5E-F724-4A75-9AB0-89375C50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4DC7-E7B3-48C9-B1DB-56D4EB61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DDF8F-6E8C-40A7-BB66-39110E34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61084-6151-4B40-AFAF-3236C0F7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C4986-F69E-454B-BE4E-462C75E1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8E5C6-77A6-41AC-BD2E-B45F6EAD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D1B-3858-449C-B53C-A6638FC4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BD746-71DC-4D07-9888-44A0E4A4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A9600-DD2D-48EE-8E5B-14E5B3A5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146F2-3584-42A0-B9DE-59DEDC37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6C6F1-A4CE-45CD-9703-76A5EB1B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BB39B-D788-4095-8FE1-A58EC6E9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EC376-3739-4647-A5EB-AC6E4465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B4647-F417-49C7-81F4-2CD469D4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07783-CE19-49B5-8E08-DF03AB27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C91AB-9A6E-4AFB-8047-9F98998A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1B0EE-2086-4DEF-8EE5-74D65F88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297-22D4-467D-8913-DBFB74F7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AA2C0-8669-478B-9855-4946F0D7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10257-F7AE-4DEE-83E3-8B730628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8E377-243C-47EC-A23C-97AE41BE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84BF3-9A9C-4471-B014-2C7B6FB0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EA8C5-9FCB-4B70-9BFE-104B0256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795C1-3309-4F67-B599-A492B90C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DB43B-DFC0-435C-9C99-49065382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5C63E-D772-4499-B696-FE05FCFC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EDAC0-0A04-414F-9DC0-74018045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47313-BF9F-4343-A341-802CC722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CA4-BCE1-4F88-BAD8-FE867B20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30D62-C7D1-4AB4-A953-E7C2D9BC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BD964-FD2D-457B-9E33-975B7FE7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6B1E7-98D9-47EE-9EAE-6C9F5DE6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EFD01-10D9-4106-A39E-C7B86A57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ECD12-B5C4-417C-AFF8-00DFBB71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6B92C-1B6F-47B9-8346-047ADBE8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6EC61-0135-4A66-AF1E-DC5158BE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70787-D23C-4BEF-B528-46F247A0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38CAA-8317-4DD6-A6BA-BE2AC2AB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50350-83EC-4C54-AB3F-24ED4FCE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23C-09AB-4EE3-8BBC-72767C22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5A353-6C41-4209-94B7-2A21F984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0CB2E-E43C-4D80-82A1-9C383C2E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12FBF-AC23-4782-B42C-6134566E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31DAE-8E93-4304-946E-A51729FB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EC971-4394-4E14-90F7-13AA5492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4B19A-6308-4277-B9FD-A5810A9A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D538E-6332-4935-9ED7-BEC4EDB7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DE65C-5240-44CD-8B49-E3711C6B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84A24-006A-4ADC-BD59-56D14820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81F11-9E70-4E6C-AF3D-278C33BA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A84-2875-418E-84C0-C3730BAE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1CB3B-0DCC-485C-AC43-18852E10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017F7-4614-4A27-9CEA-D1580FF8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A5184-BF6A-40CF-BCD1-321412E2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9FD56-255F-48C5-8552-D65B7352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9D346-222A-470A-9523-543D17E6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85291-2F1B-477E-8D38-F9F8A71B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56C26-1FBC-414B-8A15-4BA1C03F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8D078-2126-49DA-A1B5-BCCD6BE3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DF8A8-3621-4943-9B2E-E00410C9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CA1E0-1332-41D8-BB7A-AA768074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473-9A05-4844-BF62-D89A0FE2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9AAEA-4AAC-41AF-9522-B38291A2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B0894-5B4E-433D-8D2F-A1B8556A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022D1-27CA-4E1A-AC42-821907E9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81EED-698B-48BC-BE1D-2963A22D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151A9-E4F5-4537-8FA7-56DCFE4A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82028-51CF-4633-96F9-EF0B2A44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B7813-E26F-4C98-B272-FDD9A30F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25196-EBC2-4D4C-AFA9-57541084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D8589-5A3B-4321-9A83-F28D8A33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608EC-7DAA-4433-8B7D-E5F89428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6ACFDF-D275-47AC-B126-898B7B197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534F-68D4-4A12-AAC4-B354F448B45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0944-F5A3-4D7F-BFD9-F0472DA6F7E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9785-626D-429B-9334-8B0D4639893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FCDD-6ADC-43AF-84D1-B798753C62A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3CC6E9-2F0F-46BE-9FF6-D8496927695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9493-6B03-4D6E-B312-15118C34CFB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597E-4B0A-4E65-A375-6DD73DF64A8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0030-C79F-4465-B1E9-7D076502B39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860F-87F1-41F4-8F2C-EB59A14A80F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937C-CACE-4D68-B687-094589D4973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4FC2-3249-419B-9A0F-6F143D982E4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AD23-9DB5-49CA-B1C9-371600C198C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2190600" y="1440"/>
            <a:ext cx="4918320" cy="6855120"/>
          </a:xfrm>
          <a:prstGeom prst="rect">
            <a:avLst/>
          </a:prstGeom>
          <a:ln w="0">
            <a:noFill/>
          </a:ln>
        </p:spPr>
      </p:pic>
      <p:sp>
        <p:nvSpPr>
          <p:cNvPr id="534" name="矩形 5"/>
          <p:cNvSpPr/>
          <p:nvPr/>
        </p:nvSpPr>
        <p:spPr>
          <a:xfrm>
            <a:off x="3340080" y="6208560"/>
            <a:ext cx="174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120" rIns="24120" tIns="12240" bIns="12240" anchor="t">
            <a:spAutoFit/>
          </a:bodyPr>
          <a:p>
            <a:pPr marL="90360" indent="-90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6"/>
          <p:cNvSpPr/>
          <p:nvPr/>
        </p:nvSpPr>
        <p:spPr>
          <a:xfrm>
            <a:off x="66600" y="372960"/>
            <a:ext cx="13366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120" rIns="24120" tIns="12240" bIns="12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6" descr=""/>
          <p:cNvPicPr/>
          <p:nvPr/>
        </p:nvPicPr>
        <p:blipFill>
          <a:blip r:embed="rId16"/>
          <a:stretch/>
        </p:blipFill>
        <p:spPr>
          <a:xfrm>
            <a:off x="0" y="26676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6" descr=""/>
          <p:cNvPicPr/>
          <p:nvPr/>
        </p:nvPicPr>
        <p:blipFill>
          <a:blip r:embed="rId1"/>
          <a:stretch/>
        </p:blipFill>
        <p:spPr>
          <a:xfrm>
            <a:off x="0" y="247680"/>
            <a:ext cx="91440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"/>
          <p:cNvPicPr/>
          <p:nvPr/>
        </p:nvPicPr>
        <p:blipFill>
          <a:blip r:embed="rId1"/>
          <a:stretch/>
        </p:blipFill>
        <p:spPr>
          <a:xfrm>
            <a:off x="0" y="2476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6" descr=""/>
          <p:cNvPicPr/>
          <p:nvPr/>
        </p:nvPicPr>
        <p:blipFill>
          <a:blip r:embed="rId1"/>
          <a:stretch/>
        </p:blipFill>
        <p:spPr>
          <a:xfrm>
            <a:off x="0" y="24768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6" descr=""/>
          <p:cNvPicPr/>
          <p:nvPr/>
        </p:nvPicPr>
        <p:blipFill>
          <a:blip r:embed="rId1"/>
          <a:stretch/>
        </p:blipFill>
        <p:spPr>
          <a:xfrm>
            <a:off x="42840" y="324000"/>
            <a:ext cx="905364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6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6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图片 9" descr=""/>
          <p:cNvPicPr/>
          <p:nvPr/>
        </p:nvPicPr>
        <p:blipFill>
          <a:blip r:embed="rId16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0" descr="png-0644"/>
          <p:cNvPicPr/>
          <p:nvPr/>
        </p:nvPicPr>
        <p:blipFill>
          <a:blip r:embed="rId17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1" descr="png-0652"/>
          <p:cNvPicPr/>
          <p:nvPr/>
        </p:nvPicPr>
        <p:blipFill>
          <a:blip r:embed="rId18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6" descr=""/>
          <p:cNvPicPr/>
          <p:nvPr/>
        </p:nvPicPr>
        <p:blipFill>
          <a:blip r:embed="rId1"/>
          <a:stretch/>
        </p:blipFill>
        <p:spPr>
          <a:xfrm>
            <a:off x="100080" y="264960"/>
            <a:ext cx="895032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0" y="247680"/>
            <a:ext cx="914400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6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6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884736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6" descr="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2:35:58Z</dcterms:created>
  <dc:creator>MaEr</dc:creator>
  <dc:description/>
  <dc:language>en-US</dc:language>
  <cp:lastModifiedBy>wuhan</cp:lastModifiedBy>
  <dcterms:modified xsi:type="dcterms:W3CDTF">2016-05-26T06:23:36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