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DD5-FA37-4765-BD69-595CF7FC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B1E-EA99-4A3A-8A0D-1B553AC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435-24B1-467B-97DF-89F72060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151-DE12-4C42-AD31-CB5B3F9F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B52-E69A-40D0-8995-08F50621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B56C-5789-4218-8D94-C7896626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474E-CCB4-4BBC-905A-2EC4170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F5B-F773-4855-AA1D-F8A8C0F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5D8-94E0-4C57-AF13-54E427DD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45F8-E369-4E70-846F-9093F97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CA04-FCDD-45DF-A103-81E926B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973-FAD0-4D3E-8875-BD986AD4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691-A7C2-4CD0-AC0B-1C7CB77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8D4-E473-4E42-924D-FE47DFB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B51-FBAE-468A-A5A0-4F8E26E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5B7F-FC36-4162-949B-C7DE4A1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12F-3284-49DC-8F31-1FADF0EB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6B66-6FBE-4030-BC90-D99A0B5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DAF9-C85A-4A26-99ED-C96E0C77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5FEB-6F64-4580-ACB3-541750EB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FE08-4600-42AE-9706-B09FECF0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D26B-6A55-44BA-B952-A4DB606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55C-0CE1-43D9-8D0E-FB5C6F6A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A0A2-E703-47EE-9CD3-9B3A89F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2E15-0C49-41EC-AB30-8A38BD20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BE25-DDB2-4B46-8288-7138106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A3F2-91D1-465B-ACE4-9AFB25EF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82BD-01B6-4067-B9B9-33135F4B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CFDF-25F8-40BD-9A00-6913C670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1B85-B38F-450C-908A-B069094F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E0B-9025-472D-9CF7-560C746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DDD-8AC4-4EC6-9336-3F10010F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F9C-D6B7-411B-9DDC-35685F2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D17-89F6-4FC6-B83F-5F9D140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952-B89A-4800-BC58-00BB647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A16-3BDC-4F51-9B36-08CFE85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6091-3FE8-4E57-A8A1-7656C85F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F17-DFFF-4DDB-B1CE-21859793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D055-8B09-4E12-87DE-9767943B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27600" y="907920"/>
            <a:ext cx="2013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692280"/>
            <a:ext cx="2012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05264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再见了，亲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403280" y="1989000"/>
            <a:ext cx="1839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72200" y="51814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6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到事例，并读一读感人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情地劝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036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910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同志们伤心地痛哭起来，你却把脚一跺，嘴角抽动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狠狠地说：“妈妈，这个仇我一定要报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69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金花，不要哭了，擦干眼泪，再给我们唱个《捣米谣》吧！怎么？心里难过，唱不出来？你一向是个刚强的孩子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2758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知道我们缺少蔬菜，就挎着篮子上山挖野菜。后面山上的野菜挖光了，您又跑到前沿阵地去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465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0880" y="1844640"/>
            <a:ext cx="2013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0"/>
            <a:ext cx="82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舍身赌机枪的黄继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44000" y="0"/>
            <a:ext cx="900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战火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烧中的邱少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8317080" cy="684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44000" y="549360"/>
            <a:ext cx="90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烈士毛岸英之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7461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17080" y="620640"/>
            <a:ext cx="826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惨不忍睹的战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548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91600" y="907920"/>
            <a:ext cx="75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英烈们的墓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267160"/>
            <a:ext cx="842652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抗美援朝战争中，我国先后出兵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万人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英烈的忠骨永远留在了朝鲜的土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9072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役  情谊  噩耗  封锁  硝烟  刚强  血泊  供应  乘机  跺脚      阿妈妮  捣米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雪中送炭  同归于尽  深情厚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37080" y="548640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4800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0" t="0" r="64" b="66629"/>
          <a:stretch/>
        </p:blipFill>
        <p:spPr>
          <a:xfrm>
            <a:off x="127080" y="12708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64" b="66629"/>
          <a:stretch/>
        </p:blipFill>
        <p:spPr>
          <a:xfrm>
            <a:off x="254160" y="25416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43657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8464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再见了，亲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的心永远跟你们在一起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-1252" b="66088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597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结合搜集到的资料，从课文的字里行间捕捉信息，仿照课文段式，以大娘、小金花或者大嫂的身份写一段送别的话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438280"/>
            <a:ext cx="7543800" cy="3353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6805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孩子，我们舍不得你们走……还记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5949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叔叔，请再多留一会儿……那一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753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兄弟，让我再送你们一程吧……我不会忘记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79080" y="6094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886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我们的心永远跟你们在一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年来，您为我们花了多少心血，更了我们多少慈母般的温暖！记得五次战役的时候，由于敌机的封锁，造成暂时的供应困难。我们空着肚子，在阵地上跟敌人拼了三天三夜。是您带着全村妇女，顶着打糕，冒着炮火穿过硝烟，送到阵地上来给我们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3104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是您带着全村妇女，顶着打糕，冒着炮火，穿过硝烟，送到阵地上来给我们吃。这真是雪中送炭啊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560" y="327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14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1148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31720"/>
            <a:ext cx="914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一下，大娘还会为我们做哪些事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0006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八年来，您为我们花了多少心血，给了我们多少慈母般的温暖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176720" cy="5638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76212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敌机来了，您丢下自己的小孙孙，把伤员背进了防空洞；当您再回去抢救小孙孙的时候，房子已经炸平了。您为我们失去了唯一的亲人。</a:t>
            </a:r>
            <a:r>
              <a:rPr b="0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不能忘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娘，停住您送别的脚步吧！为了帮我们洗补衣服，您已经几夜没合眼了。您这么大年纪，能支持得住吗？快回家休息吧！为什么摇头呢？难道您担心我们会把您这位朝鲜阿妈妮忘怀？不，永远不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神秘园 - Song From A Secret Garden" descr=""/>
          <p:cNvPicPr/>
          <p:nvPr/>
        </p:nvPicPr>
        <p:blipFill>
          <a:blip r:embed="rId1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伤感纯音乐 伤感的离别" descr=""/>
          <p:cNvPicPr/>
          <p:nvPr/>
        </p:nvPicPr>
        <p:blipFill>
          <a:blip r:embed="rId2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952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42:26Z</dcterms:created>
  <dc:creator/>
  <dc:description/>
  <dc:language>en-US</dc:language>
  <cp:lastModifiedBy>微软用户</cp:lastModifiedBy>
  <dcterms:modified xsi:type="dcterms:W3CDTF">2014-03-07T06:3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