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C73-9F9D-4D31-97A2-4CE1640F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A9C-960C-4CE0-A180-CEDE736A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80F-CA1C-4314-9B96-4FE3BB4F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437-44F8-49F3-8B75-9EA19D03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7EE4-4055-4A2D-815D-DF1087AE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28F5-3FA1-41CA-B534-7F620D3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496D-74BE-4D3A-9B69-B6636B8E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21C-832C-43BC-82B9-D58BCD7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6A2-26F1-4BD6-A95C-8424BB52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101-AE2C-47E8-B42F-86D46E2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BE0E-1E4D-4309-A2F7-388B32C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7A7-4668-4720-B7A0-A7388431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BA51-EEB0-489C-9D82-AF96BD7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A0D-7A1B-47D4-9F2E-5E14DCE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E4C2-E9CF-4946-8EA9-37FB53F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BE9-89D3-41FD-B206-2CBC1588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BCD-1247-4F9B-A964-593ECF73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176-3D10-4F47-946C-DF1A200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DDC-63AA-40D8-A9EE-BA2C7594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AD7-418C-4DEC-AD7A-E8D116A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817-91BB-4DC1-A111-7A91E27A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922-B17A-4AF6-9C8D-D01AD0D8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46E-7233-44EE-BBB8-DE77553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BCE-0674-48B4-A4CB-74E10F2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7BB-E3B7-46AE-8AFF-ECD61AACA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59FD-CACA-4B34-B3A6-7DDFD02C80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图片3.png"/>
          <p:cNvPicPr/>
          <p:nvPr/>
        </p:nvPicPr>
        <p:blipFill>
          <a:blip r:embed="rId2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图片4.png"/>
          <p:cNvPicPr/>
          <p:nvPr/>
        </p:nvPicPr>
        <p:blipFill>
          <a:blip r:embed="rId3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图片5.png"/>
          <p:cNvPicPr/>
          <p:nvPr/>
        </p:nvPicPr>
        <p:blipFill>
          <a:blip r:embed="rId2"/>
          <a:stretch/>
        </p:blipFill>
        <p:spPr>
          <a:xfrm>
            <a:off x="214200" y="3619440"/>
            <a:ext cx="1857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图片5.png"/>
          <p:cNvPicPr/>
          <p:nvPr/>
        </p:nvPicPr>
        <p:blipFill>
          <a:blip r:embed="rId2"/>
          <a:stretch/>
        </p:blipFill>
        <p:spPr>
          <a:xfrm>
            <a:off x="214200" y="3619440"/>
            <a:ext cx="1857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图片5.png"/>
          <p:cNvPicPr/>
          <p:nvPr/>
        </p:nvPicPr>
        <p:blipFill>
          <a:blip r:embed="rId2"/>
          <a:stretch/>
        </p:blipFill>
        <p:spPr>
          <a:xfrm>
            <a:off x="500040" y="-855720"/>
            <a:ext cx="3176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Baron Wang</dc:creator>
  <dc:description/>
  <dc:language>en-US</dc:language>
  <cp:lastModifiedBy>wuhan</cp:lastModifiedBy>
  <dcterms:modified xsi:type="dcterms:W3CDTF">2016-05-28T02:09:58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