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6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algn="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6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algn="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0FCB-B64D-4CD1-A5C0-2E0895B3DE7F}" type="slidenum">
              <a:rPr b="0" lang="zh-CN" sz="12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7C3-25D4-4803-A552-5D858412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758-73B3-4200-AA48-7F62036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BF1-6552-4764-BF02-589FA730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6E6-8EF5-44DE-AC58-5599BDC8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A5E-60BF-4349-887E-5F077B2E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AF8-E6BD-4A53-8FA4-DEAB9AE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A65-D231-4F6B-B6FD-31DBAD03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4DF-E70E-42AB-A331-2C86400F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EC2-249D-4B69-B8F8-D1C0954B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A09-A566-4D6D-9C7C-598EC6E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5DF-F20E-4280-97AB-CC468060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CC5-125C-48C9-9FB5-BA4A14BC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BB46-9125-42C6-81CD-666B963AB5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37.xml"/><Relationship Id="rId4" Type="http://schemas.openxmlformats.org/officeDocument/2006/relationships/slide" Target="slide68.xml"/><Relationship Id="rId5" Type="http://schemas.openxmlformats.org/officeDocument/2006/relationships/image" Target="../media/image2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5.xml"/><Relationship Id="rId3" Type="http://schemas.openxmlformats.org/officeDocument/2006/relationships/slide" Target="slide52.xml"/><Relationship Id="rId4" Type="http://schemas.openxmlformats.org/officeDocument/2006/relationships/slide" Target="slide1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23.xml"/><Relationship Id="rId5" Type="http://schemas.openxmlformats.org/officeDocument/2006/relationships/slide" Target="slide30.xml"/><Relationship Id="rId6" Type="http://schemas.openxmlformats.org/officeDocument/2006/relationships/slide" Target="slide1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方正舒体"/>
                <a:ea typeface="方正舒体"/>
              </a:rPr>
              <a:t>第二章  珠算基本加减法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828800" y="3048120"/>
            <a:ext cx="5519880" cy="761760"/>
          </a:xfrm>
          <a:custGeom>
            <a:avLst/>
            <a:gdLst>
              <a:gd name="textAreaLeft" fmla="*/ 49320 w 5519880"/>
              <a:gd name="textAreaRight" fmla="*/ 5470560 w 5519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56455" h="21600">
                <a:moveTo>
                  <a:pt x="0" y="0"/>
                </a:moveTo>
                <a:lnTo>
                  <a:pt x="156455" y="0"/>
                </a:lnTo>
                <a:lnTo>
                  <a:pt x="156455" y="21600"/>
                </a:lnTo>
                <a:lnTo>
                  <a:pt x="0" y="21600"/>
                </a:lnTo>
                <a:close/>
              </a:path>
              <a:path fill="lightenLess" w="156455" h="21600">
                <a:moveTo>
                  <a:pt x="0" y="0"/>
                </a:moveTo>
                <a:lnTo>
                  <a:pt x="156455" y="0"/>
                </a:lnTo>
                <a:lnTo>
                  <a:pt x="155055" y="1400"/>
                </a:lnTo>
                <a:lnTo>
                  <a:pt x="1400" y="1400"/>
                </a:lnTo>
                <a:close/>
              </a:path>
              <a:path fill="darken" w="156455" h="21600">
                <a:moveTo>
                  <a:pt x="156455" y="0"/>
                </a:moveTo>
                <a:lnTo>
                  <a:pt x="156455" y="21600"/>
                </a:lnTo>
                <a:lnTo>
                  <a:pt x="155055" y="20200"/>
                </a:lnTo>
                <a:lnTo>
                  <a:pt x="155055" y="1400"/>
                </a:lnTo>
                <a:close/>
              </a:path>
              <a:path fill="darkenLess" w="156455" h="21600">
                <a:moveTo>
                  <a:pt x="156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5055" y="20200"/>
                </a:lnTo>
                <a:close/>
              </a:path>
              <a:path fill="lighten" w="156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第二节    基本加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828800" y="3886200"/>
            <a:ext cx="5519880" cy="762120"/>
          </a:xfrm>
          <a:custGeom>
            <a:avLst/>
            <a:gdLst>
              <a:gd name="textAreaLeft" fmla="*/ 49320 w 5519880"/>
              <a:gd name="textAreaRight" fmla="*/ 5470560 w 5519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81" h="21600">
                <a:moveTo>
                  <a:pt x="0" y="0"/>
                </a:moveTo>
                <a:lnTo>
                  <a:pt x="156381" y="0"/>
                </a:lnTo>
                <a:lnTo>
                  <a:pt x="156381" y="21600"/>
                </a:lnTo>
                <a:lnTo>
                  <a:pt x="0" y="21600"/>
                </a:lnTo>
                <a:close/>
              </a:path>
              <a:path fill="lightenLess" w="156381" h="21600">
                <a:moveTo>
                  <a:pt x="0" y="0"/>
                </a:moveTo>
                <a:lnTo>
                  <a:pt x="156381" y="0"/>
                </a:lnTo>
                <a:lnTo>
                  <a:pt x="154981" y="1400"/>
                </a:lnTo>
                <a:lnTo>
                  <a:pt x="1400" y="1400"/>
                </a:lnTo>
                <a:close/>
              </a:path>
              <a:path fill="darken" w="156381" h="21600">
                <a:moveTo>
                  <a:pt x="156381" y="0"/>
                </a:moveTo>
                <a:lnTo>
                  <a:pt x="156381" y="21600"/>
                </a:lnTo>
                <a:lnTo>
                  <a:pt x="154981" y="20200"/>
                </a:lnTo>
                <a:lnTo>
                  <a:pt x="154981" y="1400"/>
                </a:lnTo>
                <a:close/>
              </a:path>
              <a:path fill="darkenLess" w="156381" h="21600">
                <a:moveTo>
                  <a:pt x="15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81" y="20200"/>
                </a:lnTo>
                <a:close/>
              </a:path>
              <a:path fill="lighten" w="15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第三节    基本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828800" y="4724280"/>
            <a:ext cx="5519880" cy="762120"/>
          </a:xfrm>
          <a:custGeom>
            <a:avLst/>
            <a:gdLst>
              <a:gd name="textAreaLeft" fmla="*/ 49320 w 5519880"/>
              <a:gd name="textAreaRight" fmla="*/ 5470560 w 5519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81" h="21600">
                <a:moveTo>
                  <a:pt x="0" y="0"/>
                </a:moveTo>
                <a:lnTo>
                  <a:pt x="156381" y="0"/>
                </a:lnTo>
                <a:lnTo>
                  <a:pt x="156381" y="21600"/>
                </a:lnTo>
                <a:lnTo>
                  <a:pt x="0" y="21600"/>
                </a:lnTo>
                <a:close/>
              </a:path>
              <a:path fill="lightenLess" w="156381" h="21600">
                <a:moveTo>
                  <a:pt x="0" y="0"/>
                </a:moveTo>
                <a:lnTo>
                  <a:pt x="156381" y="0"/>
                </a:lnTo>
                <a:lnTo>
                  <a:pt x="154981" y="1400"/>
                </a:lnTo>
                <a:lnTo>
                  <a:pt x="1400" y="1400"/>
                </a:lnTo>
                <a:close/>
              </a:path>
              <a:path fill="darken" w="156381" h="21600">
                <a:moveTo>
                  <a:pt x="156381" y="0"/>
                </a:moveTo>
                <a:lnTo>
                  <a:pt x="156381" y="21600"/>
                </a:lnTo>
                <a:lnTo>
                  <a:pt x="154981" y="20200"/>
                </a:lnTo>
                <a:lnTo>
                  <a:pt x="154981" y="1400"/>
                </a:lnTo>
                <a:close/>
              </a:path>
              <a:path fill="darkenLess" w="156381" h="21600">
                <a:moveTo>
                  <a:pt x="15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81" y="20200"/>
                </a:lnTo>
                <a:close/>
              </a:path>
              <a:path fill="lighten" w="15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第四节    简捷加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91" descr=""/>
          <p:cNvPicPr/>
          <p:nvPr/>
        </p:nvPicPr>
        <p:blipFill>
          <a:blip r:embed="rId5"/>
          <a:stretch/>
        </p:blipFill>
        <p:spPr>
          <a:xfrm>
            <a:off x="7543800" y="5105520"/>
            <a:ext cx="114156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1828800" y="2209680"/>
            <a:ext cx="5519880" cy="762120"/>
          </a:xfrm>
          <a:custGeom>
            <a:avLst/>
            <a:gdLst>
              <a:gd name="textAreaLeft" fmla="*/ 49320 w 5519880"/>
              <a:gd name="textAreaRight" fmla="*/ 5470560 w 5519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81" h="21600">
                <a:moveTo>
                  <a:pt x="0" y="0"/>
                </a:moveTo>
                <a:lnTo>
                  <a:pt x="156381" y="0"/>
                </a:lnTo>
                <a:lnTo>
                  <a:pt x="156381" y="21600"/>
                </a:lnTo>
                <a:lnTo>
                  <a:pt x="0" y="21600"/>
                </a:lnTo>
                <a:close/>
              </a:path>
              <a:path fill="lightenLess" w="156381" h="21600">
                <a:moveTo>
                  <a:pt x="0" y="0"/>
                </a:moveTo>
                <a:lnTo>
                  <a:pt x="156381" y="0"/>
                </a:lnTo>
                <a:lnTo>
                  <a:pt x="154981" y="1400"/>
                </a:lnTo>
                <a:lnTo>
                  <a:pt x="1400" y="1400"/>
                </a:lnTo>
                <a:close/>
              </a:path>
              <a:path fill="darken" w="156381" h="21600">
                <a:moveTo>
                  <a:pt x="156381" y="0"/>
                </a:moveTo>
                <a:lnTo>
                  <a:pt x="156381" y="21600"/>
                </a:lnTo>
                <a:lnTo>
                  <a:pt x="154981" y="20200"/>
                </a:lnTo>
                <a:lnTo>
                  <a:pt x="154981" y="1400"/>
                </a:lnTo>
                <a:close/>
              </a:path>
              <a:path fill="darkenLess" w="156381" h="21600">
                <a:moveTo>
                  <a:pt x="15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81" y="20200"/>
                </a:lnTo>
                <a:close/>
              </a:path>
              <a:path fill="lighten" w="15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第一节    基础知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什么叫做直加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当拨入被加数时，能直接拨珠靠梁即可完成的计算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可使用直加法的种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+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+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+3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+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+6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+7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+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2+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2+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2+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2+6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2+7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3+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3+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3+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4+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5+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5+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5+3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5+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6+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6+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6+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7+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7+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+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计算规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327636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看框珠，够加直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91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+2=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24382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81400" y="31780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9600" y="35654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238720" y="2459880"/>
            <a:ext cx="1752480" cy="2514600"/>
            <a:chOff x="5238720" y="2459880"/>
            <a:chExt cx="1752480" cy="2514600"/>
          </a:xfrm>
        </p:grpSpPr>
        <p:sp>
          <p:nvSpPr>
            <p:cNvPr id="102" name=""/>
            <p:cNvSpPr/>
            <p:nvPr/>
          </p:nvSpPr>
          <p:spPr>
            <a:xfrm>
              <a:off x="6153120" y="245988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38720" y="246060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38720" y="314640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772240" y="24606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720" y="49752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56400" y="316404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53160" y="3551400"/>
            <a:ext cx="76212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70440" y="3944880"/>
            <a:ext cx="762120" cy="38088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72240" y="4341960"/>
            <a:ext cx="761760" cy="38088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010280" y="4114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8380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115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+7=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4382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318132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38098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238720" y="2459880"/>
            <a:ext cx="1752480" cy="2514600"/>
            <a:chOff x="5238720" y="2459880"/>
            <a:chExt cx="1752480" cy="2514600"/>
          </a:xfrm>
        </p:grpSpPr>
        <p:sp>
          <p:nvSpPr>
            <p:cNvPr id="126" name=""/>
            <p:cNvSpPr/>
            <p:nvPr/>
          </p:nvSpPr>
          <p:spPr>
            <a:xfrm>
              <a:off x="6153120" y="245988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38720" y="246060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38720" y="314640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772240" y="270684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38720" y="49752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56400" y="316404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53160" y="35514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70440" y="394488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2240" y="457524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0280" y="3657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838080"/>
            <a:ext cx="1981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每题均可全盘拨入练习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66ff"/>
                </a:solidFill>
                <a:latin typeface="Times New Roman"/>
                <a:ea typeface="黑体"/>
              </a:rPr>
              <a:t>8+1=         3+6=          5+4=         1+3=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66ff"/>
                </a:solidFill>
                <a:latin typeface="Times New Roman"/>
                <a:ea typeface="黑体"/>
              </a:rPr>
              <a:t>2+5=         7+2=          3+5=         2+1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66ff"/>
                </a:solidFill>
                <a:latin typeface="Times New Roman"/>
                <a:ea typeface="黑体"/>
              </a:rPr>
              <a:t>5+2=         3+1=          4+5=         1+5=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66ff"/>
                </a:solidFill>
                <a:latin typeface="Times New Roman"/>
                <a:ea typeface="黑体"/>
              </a:rPr>
              <a:t>1+6=         5+1=          2+7=         1+8=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66ff"/>
                </a:solidFill>
                <a:latin typeface="Times New Roman"/>
                <a:ea typeface="黑体"/>
              </a:rPr>
              <a:t>2+6=         5+3=          7+1=         6+2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66ff"/>
                </a:solidFill>
                <a:latin typeface="Times New Roman"/>
                <a:ea typeface="黑体"/>
              </a:rPr>
              <a:t>2+2=         1+2=          1+1=         6+3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66ff"/>
                </a:solidFill>
                <a:latin typeface="Times New Roman"/>
                <a:ea typeface="黑体"/>
              </a:rPr>
              <a:t>1+7=         6+1=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2440" y="6094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幼圆"/>
              </a:rPr>
              <a:t>二、凑数加法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凑数加法的含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使用凑数加法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凑数加法的计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什么叫做凑数加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当被加数小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，又分别要加上少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的各数时，必须加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再减去多加的数才可完成的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可使用凑数加法的种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1+4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2+3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2+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3+2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3+3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3+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4+1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4+2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4+3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4+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计算规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920" y="327636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加不够，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10663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第一节    基础知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105520"/>
            <a:ext cx="1141560" cy="108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2438280"/>
            <a:ext cx="72392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876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在正式进入珠算运算方法的学习之前，我们先来了解一些有关的原理、原则、特点、方法等方面的内容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151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+3=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24382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81400" y="31780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79600" y="35654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38720" y="2459880"/>
            <a:ext cx="1752480" cy="2514600"/>
            <a:chOff x="5238720" y="2459880"/>
            <a:chExt cx="1752480" cy="2514600"/>
          </a:xfrm>
        </p:grpSpPr>
        <p:sp>
          <p:nvSpPr>
            <p:cNvPr id="162" name=""/>
            <p:cNvSpPr/>
            <p:nvPr/>
          </p:nvSpPr>
          <p:spPr>
            <a:xfrm>
              <a:off x="6153120" y="245988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38720" y="246060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38720" y="314640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789520" y="269388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38720" y="49752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73680" y="341460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70440" y="380196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41688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5496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581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33412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下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去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凑数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179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+4=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4382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318132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38720" y="2459880"/>
            <a:ext cx="1752480" cy="2514600"/>
            <a:chOff x="5238720" y="2459880"/>
            <a:chExt cx="1752480" cy="2514600"/>
          </a:xfrm>
        </p:grpSpPr>
        <p:sp>
          <p:nvSpPr>
            <p:cNvPr id="187" name=""/>
            <p:cNvSpPr/>
            <p:nvPr/>
          </p:nvSpPr>
          <p:spPr>
            <a:xfrm>
              <a:off x="6153120" y="245988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38720" y="246060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38720" y="314640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772240" y="270684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8720" y="49752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56400" y="316404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79600" y="356220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86080" y="433224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84280" y="3943440"/>
            <a:ext cx="76212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64320" y="394020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73680" y="35654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80160" y="454356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4343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533412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下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去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凑数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4267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每题均可全盘拨入练习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1+4=          3+3=          2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3+2=          4+3=          4+2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2+3=          4+1=          3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4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029200"/>
            <a:ext cx="1141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幼圆"/>
              </a:rPr>
              <a:t>三、补数加法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补数加法的含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使用补数加法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补数加法的计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什么叫做补数加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在同一档两数相加的和大于或等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，必须向左进位才可完成的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可使用补数加法的种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+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2+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2+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3+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3+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3+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4+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4+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4+7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4+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5+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6+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6+5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6+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7+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7+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7+5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7+4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7+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8+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8+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8+7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8+5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8+4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8+3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8+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7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6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5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4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3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2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计算规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47560" y="327636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档满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减补数加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218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+8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4382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81400" y="31780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79600" y="35654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238720" y="2455560"/>
            <a:ext cx="225576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238720" y="3124080"/>
            <a:ext cx="2236680" cy="223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70720" y="249696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238720" y="4960800"/>
            <a:ext cx="22748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37240" y="341460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34000" y="380196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4880" y="41688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4880" y="45496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3505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5334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去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8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补数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然后进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3320" y="318456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257800" y="3352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85120" y="340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03680" y="3308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247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+7=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81400" y="31780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9600" y="35654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238720" y="2455560"/>
            <a:ext cx="225576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38720" y="3124080"/>
            <a:ext cx="2236680" cy="223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238720" y="4960800"/>
            <a:ext cx="22748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54880" y="45496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8862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5334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去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7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补数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然后进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3320" y="318456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257800" y="3352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3680" y="3308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87520" y="393372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44680" y="2684520"/>
            <a:ext cx="76212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72160" y="268596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419112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86560" y="382104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34290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每题均可全盘拨入练习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+9=            6+5=             8+7=            6+9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3+8=            9+7=             5+5=            4+6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8=            8+4=             9+5=            2+8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7+9=            7+4=             9+2=            2+9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8+9=            8+5=             8+8=            7+3=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6+4=            7+5=             9+1=            7+8=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9+4=            8+3=             9+6=            3+9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3+7=            4+8=             8+2=            9+3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4+9=            9+9=             4+7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48006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cc"/>
                </a:solidFill>
                <a:latin typeface="Times New Roman"/>
                <a:ea typeface="幼圆"/>
              </a:rPr>
              <a:t>一、现代珠算与传统珠算方法上的</a:t>
            </a:r>
            <a:r>
              <a:rPr b="0" lang="zh-CN" sz="3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区别</a:t>
            </a:r>
            <a:r>
              <a:rPr b="0" lang="zh-CN" sz="3500" spc="-1" strike="noStrike">
                <a:solidFill>
                  <a:srgbClr val="3333cc"/>
                </a:solidFill>
                <a:latin typeface="Times New Roman"/>
                <a:ea typeface="幼圆"/>
              </a:rPr>
              <a:t>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传统加减法：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口诀加减法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74320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现代加减法：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为避免背诵口诀之烦，充分发挥珠算的启智功能，依据“五升十进”制原理，通过对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两数的分解和合成，利用“凑数”与“补数”概念，逐步取代口诀加减法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幼圆"/>
              </a:rPr>
              <a:t>四、凑补加法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凑补加法的含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使用凑补加法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凑补加法的计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什么叫做凑补加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本档已有上珠靠梁，要加上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各数，减补进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（但下珠不够，先加凑去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，再向前档进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才可完成的计算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可使用补数加法的种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6782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5+9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5+8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5+7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5+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6+8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6+7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6+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7+7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7+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8+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计算规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4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补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14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或：加凑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向前档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287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+9=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26668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38720" y="2455560"/>
            <a:ext cx="225576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238720" y="3124080"/>
            <a:ext cx="2236680" cy="223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38720" y="4960800"/>
            <a:ext cx="22748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73960" y="318132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73960" y="397188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73960" y="4352760"/>
            <a:ext cx="76176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480" y="5257800"/>
            <a:ext cx="878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去掉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9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补数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&lt;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下珠不够，上凑数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减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5&gt;,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然后进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3320" y="318456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543800" y="35053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2280" y="2556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3429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38098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81880" y="358632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46960" y="2473200"/>
            <a:ext cx="76176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543800" y="2590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257800" y="3281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318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+6=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26668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4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238720" y="2455560"/>
            <a:ext cx="225576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238720" y="3124080"/>
            <a:ext cx="2236680" cy="223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38720" y="4960800"/>
            <a:ext cx="22748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480" y="5257800"/>
            <a:ext cx="87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去掉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6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补数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4&lt;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下珠不够，上凑数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减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5&gt;,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然后进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3320" y="318456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543800" y="3962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42280" y="2556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46960" y="2473200"/>
            <a:ext cx="76176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543800" y="2590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257800" y="3281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84280" y="317808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86080" y="358632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51640" y="3173400"/>
            <a:ext cx="76212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72160" y="354636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70720" y="39276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每题均可全盘拨入练习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5+9=       6+6=       7+6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8+6=       7+7=       6+8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6+7=       5+8=       5+7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5+6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</a:rPr>
              <a:t>第三节    基本减法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236232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直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2362320" y="3276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凑数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rId3" action="ppaction://hlinksldjump"/>
          </p:cNvPr>
          <p:cNvSpPr/>
          <p:nvPr/>
        </p:nvSpPr>
        <p:spPr>
          <a:xfrm>
            <a:off x="2362320" y="4267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补数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51814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凑补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幼圆"/>
              </a:rPr>
              <a:t>一、直减法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直减法的含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使用直减法的种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直减法的计算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什么叫做直减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当拨去被减数时，能直接拨珠离梁即可完成的计算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二、珠算加减法的</a:t>
            </a: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特点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珠算加减法是实际计算工作中用途最广的计算方法，占计算总量的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%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以上。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加法是一切计算方法的基础，减法是加法的逆运算，它集中了珠算的特点和基础知识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加减法用算盘运算较之笔算、计算器运算更准确而迅速，最能显示珠算的优点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可使用直减法的种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3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4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6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7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8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3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6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7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7-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7-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7-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7-6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7-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6-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6-5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6-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5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4-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4-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4-3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4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3-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3-2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3-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2-1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2-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计算规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47920" y="327636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看梁珠，够减直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366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-2=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62320" y="24382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81400" y="31780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79600" y="35654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238720" y="2459880"/>
            <a:ext cx="1752480" cy="2514600"/>
            <a:chOff x="5238720" y="2459880"/>
            <a:chExt cx="1752480" cy="2514600"/>
          </a:xfrm>
        </p:grpSpPr>
        <p:sp>
          <p:nvSpPr>
            <p:cNvPr id="375" name=""/>
            <p:cNvSpPr/>
            <p:nvPr/>
          </p:nvSpPr>
          <p:spPr>
            <a:xfrm>
              <a:off x="6153120" y="245988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38720" y="246060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38720" y="314640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772240" y="24606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38720" y="49752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56400" y="316404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53160" y="3551400"/>
            <a:ext cx="76212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51360" y="4173480"/>
            <a:ext cx="762120" cy="38088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53160" y="4570560"/>
            <a:ext cx="762120" cy="38088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3760" y="3936960"/>
            <a:ext cx="76212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62320" y="432432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816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390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-6=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318132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238720" y="2459880"/>
            <a:ext cx="1752480" cy="2514600"/>
            <a:chOff x="5238720" y="2459880"/>
            <a:chExt cx="1752480" cy="2514600"/>
          </a:xfrm>
        </p:grpSpPr>
        <p:sp>
          <p:nvSpPr>
            <p:cNvPr id="397" name=""/>
            <p:cNvSpPr/>
            <p:nvPr/>
          </p:nvSpPr>
          <p:spPr>
            <a:xfrm>
              <a:off x="6153120" y="245988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38720" y="246060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38720" y="314640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753160" y="247824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38720" y="49752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10400" y="316224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457200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01028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4419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81400" y="356220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81400" y="396252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00480" y="270504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434340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10400" y="356220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94344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每题均可全盘拨入练习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1=        3-2=         6-5=         8-2=        4-1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1=        4-2=         7-6=         9-2=        4-3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8-3=        9-3=         9-4=         8-5=        6-6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1-1=        7-1=         3-1=         8-7=        8-6=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7-7=        4-1=         9-8=         9-5=        9-6=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2-2=        5-5=         9-7=         6-1=        2-1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ff"/>
                </a:solidFill>
                <a:latin typeface="Times New Roman"/>
                <a:ea typeface="黑体"/>
              </a:rPr>
              <a:t>9-9=        7-2=         8-8=         7-5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029200"/>
            <a:ext cx="1141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幼圆"/>
              </a:rPr>
              <a:t>二、凑数减法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凑数减法的含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使用凑数减法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凑数减法的计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什么叫做凑数减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本档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已靠梁，在减去少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的各数时，下珠不够直减，必须先减去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，再加上多减的数才可完成的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可使用凑数减法的种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5-1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5-2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5-3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5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6-2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6-3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6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7-3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7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8-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计算规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47920" y="327636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减不够，加凑去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426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-2=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238720" y="2459880"/>
            <a:ext cx="1752480" cy="2514600"/>
            <a:chOff x="5238720" y="2459880"/>
            <a:chExt cx="1752480" cy="2514600"/>
          </a:xfrm>
        </p:grpSpPr>
        <p:sp>
          <p:nvSpPr>
            <p:cNvPr id="434" name=""/>
            <p:cNvSpPr/>
            <p:nvPr/>
          </p:nvSpPr>
          <p:spPr>
            <a:xfrm>
              <a:off x="6153120" y="245988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38720" y="246060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38720" y="314640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770440" y="248436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38720" y="49752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91320" y="320040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88080" y="358776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45496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533412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上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凑数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去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816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530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2320" y="3429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38098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26668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396252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934320" y="33523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93432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幼圆"/>
              </a:rPr>
              <a:t>三、珠算加减法运算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基本规律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幼圆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位对齐、高位算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幼圆"/>
              </a:rPr>
              <a:t>四、珠算加减法运算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基本原理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幼圆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0040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升（满五用一颗上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进（满十向左边进位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幼圆"/>
              </a:rPr>
              <a:t>五、珠算加减法运算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基本法则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幼圆"/>
              </a:rPr>
              <a:t> 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5627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靠梁为加，靠框为减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828800" y="2437560"/>
            <a:ext cx="1752480" cy="2514600"/>
            <a:chOff x="1828800" y="2437560"/>
            <a:chExt cx="1752480" cy="2514600"/>
          </a:xfrm>
        </p:grpSpPr>
        <p:sp>
          <p:nvSpPr>
            <p:cNvPr id="454" name=""/>
            <p:cNvSpPr/>
            <p:nvPr/>
          </p:nvSpPr>
          <p:spPr>
            <a:xfrm>
              <a:off x="2743200" y="24375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8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8800" y="312408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] 7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-3=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49528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318132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238720" y="2459880"/>
            <a:ext cx="1752480" cy="2514600"/>
            <a:chOff x="5238720" y="2459880"/>
            <a:chExt cx="1752480" cy="2514600"/>
          </a:xfrm>
        </p:grpSpPr>
        <p:sp>
          <p:nvSpPr>
            <p:cNvPr id="461" name=""/>
            <p:cNvSpPr/>
            <p:nvPr/>
          </p:nvSpPr>
          <p:spPr>
            <a:xfrm>
              <a:off x="6153120" y="245988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38720" y="246060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38720" y="3146400"/>
              <a:ext cx="1752480" cy="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772240" y="2478240"/>
            <a:ext cx="76176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38720" y="49752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56400" y="316404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79600" y="356220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73680" y="35654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80160" y="4371840"/>
            <a:ext cx="76176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533412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上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凑数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去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5 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81400" y="413388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81400" y="453384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2320" y="268596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3952800"/>
            <a:ext cx="76176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934320" y="39625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93432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每题均可全盘拨入练习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5-3=       6-4=       5-1=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7-4=       5-2=       8-4=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5-4=       6-3=       7-3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6-2=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49528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幼圆"/>
              </a:rPr>
              <a:t>三、补数减法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补数减法的含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使用补数减法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补数减法的计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什么叫做补数减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指在本档被减数小于减数不够减时，必须向前档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作为本档的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来减，同时在本档加还多减的数即可完成的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可使用补数加法的种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7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6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5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4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3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2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0-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1-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1-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1-7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1-5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1-4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1-3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1-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2-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2-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2-5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2-4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2-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3-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3-5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3-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4-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5-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5-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5-7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5-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6-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6-8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6-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7-9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7-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    </a:t>
            </a:r>
            <a:r>
              <a:rPr b="0" lang="zh-CN" sz="2500" spc="-1" strike="noStrike">
                <a:solidFill>
                  <a:srgbClr val="3366ff"/>
                </a:solidFill>
                <a:latin typeface="Times New Roman"/>
                <a:ea typeface="黑体"/>
              </a:rPr>
              <a:t>18-9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计算规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320" y="327636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档不够，减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补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74320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90720" y="2438280"/>
            <a:ext cx="2590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90720" y="3124080"/>
            <a:ext cx="2590560" cy="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-8=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243828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952880"/>
            <a:ext cx="2590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81400" y="31780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379600" y="35654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34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238720" y="2455560"/>
            <a:ext cx="225576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238720" y="3124080"/>
            <a:ext cx="2236680" cy="223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70720" y="249696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238720" y="4960800"/>
            <a:ext cx="22748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5334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退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加上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8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补数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91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10080" y="34290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7543800" y="4114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483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4674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33400" y="241848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51080" y="316548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553080" y="315900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551640" y="354636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56320" y="432756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6320" y="394668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33440" y="24764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33440" y="419112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3344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33440" y="380988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29160" y="24764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29160" y="419112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2916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29160" y="380988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5-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6=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05120" y="53341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退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加上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6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补数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4 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2438280"/>
            <a:ext cx="2590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3124080"/>
            <a:ext cx="2590560" cy="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3240" y="379080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4952880"/>
            <a:ext cx="2590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43240" y="2666880"/>
            <a:ext cx="76176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419112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33400" y="241848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51080" y="316548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33440" y="24764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33440" y="419112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3344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33440" y="380988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39084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238720" y="2455560"/>
            <a:ext cx="225576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38720" y="3124080"/>
            <a:ext cx="2236680" cy="223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238720" y="4960800"/>
            <a:ext cx="22748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34290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543800" y="35053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2705040"/>
            <a:ext cx="762120" cy="381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6320" y="358128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556320" y="32004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29160" y="24764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29160" y="419112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2916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29160" y="380988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3080" y="43434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553080" y="396252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每题均可全盘拨入练习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3366ff"/>
                </a:solidFill>
                <a:latin typeface="Times New Roman"/>
                <a:ea typeface="黑体"/>
              </a:rPr>
              <a:t>15-9=     12-9=     10-7=     11-9=     18-9=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3366ff"/>
                </a:solidFill>
                <a:latin typeface="Times New Roman"/>
                <a:ea typeface="黑体"/>
              </a:rPr>
              <a:t>10-6=     14-5=     10-1=     12-5=     16-7=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3366ff"/>
                </a:solidFill>
                <a:latin typeface="Times New Roman"/>
                <a:ea typeface="黑体"/>
              </a:rPr>
              <a:t>16-9=     10-5=     11-5=     11-3=     10-8=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3366ff"/>
                </a:solidFill>
                <a:latin typeface="Times New Roman"/>
                <a:ea typeface="黑体"/>
              </a:rPr>
              <a:t>12-8=     17-9=     10-2=     11-2=     10-3=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3366ff"/>
                </a:solidFill>
                <a:latin typeface="Times New Roman"/>
                <a:ea typeface="黑体"/>
              </a:rPr>
              <a:t>16-8=     10-4=     13-4=     15-8=     11-7=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3366ff"/>
                </a:solidFill>
                <a:latin typeface="Times New Roman"/>
                <a:ea typeface="黑体"/>
              </a:rPr>
              <a:t>13-5=     11-8=     12-4=     15-7=     10-9=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3366ff"/>
                </a:solidFill>
                <a:latin typeface="Times New Roman"/>
                <a:ea typeface="黑体"/>
              </a:rPr>
              <a:t>13-9=     12-3=     17-8=     15-6=     11-4=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2440" y="53352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幼圆"/>
              </a:rPr>
              <a:t>四、凑补减法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凑补减法的含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使用凑补减法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凑补减法的计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六、珠算基本概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凑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2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51460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两个数加起来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，那么这两个数就互为凑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1—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2—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8862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补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4724280"/>
            <a:ext cx="78483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两个数加起来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，那么这两个数就互为补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1—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2—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3—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4—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5—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什么叫做凑补减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本档只有下珠靠梁，要减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各数（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加补，下珠不够），先加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，再减去补数的凑数才可完成的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可使用补数减法的种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6782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4-9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4-8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4-7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4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3-8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3-7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3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2-7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2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11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计算规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19320" y="259056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与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的计算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合运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3-7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4480" y="5257800"/>
            <a:ext cx="878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退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加上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补数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3&lt;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下珠不够，下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去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凑数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&gt;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4320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0720" y="2438280"/>
            <a:ext cx="2590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3124080"/>
            <a:ext cx="2590560" cy="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4952880"/>
            <a:ext cx="2590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33400" y="241848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51080" y="316548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33440" y="24764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33440" y="419112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3344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440" y="380988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238720" y="2455560"/>
            <a:ext cx="225576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238720" y="3124080"/>
            <a:ext cx="2236680" cy="223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5238720" y="4960800"/>
            <a:ext cx="22748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91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34290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483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6748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29160" y="24764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9160" y="419112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2916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29160" y="380988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4000" y="415296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553080" y="377208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62320" y="245736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62320" y="316548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392436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354348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591240" y="268596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553080" y="3184560"/>
            <a:ext cx="76212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34000" y="45338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4380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543800" y="39625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]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-6=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0" y="6094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480" y="548640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（退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加上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6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补数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4&lt;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下珠不够，下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去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的凑数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&gt;</a:t>
            </a:r>
            <a:r>
              <a:rPr b="0" lang="zh-CN" sz="3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90720" y="2438280"/>
            <a:ext cx="2590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124080"/>
            <a:ext cx="2590560" cy="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90720" y="4952880"/>
            <a:ext cx="2590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62320" y="45720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33400" y="241848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51080" y="316548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33440" y="24764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33440" y="419112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3344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33440" y="380988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238720" y="2455560"/>
            <a:ext cx="225576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238720" y="3124080"/>
            <a:ext cx="2236680" cy="223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238720" y="4960800"/>
            <a:ext cx="22748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57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91320" y="243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10080" y="342900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483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6748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29160" y="24764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29160" y="419112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29160" y="457200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29160" y="380988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245736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62320" y="3165480"/>
            <a:ext cx="761760" cy="38088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91240" y="2685960"/>
            <a:ext cx="762120" cy="3812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4000" y="4533840"/>
            <a:ext cx="76212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3352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67480" y="3352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62320" y="4210200"/>
            <a:ext cx="76176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3828960"/>
            <a:ext cx="761760" cy="38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53080" y="415296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553080" y="3772080"/>
            <a:ext cx="76212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553080" y="3409920"/>
            <a:ext cx="762120" cy="3808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学生练习：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每题均可全盘拨入练习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14-9=          12-6=         13-8=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11-6=          14-6=         12-7=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13-6=          14-8=         13-7=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14-7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珠算基本加减法归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直    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看框珠，够加直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直    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看梁珠，够减直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凑数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加不够，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凑数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减不够，加凑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补数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档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补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补数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档不够，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补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凑补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补数加与凑数加结合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凑补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补数减与凑数减结合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9" descr=""/>
          <p:cNvPicPr/>
          <p:nvPr/>
        </p:nvPicPr>
        <p:blipFill>
          <a:blip r:embed="rId2"/>
          <a:stretch/>
        </p:blipFill>
        <p:spPr>
          <a:xfrm>
            <a:off x="7620120" y="685800"/>
            <a:ext cx="1141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捷加减法是以基本加减法为基础，采用合理的运算方式，简化运算过程，减少拨珠次数，来提高运算速度和准确率的计算方法。我们只介绍比较容易掌握的并行加减法中的三种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目三行直接加减法、一目三行正负抵销法和倒减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</a:rPr>
              <a:t>第四节    简捷加减法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81080" y="24382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目三行直接加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3505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目三行正负抵销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81080" y="4572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倒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49528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一目三行直接加减法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在竖式加减法运算中，用心算求出三行相同位数上的代数和，然后拨入对应档位的运算方法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91" descr=""/>
          <p:cNvPicPr/>
          <p:nvPr/>
        </p:nvPicPr>
        <p:blipFill>
          <a:blip r:embed="rId2"/>
          <a:stretch/>
        </p:blipFill>
        <p:spPr>
          <a:xfrm>
            <a:off x="7620120" y="5029200"/>
            <a:ext cx="1141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3333cc"/>
                </a:solidFill>
                <a:latin typeface="Times New Roman"/>
                <a:ea typeface="幼圆"/>
              </a:rPr>
              <a:t>七、珠算基本加减法的四种</a:t>
            </a:r>
            <a:r>
              <a:rPr b="0" lang="zh-CN" sz="3700" spc="-1" strike="noStrike">
                <a:solidFill>
                  <a:srgbClr val="ff0000"/>
                </a:solidFill>
                <a:latin typeface="Times New Roman"/>
                <a:ea typeface="幼圆"/>
              </a:rPr>
              <a:t>基本类型</a:t>
            </a:r>
            <a:r>
              <a:rPr b="0" lang="zh-CN" sz="3700" spc="-1" strike="noStrike">
                <a:solidFill>
                  <a:srgbClr val="3333cc"/>
                </a:solidFill>
                <a:latin typeface="Times New Roman"/>
                <a:ea typeface="幼圆"/>
              </a:rPr>
              <a:t> ：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直加、直减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凑数加、凑数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补数加、补数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凑补加、凑补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一目三行正负抵销法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在竖式加减混合运算中，用心算求出三行相同位数上的代数和（正数、负数之间相抵销），然后拨入对应档位的运算方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91" descr=""/>
          <p:cNvPicPr/>
          <p:nvPr/>
        </p:nvPicPr>
        <p:blipFill>
          <a:blip r:embed="rId2"/>
          <a:stretch/>
        </p:blipFill>
        <p:spPr>
          <a:xfrm>
            <a:off x="8002440" y="6094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 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倒减法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在加减法和加减混合运算中，往往会遇到减数大于被减数的情况，为了不改变运算顺序，可以利用虚借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的方法，在不够减的前一档虚借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，加大被减数再继续运算，以便求出结果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 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倒减法的</a:t>
            </a:r>
            <a:r>
              <a:rPr b="0" lang="zh-CN" sz="4500" spc="-1" strike="noStrike">
                <a:solidFill>
                  <a:srgbClr val="ff0000"/>
                </a:solidFill>
                <a:latin typeface="Times New Roman"/>
                <a:ea typeface="幼圆"/>
              </a:rPr>
              <a:t>分类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有借有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365760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有借无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91" descr=""/>
          <p:cNvPicPr/>
          <p:nvPr/>
        </p:nvPicPr>
        <p:blipFill>
          <a:blip r:embed="rId2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什么叫有借有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在加减法和加减混合运算中，减数大于被减数向前虚借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后，在后面的运算中如果遇到能够使虚借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那一档（注意记住虚借的档位）有余数（≥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，这时应还掉先前虚借的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即拨虚借档加数的时候得数少拨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，这种情况我们把它称之为有借有还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3333cc"/>
                </a:solidFill>
                <a:uFillTx/>
                <a:latin typeface="Times New Roman"/>
              </a:rPr>
              <a:t>有借有还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最后答案的抄写方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法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有借有还得数实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照抄得数为正值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9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什么叫有借无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在加减法和加减混合运算中，减数大于被减数向前虚借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后，在后面的运算中直至该题计算结束，也没能在虚借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那一档有加数（注意记住虚借的档位），这种情况我们把它称之为有借无还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有借无还最后答案的抄写方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法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有借无还得虚数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抄下外珠得负值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9900ff"/>
                </a:solidFill>
                <a:latin typeface="宋体"/>
              </a:rPr>
              <a:t>    </a:t>
            </a:r>
            <a:r>
              <a:rPr b="0" lang="zh-CN" sz="3500" spc="-1" strike="noStrike">
                <a:solidFill>
                  <a:srgbClr val="9900ff"/>
                </a:solidFill>
                <a:latin typeface="宋体"/>
              </a:rPr>
              <a:t>（注意：个位档要抄补数）</a:t>
            </a:r>
            <a:r>
              <a:rPr b="0" lang="zh-CN" sz="35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9" descr=""/>
          <p:cNvPicPr/>
          <p:nvPr/>
        </p:nvPicPr>
        <p:blipFill>
          <a:blip r:embed="rId2"/>
          <a:stretch/>
        </p:blipFill>
        <p:spPr>
          <a:xfrm>
            <a:off x="7543800" y="510552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</a:rPr>
              <a:t>第二节    基本加法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236232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直加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2362320" y="3276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凑数加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2362320" y="4267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补数加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5" action="ppaction://hlinksldjump"/>
          </p:cNvPr>
          <p:cNvSpPr/>
          <p:nvPr/>
        </p:nvSpPr>
        <p:spPr>
          <a:xfrm>
            <a:off x="2438280" y="51814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凑补加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9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幼圆"/>
              </a:rPr>
              <a:t>一、直加法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直加法的含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使用直加法的种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直加法的计算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3:04:00Z</dcterms:created>
  <dc:creator>doudou</dc:creator>
  <dc:description/>
  <dc:language>en-US</dc:language>
  <cp:lastModifiedBy>dengql</cp:lastModifiedBy>
  <dcterms:modified xsi:type="dcterms:W3CDTF">2005-07-04T08:08:48Z</dcterms:modified>
  <cp:revision>86</cp:revision>
  <dc:subject/>
  <dc:title>经贸系专业技能课</dc:title>
</cp:coreProperties>
</file>