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36F-9234-4613-9A83-1D291AB7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D7C-809E-4370-B87A-82D777B9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F6C-25C2-4089-A34F-F9B037B8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3E1-4794-4AFA-A043-2E16A8F6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CF4-5724-4513-8237-31D65EF6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470-F39E-4CAD-B027-DE3CE3FF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9D7-548C-46B6-9213-50FFB255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D19-5AA9-4885-B930-37D75F11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C2B-37E5-470B-8D47-4BB611DC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CE3-4D26-42BB-B226-FC8B2AB4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A2B-BB59-4B37-8C8F-8E7391E7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FC7-0419-4371-B5D1-E5C65CD7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7015-DF15-4E6C-B517-D103011453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38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28.xml"/><Relationship Id="rId6" Type="http://schemas.openxmlformats.org/officeDocument/2006/relationships/slide" Target="slide1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" Target="slide43.xml"/><Relationship Id="rId4" Type="http://schemas.openxmlformats.org/officeDocument/2006/relationships/slide" Target="slide48.xml"/><Relationship Id="rId5" Type="http://schemas.openxmlformats.org/officeDocument/2006/relationships/slide" Target="slide1.xm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第三章  珠算基本乘法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566720" y="2514600"/>
            <a:ext cx="5519880" cy="762120"/>
          </a:xfrm>
          <a:custGeom>
            <a:avLst/>
            <a:gdLst>
              <a:gd name="textAreaLeft" fmla="*/ 49320 w 5519880"/>
              <a:gd name="textAreaRight" fmla="*/ 5470560 w 5519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6381" h="21600">
                <a:moveTo>
                  <a:pt x="0" y="0"/>
                </a:moveTo>
                <a:lnTo>
                  <a:pt x="156381" y="0"/>
                </a:lnTo>
                <a:lnTo>
                  <a:pt x="156381" y="21600"/>
                </a:lnTo>
                <a:lnTo>
                  <a:pt x="0" y="21600"/>
                </a:lnTo>
                <a:close/>
              </a:path>
              <a:path fill="lightenLess" w="156381" h="21600">
                <a:moveTo>
                  <a:pt x="0" y="0"/>
                </a:moveTo>
                <a:lnTo>
                  <a:pt x="156381" y="0"/>
                </a:lnTo>
                <a:lnTo>
                  <a:pt x="154981" y="1400"/>
                </a:lnTo>
                <a:lnTo>
                  <a:pt x="1400" y="1400"/>
                </a:lnTo>
                <a:close/>
              </a:path>
              <a:path fill="darken" w="156381" h="21600">
                <a:moveTo>
                  <a:pt x="156381" y="0"/>
                </a:moveTo>
                <a:lnTo>
                  <a:pt x="156381" y="21600"/>
                </a:lnTo>
                <a:lnTo>
                  <a:pt x="154981" y="20200"/>
                </a:lnTo>
                <a:lnTo>
                  <a:pt x="154981" y="1400"/>
                </a:lnTo>
                <a:close/>
              </a:path>
              <a:path fill="darkenLess" w="156381" h="21600">
                <a:moveTo>
                  <a:pt x="15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81" y="20200"/>
                </a:lnTo>
                <a:close/>
              </a:path>
              <a:path fill="lighten" w="15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第一节    一位数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1600200" y="3352680"/>
            <a:ext cx="5519880" cy="762120"/>
          </a:xfrm>
          <a:custGeom>
            <a:avLst/>
            <a:gdLst>
              <a:gd name="textAreaLeft" fmla="*/ 49320 w 5519880"/>
              <a:gd name="textAreaRight" fmla="*/ 5470560 w 5519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6381" h="21600">
                <a:moveTo>
                  <a:pt x="0" y="0"/>
                </a:moveTo>
                <a:lnTo>
                  <a:pt x="156381" y="0"/>
                </a:lnTo>
                <a:lnTo>
                  <a:pt x="156381" y="21600"/>
                </a:lnTo>
                <a:lnTo>
                  <a:pt x="0" y="21600"/>
                </a:lnTo>
                <a:close/>
              </a:path>
              <a:path fill="lightenLess" w="156381" h="21600">
                <a:moveTo>
                  <a:pt x="0" y="0"/>
                </a:moveTo>
                <a:lnTo>
                  <a:pt x="156381" y="0"/>
                </a:lnTo>
                <a:lnTo>
                  <a:pt x="154981" y="1400"/>
                </a:lnTo>
                <a:lnTo>
                  <a:pt x="1400" y="1400"/>
                </a:lnTo>
                <a:close/>
              </a:path>
              <a:path fill="darken" w="156381" h="21600">
                <a:moveTo>
                  <a:pt x="156381" y="0"/>
                </a:moveTo>
                <a:lnTo>
                  <a:pt x="156381" y="21600"/>
                </a:lnTo>
                <a:lnTo>
                  <a:pt x="154981" y="20200"/>
                </a:lnTo>
                <a:lnTo>
                  <a:pt x="154981" y="1400"/>
                </a:lnTo>
                <a:close/>
              </a:path>
              <a:path fill="darkenLess" w="156381" h="21600">
                <a:moveTo>
                  <a:pt x="15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81" y="20200"/>
                </a:lnTo>
                <a:close/>
              </a:path>
              <a:path fill="lighten" w="15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第二节    多位数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1371600" y="4191120"/>
            <a:ext cx="5519880" cy="761760"/>
          </a:xfrm>
          <a:custGeom>
            <a:avLst/>
            <a:gdLst>
              <a:gd name="textAreaLeft" fmla="*/ 49320 w 5519880"/>
              <a:gd name="textAreaRight" fmla="*/ 5470560 w 5519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56455" h="21600">
                <a:moveTo>
                  <a:pt x="0" y="0"/>
                </a:moveTo>
                <a:lnTo>
                  <a:pt x="156455" y="0"/>
                </a:lnTo>
                <a:lnTo>
                  <a:pt x="156455" y="21600"/>
                </a:lnTo>
                <a:lnTo>
                  <a:pt x="0" y="21600"/>
                </a:lnTo>
                <a:close/>
              </a:path>
              <a:path fill="lightenLess" w="156455" h="21600">
                <a:moveTo>
                  <a:pt x="0" y="0"/>
                </a:moveTo>
                <a:lnTo>
                  <a:pt x="156455" y="0"/>
                </a:lnTo>
                <a:lnTo>
                  <a:pt x="155055" y="1400"/>
                </a:lnTo>
                <a:lnTo>
                  <a:pt x="1400" y="1400"/>
                </a:lnTo>
                <a:close/>
              </a:path>
              <a:path fill="darken" w="156455" h="21600">
                <a:moveTo>
                  <a:pt x="156455" y="0"/>
                </a:moveTo>
                <a:lnTo>
                  <a:pt x="156455" y="21600"/>
                </a:lnTo>
                <a:lnTo>
                  <a:pt x="155055" y="20200"/>
                </a:lnTo>
                <a:lnTo>
                  <a:pt x="155055" y="1400"/>
                </a:lnTo>
                <a:close/>
              </a:path>
              <a:path fill="darkenLess" w="156455" h="21600">
                <a:moveTo>
                  <a:pt x="156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5055" y="20200"/>
                </a:lnTo>
                <a:close/>
              </a:path>
              <a:path fill="lighten" w="156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第三节    小数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4952880"/>
            <a:ext cx="5519880" cy="762120"/>
          </a:xfrm>
          <a:custGeom>
            <a:avLst/>
            <a:gdLst>
              <a:gd name="textAreaLeft" fmla="*/ 49320 w 5519880"/>
              <a:gd name="textAreaRight" fmla="*/ 5470560 w 5519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6381" h="21600">
                <a:moveTo>
                  <a:pt x="0" y="0"/>
                </a:moveTo>
                <a:lnTo>
                  <a:pt x="156381" y="0"/>
                </a:lnTo>
                <a:lnTo>
                  <a:pt x="156381" y="21600"/>
                </a:lnTo>
                <a:lnTo>
                  <a:pt x="0" y="21600"/>
                </a:lnTo>
                <a:close/>
              </a:path>
              <a:path fill="lightenLess" w="156381" h="21600">
                <a:moveTo>
                  <a:pt x="0" y="0"/>
                </a:moveTo>
                <a:lnTo>
                  <a:pt x="156381" y="0"/>
                </a:lnTo>
                <a:lnTo>
                  <a:pt x="154981" y="1400"/>
                </a:lnTo>
                <a:lnTo>
                  <a:pt x="1400" y="1400"/>
                </a:lnTo>
                <a:close/>
              </a:path>
              <a:path fill="darken" w="156381" h="21600">
                <a:moveTo>
                  <a:pt x="156381" y="0"/>
                </a:moveTo>
                <a:lnTo>
                  <a:pt x="156381" y="21600"/>
                </a:lnTo>
                <a:lnTo>
                  <a:pt x="154981" y="20200"/>
                </a:lnTo>
                <a:lnTo>
                  <a:pt x="154981" y="1400"/>
                </a:lnTo>
                <a:close/>
              </a:path>
              <a:path fill="darkenLess" w="156381" h="21600">
                <a:moveTo>
                  <a:pt x="15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81" y="20200"/>
                </a:lnTo>
                <a:close/>
              </a:path>
              <a:path fill="lighten" w="15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第四节    简捷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91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笔算方式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73921×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=295684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×1—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04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×2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—08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×9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—3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×3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—1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×7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—28</a:t>
            </a:r>
            <a:r>
              <a:rPr b="0" lang="zh-CN" sz="35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29568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523880"/>
            <a:ext cx="4343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珠算方式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73921×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=295684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×7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—28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×3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—12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×9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—3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×2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—08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</a:t>
            </a:r>
            <a:r>
              <a:rPr b="0" lang="zh-CN" sz="3500" spc="-1" strike="noStrike">
                <a:solidFill>
                  <a:srgbClr val="ff6600"/>
                </a:solidFill>
                <a:latin typeface="Times New Roman"/>
                <a:ea typeface="黑体"/>
              </a:rPr>
              <a:t>4×1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—04</a:t>
            </a:r>
            <a:r>
              <a:rPr b="0" lang="zh-CN" sz="35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</a:t>
            </a:r>
            <a:r>
              <a:rPr b="0" lang="zh-CN" sz="3500" spc="-1" strike="noStrike">
                <a:solidFill>
                  <a:srgbClr val="0000ff"/>
                </a:solidFill>
                <a:latin typeface="Times New Roman"/>
                <a:ea typeface="黑体"/>
              </a:rPr>
              <a:t>29568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5334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3716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457200"/>
            <a:ext cx="6172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宋体"/>
                <a:ea typeface="华文新魏"/>
              </a:rPr>
              <a:t>笔算与珠算的方法对比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838080"/>
            <a:ext cx="9144000" cy="54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珠算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73921×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2956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4×7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+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4×3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+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4×9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+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4×2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+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</a:t>
            </a:r>
            <a:r>
              <a:rPr b="0" lang="zh-CN" sz="4000" spc="-1" strike="noStrike" u="sng">
                <a:solidFill>
                  <a:srgbClr val="ff6600"/>
                </a:solidFill>
                <a:uFillTx/>
                <a:latin typeface="Times New Roman"/>
                <a:ea typeface="黑体"/>
              </a:rPr>
              <a:t>4×1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+04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9568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7621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11430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00ff"/>
                </a:solidFill>
                <a:uFillTx/>
                <a:latin typeface="Times New Roman"/>
              </a:rPr>
              <a:t>要领概括</a:t>
            </a:r>
            <a:r>
              <a:rPr b="0" lang="zh-CN" sz="4400" spc="-1" strike="noStrike">
                <a:solidFill>
                  <a:srgbClr val="9900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251460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心记乘数，眼看被乘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用乘数从高位向低位去乘被乘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数的每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把各个单积依次退位叠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宋体"/>
              </a:rPr>
              <a:t>学生练习：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33160" y="3200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5000" spc="-1" strike="noStrike">
                <a:solidFill>
                  <a:srgbClr val="0000ff"/>
                </a:solidFill>
                <a:latin typeface="Times New Roman"/>
                <a:ea typeface="黑体"/>
              </a:rPr>
              <a:t>194853×</a:t>
            </a:r>
            <a:r>
              <a:rPr b="0" lang="zh-CN" sz="5000" spc="-1" strike="noStrike">
                <a:solidFill>
                  <a:srgbClr val="ff6600"/>
                </a:solidFill>
                <a:latin typeface="Times New Roman"/>
                <a:ea typeface="黑体"/>
              </a:rPr>
              <a:t>6</a:t>
            </a:r>
            <a:r>
              <a:rPr b="0" lang="zh-CN" sz="50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3200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    </a:t>
            </a:r>
            <a:r>
              <a:rPr b="0" lang="zh-CN" sz="5000" spc="-1" strike="noStrike">
                <a:solidFill>
                  <a:srgbClr val="0000ff"/>
                </a:solidFill>
                <a:latin typeface="Times New Roman"/>
                <a:ea typeface="黑体"/>
              </a:rPr>
              <a:t>1169118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位数乘法练习题答案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1828800"/>
          <a:ext cx="7772400" cy="4133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×2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691357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54321×2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7530864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×3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03703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54321×3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6296296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×4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38271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54321×4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5061728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×5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1728394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54321×5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382716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×6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407407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54321×6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259259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×7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641975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54321×7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91358024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×8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876543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54321×8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90123456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×9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111111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54321×9=</a:t>
                      </a:r>
                      <a:r>
                        <a:rPr b="0" lang="zh-CN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8888888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小结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今天是我们第一次接触珠算的乘法，它是对加减法的一个简便运算。而在珠算乘法中最为简捷、方便的方法是——空盘前乘法。我们今天学习的一位数乘法就是按照这种方法进行计算的。在今天的学习中，我们首先认识了什么是“空盘前乘法”，珠算乘法学习的一些预备知识，然后通过笔算的思路引导出了珠算的方法，并总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要领，每个同学一定要牢记，并按该要领学习珠算的乘法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心记乘数，眼看被乘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乘数从高位向低位去乘被乘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的每一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把各个单积依次退位叠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143000"/>
            <a:ext cx="71629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华文行楷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华文行楷"/>
              </a:rPr>
              <a:t>前面我们已经学习了乘数为一位数的乘法，空盘前乘法的基本方法已经掌握。今天我们要学习的是第二节——多位数乘法，它是对一位数乘法的一个扩展。我们所要讲的</a:t>
            </a:r>
            <a:r>
              <a:rPr b="0" lang="zh-CN" sz="3000" spc="-1" strike="noStrike">
                <a:solidFill>
                  <a:srgbClr val="ff0066"/>
                </a:solidFill>
                <a:latin typeface="宋体"/>
                <a:ea typeface="华文行楷"/>
              </a:rPr>
              <a:t>多位数乘法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华文行楷"/>
              </a:rPr>
              <a:t>是指乘数和被乘数都在二位或二位以上的数字相乘的乘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</a:rPr>
              <a:t>第二节    多位数乘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1905120" y="25146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被乘数和乘数中均不含零的乘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1905120" y="3276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被乘数中含零的乘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1905120" y="47242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被乘数和乘数中均含零的乘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1905120" y="40384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乘数中含零的乘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9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457200"/>
            <a:ext cx="601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]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黑体"/>
              </a:rPr>
              <a:t>8361×75=62707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66"/>
                </a:solidFill>
                <a:latin typeface="Times New Roman"/>
                <a:ea typeface="黑体"/>
              </a:rPr>
              <a:t>理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</a:t>
            </a:r>
            <a:r>
              <a:rPr b="0" lang="zh-CN" sz="2600" spc="-1" strike="noStrike">
                <a:solidFill>
                  <a:srgbClr val="3366ff"/>
                </a:solidFill>
                <a:latin typeface="Times New Roman"/>
                <a:ea typeface="黑体"/>
              </a:rPr>
              <a:t>8361×75 = 8361×70 + 8361×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</a:t>
            </a:r>
            <a:r>
              <a:rPr b="0" lang="zh-CN" sz="2200" spc="-1" strike="noStrike">
                <a:solidFill>
                  <a:srgbClr val="339966"/>
                </a:solidFill>
                <a:latin typeface="Times New Roman"/>
                <a:ea typeface="黑体"/>
              </a:rPr>
              <a:t>（第</a:t>
            </a:r>
            <a:r>
              <a:rPr b="0" lang="zh-CN" sz="2200" spc="-1" strike="noStrike">
                <a:solidFill>
                  <a:srgbClr val="339966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339966"/>
                </a:solidFill>
                <a:latin typeface="Times New Roman"/>
                <a:ea typeface="黑体"/>
              </a:rPr>
              <a:t>分积）</a:t>
            </a:r>
            <a:r>
              <a:rPr b="0" lang="zh-CN" sz="2200" spc="-1" strike="noStrike">
                <a:solidFill>
                  <a:srgbClr val="ff6600"/>
                </a:solidFill>
                <a:latin typeface="Times New Roman"/>
                <a:ea typeface="黑体"/>
              </a:rPr>
              <a:t>+</a:t>
            </a:r>
            <a:r>
              <a:rPr b="0" lang="zh-CN" sz="2200" spc="-1" strike="noStrike">
                <a:solidFill>
                  <a:srgbClr val="ff6600"/>
                </a:solidFill>
                <a:latin typeface="Times New Roman"/>
                <a:ea typeface="黑体"/>
              </a:rPr>
              <a:t>（第</a:t>
            </a:r>
            <a:r>
              <a:rPr b="0" lang="zh-CN" sz="2200" spc="-1" strike="noStrike">
                <a:solidFill>
                  <a:srgbClr val="ff6600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f6600"/>
                </a:solidFill>
                <a:latin typeface="Times New Roman"/>
                <a:ea typeface="黑体"/>
              </a:rPr>
              <a:t>分积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2563920"/>
            <a:ext cx="487692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8361×70                  5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2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4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</a:t>
            </a:r>
            <a:r>
              <a:rPr b="0" lang="zh-CN" sz="26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lang="zh-CN" sz="26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07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5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52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</a:t>
            </a: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8361×5          4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    </a:t>
            </a: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15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      </a:t>
            </a: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  </a:t>
            </a:r>
            <a:r>
              <a:rPr b="0" lang="zh-CN" sz="2600" spc="-1" strike="noStrike" u="sng">
                <a:solidFill>
                  <a:srgbClr val="ff6600"/>
                </a:solidFill>
                <a:uFillTx/>
                <a:latin typeface="Times New Roman"/>
                <a:ea typeface="黑体"/>
              </a:rPr>
              <a:t>      </a:t>
            </a:r>
            <a:r>
              <a:rPr b="0" lang="zh-CN" sz="2600" spc="-1" strike="noStrike" u="sng">
                <a:solidFill>
                  <a:srgbClr val="ff6600"/>
                </a:solidFill>
                <a:uFillTx/>
                <a:latin typeface="Times New Roman"/>
                <a:ea typeface="黑体"/>
              </a:rPr>
              <a:t>05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</a:t>
            </a: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62707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3049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）用乘数的首位数从左向右去乘被乘数的各位，把各单积依次退位叠加，结果为“第一分积”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）再用乘数的次字位从左向右遍乘被乘数的各位，从第一分积的第二位起依次退位叠加，结果为“第一、第二分积”之和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）若乘数还有第三位，方法同上，第一个单积从一、二分积之和的第三位起退位叠加即可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91440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00ff"/>
                </a:solidFill>
                <a:uFillTx/>
                <a:latin typeface="Times New Roman"/>
              </a:rPr>
              <a:t>方法与步骤概括</a:t>
            </a:r>
            <a:r>
              <a:rPr b="0" lang="zh-CN" sz="4400" spc="-1" strike="noStrike">
                <a:solidFill>
                  <a:srgbClr val="9900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</a:rPr>
              <a:t>第一节    一位数乘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1981080" y="2286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珠算乘法的种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981080" y="29718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什么是空盘前乘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981080" y="3733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学习空盘前乘法的一些预备知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981080" y="51814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珠算乘法的学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198108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珠算乘法的导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1066680"/>
            <a:ext cx="6019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2]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黑体"/>
              </a:rPr>
              <a:t>2587×64=16556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093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2587×60                  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</a:t>
            </a:r>
            <a:r>
              <a:rPr b="0" lang="zh-CN" sz="26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lang="zh-CN" sz="26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42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1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5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</a:t>
            </a: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2587×4          0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    </a:t>
            </a: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20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      </a:t>
            </a: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  </a:t>
            </a:r>
            <a:r>
              <a:rPr b="0" lang="zh-CN" sz="2600" spc="-1" strike="noStrike" u="sng">
                <a:solidFill>
                  <a:srgbClr val="ff6600"/>
                </a:solidFill>
                <a:uFillTx/>
                <a:latin typeface="Times New Roman"/>
                <a:ea typeface="黑体"/>
              </a:rPr>
              <a:t>      </a:t>
            </a:r>
            <a:r>
              <a:rPr b="0" lang="zh-CN" sz="2600" spc="-1" strike="noStrike" u="sng">
                <a:solidFill>
                  <a:srgbClr val="ff6600"/>
                </a:solidFill>
                <a:uFillTx/>
                <a:latin typeface="Times New Roman"/>
                <a:ea typeface="黑体"/>
              </a:rPr>
              <a:t>28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</a:t>
            </a:r>
            <a:r>
              <a:rPr b="0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16556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91440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03160"/>
            <a:ext cx="9144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75×39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48×54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9286×43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586×672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537×842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3895×9614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03160"/>
            <a:ext cx="9144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75×39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92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48×54= 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3499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9286×43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3992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586×672= 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39379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537×842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550415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3895×9614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374465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★</a:t>
            </a:r>
            <a:r>
              <a:rPr b="0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被乘数夹</a:t>
            </a:r>
            <a:r>
              <a:rPr b="0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0</a:t>
            </a:r>
            <a:r>
              <a:rPr b="0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的乘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3]    5807 ×96=5574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5807×90                 4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7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</a:t>
            </a:r>
            <a:r>
              <a:rPr b="0" lang="zh-CN" sz="30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lang="zh-CN" sz="30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63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5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26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6600"/>
                </a:solidFill>
                <a:latin typeface="Times New Roman"/>
                <a:ea typeface="黑体"/>
              </a:rPr>
              <a:t>5807×6                      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    </a:t>
            </a:r>
            <a:r>
              <a:rPr b="0" lang="zh-CN" sz="3000" spc="-1" strike="noStrike">
                <a:solidFill>
                  <a:srgbClr val="ff6600"/>
                </a:solidFill>
                <a:latin typeface="Times New Roman"/>
                <a:ea typeface="黑体"/>
              </a:rPr>
              <a:t>48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      </a:t>
            </a:r>
            <a:r>
              <a:rPr b="0" lang="zh-CN" sz="3000" spc="-1" strike="noStrike">
                <a:solidFill>
                  <a:srgbClr val="ff6600"/>
                </a:solidFill>
                <a:latin typeface="Times New Roman"/>
                <a:ea typeface="黑体"/>
              </a:rPr>
              <a:t>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  </a:t>
            </a:r>
            <a:r>
              <a:rPr b="0" lang="zh-CN" sz="3000" spc="-1" strike="noStrike" u="sng">
                <a:solidFill>
                  <a:srgbClr val="ff6600"/>
                </a:solidFill>
                <a:uFillTx/>
                <a:latin typeface="Times New Roman"/>
                <a:ea typeface="黑体"/>
              </a:rPr>
              <a:t>      </a:t>
            </a:r>
            <a:r>
              <a:rPr b="0" lang="zh-CN" sz="3000" spc="-1" strike="noStrike" u="sng">
                <a:solidFill>
                  <a:srgbClr val="ff6600"/>
                </a:solidFill>
                <a:uFillTx/>
                <a:latin typeface="Times New Roman"/>
                <a:ea typeface="黑体"/>
              </a:rPr>
              <a:t>42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                      </a:t>
            </a:r>
            <a:r>
              <a:rPr b="0" lang="zh-CN" sz="3000" spc="-1" strike="noStrike">
                <a:solidFill>
                  <a:srgbClr val="ff6600"/>
                </a:solidFill>
                <a:latin typeface="Times New Roman"/>
                <a:ea typeface="黑体"/>
              </a:rPr>
              <a:t>55747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380880"/>
            <a:ext cx="167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被乘数夹</a:t>
            </a:r>
            <a:r>
              <a:rPr b="1" lang="zh-CN" sz="45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0</a:t>
            </a:r>
            <a:r>
              <a:rPr b="1" lang="zh-CN" sz="45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的乘法方法概括：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乘到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，有一个零向后移一位，有二个零向后移二位，以此类推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219320" y="1066680"/>
            <a:ext cx="853452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4]   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1068×72=768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1068×70     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4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        </a:t>
            </a:r>
            <a:r>
              <a:rPr b="0" lang="zh-CN" sz="26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    </a:t>
            </a:r>
            <a:r>
              <a:rPr b="0" lang="zh-CN" sz="26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56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  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0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47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ff"/>
                </a:solidFill>
                <a:latin typeface="Times New Roman"/>
                <a:ea typeface="黑体"/>
              </a:rPr>
              <a:t>                    </a:t>
            </a:r>
            <a:r>
              <a:rPr b="0" lang="zh-CN" sz="2600" spc="-1" strike="noStrike">
                <a:solidFill>
                  <a:srgbClr val="ff9900"/>
                </a:solidFill>
                <a:latin typeface="Times New Roman"/>
                <a:ea typeface="黑体"/>
              </a:rPr>
              <a:t>1068×2        0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0" lang="zh-CN" sz="2600" spc="-1" strike="noStrike">
                <a:solidFill>
                  <a:srgbClr val="ff9900"/>
                </a:solidFill>
                <a:latin typeface="Times New Roman"/>
                <a:ea typeface="黑体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0" lang="zh-CN" sz="2600" spc="-1" strike="noStrike">
                <a:solidFill>
                  <a:srgbClr val="ff9900"/>
                </a:solidFill>
                <a:latin typeface="Times New Roman"/>
                <a:ea typeface="黑体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                                  </a:t>
            </a:r>
            <a:r>
              <a:rPr b="0" lang="zh-CN" sz="2600" spc="-1" strike="noStrike" u="sng">
                <a:solidFill>
                  <a:srgbClr val="ff9900"/>
                </a:solidFill>
                <a:uFillTx/>
                <a:latin typeface="Times New Roman"/>
                <a:ea typeface="黑体"/>
              </a:rPr>
              <a:t>      </a:t>
            </a:r>
            <a:r>
              <a:rPr b="0" lang="zh-CN" sz="2600" spc="-1" strike="noStrike" u="sng">
                <a:solidFill>
                  <a:srgbClr val="ff9900"/>
                </a:solidFill>
                <a:uFillTx/>
                <a:latin typeface="Times New Roman"/>
                <a:ea typeface="黑体"/>
              </a:rPr>
              <a:t>16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                                </a:t>
            </a:r>
            <a:r>
              <a:rPr b="0" lang="zh-CN" sz="2600" spc="-1" strike="noStrike">
                <a:solidFill>
                  <a:srgbClr val="ff9900"/>
                </a:solidFill>
                <a:latin typeface="Times New Roman"/>
                <a:ea typeface="黑体"/>
              </a:rPr>
              <a:t>076896</a:t>
            </a:r>
            <a:r>
              <a:rPr b="0" lang="zh-CN" sz="11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4572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03160"/>
            <a:ext cx="9144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809×54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307×62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04×38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5008×79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004×786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90001×4295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803160"/>
            <a:ext cx="9144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809×54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4368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307×62= 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1903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04×38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295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5008×79= 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3956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004×786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47191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90001×4295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3865542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★</a:t>
            </a:r>
            <a:r>
              <a:rPr b="0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乘数夹</a:t>
            </a:r>
            <a:r>
              <a:rPr b="0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0</a:t>
            </a:r>
            <a:r>
              <a:rPr b="0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的乘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5]  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628×</a:t>
            </a:r>
            <a:r>
              <a:rPr b="0" lang="zh-CN" sz="4400" spc="-1" strike="noStrike">
                <a:solidFill>
                  <a:srgbClr val="339966"/>
                </a:solidFill>
                <a:latin typeface="Times New Roman"/>
                <a:ea typeface="黑体"/>
              </a:rPr>
              <a:t>3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=1927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</a:t>
            </a:r>
            <a:r>
              <a:rPr b="0" lang="zh-CN" sz="30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      </a:t>
            </a:r>
            <a:r>
              <a:rPr b="0" lang="zh-CN" sz="30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24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18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4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56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19279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3808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乘数夹</a:t>
            </a:r>
            <a:r>
              <a:rPr b="1" lang="zh-CN" sz="45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0</a:t>
            </a:r>
            <a:r>
              <a:rPr b="1" lang="zh-CN" sz="45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的乘法方法概括：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乘数含零，跳过不乘，下一分积直接对位相加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1066680"/>
            <a:ext cx="71629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珠算乘法的种类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珠算乘法的种类很多，按不同的分类方法，可有置数乘法、空盘乘法、前乘法、后乘法、隔位乘法、不隔位乘法等等，在这些方法中，最简便、最容易掌握的还是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空盘前乘法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，今天我们要学习的乘法也是采用这种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819000"/>
            <a:ext cx="9144000" cy="60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6]  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4295×</a:t>
            </a:r>
            <a:r>
              <a:rPr b="0" lang="zh-CN" sz="4400" spc="-1" strike="noStrike">
                <a:solidFill>
                  <a:srgbClr val="339966"/>
                </a:solidFill>
                <a:latin typeface="Times New Roman"/>
                <a:ea typeface="黑体"/>
              </a:rPr>
              <a:t>6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0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=258043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 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5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</a:t>
            </a:r>
            <a:r>
              <a:rPr b="0" lang="zh-CN" sz="30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      </a:t>
            </a:r>
            <a:r>
              <a:rPr b="0" lang="zh-CN" sz="30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30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257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3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16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7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40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258043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1676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803160"/>
            <a:ext cx="9144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839×504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317×6002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94×308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92×4001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216×108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9254×60005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803160"/>
            <a:ext cx="914400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839×504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42285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317×6002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190263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94×308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1375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92×4001= 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76869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216×108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332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9254×60005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555286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99"/>
                </a:solidFill>
                <a:latin typeface="Times New Roman"/>
                <a:ea typeface="方正舒体"/>
              </a:rPr>
              <a:t>试一试</a:t>
            </a:r>
            <a:r>
              <a:rPr b="0" lang="zh-CN" sz="4800" spc="-1" strike="noStrike">
                <a:solidFill>
                  <a:srgbClr val="006699"/>
                </a:solidFill>
                <a:latin typeface="Times New Roman"/>
                <a:ea typeface="方正舒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2084×5703=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276720"/>
            <a:ext cx="7315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同学们仔细观察这道题，它的被乘数和乘数均包含了</a:t>
            </a:r>
            <a:r>
              <a:rPr b="0" lang="zh-CN" sz="30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0</a:t>
            </a:r>
            <a:r>
              <a:rPr b="0" lang="zh-CN" sz="30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，这是我们第二节中的第四个知识点要讲的内容，其实就是第二、三两个知识点的合并。解题方法也是这两个知识点的方法的合并，因此同学们在这个知识点上理解起来也会较容易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819000"/>
            <a:ext cx="9144000" cy="60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7]  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2084×</a:t>
            </a:r>
            <a:r>
              <a:rPr b="0" lang="zh-CN" sz="4400" spc="-1" strike="noStrike">
                <a:solidFill>
                  <a:srgbClr val="339966"/>
                </a:solidFill>
                <a:latin typeface="Times New Roman"/>
                <a:ea typeface="黑体"/>
              </a:rPr>
              <a:t>5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=10482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 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</a:t>
            </a:r>
            <a:r>
              <a:rPr b="0" lang="zh-CN" sz="30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      </a:t>
            </a:r>
            <a:r>
              <a:rPr b="0" lang="zh-CN" sz="3000" spc="-1" strike="noStrike" u="sng">
                <a:solidFill>
                  <a:srgbClr val="339966"/>
                </a:solidFill>
                <a:uFillTx/>
                <a:latin typeface="Times New Roman"/>
                <a:ea typeface="黑体"/>
              </a:rPr>
              <a:t>20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         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10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3000" spc="-1" strike="noStrike">
                <a:solidFill>
                  <a:srgbClr val="339966"/>
                </a:solidFill>
                <a:latin typeface="Times New Roman"/>
                <a:ea typeface="黑体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0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12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104825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167652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被乘数和乘数均夹</a:t>
            </a:r>
            <a:r>
              <a:rPr b="1" lang="zh-CN" sz="45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0</a:t>
            </a:r>
            <a:r>
              <a:rPr b="1" lang="zh-CN" sz="45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的方法概括：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楷体_GB2312"/>
              </a:rPr>
              <a:t>被乘数含零，乘到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楷体_GB2312"/>
              </a:rPr>
              <a:t>时向后移位，乘数含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楷体_GB2312"/>
              </a:rPr>
              <a:t>时跳过不乘。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03160"/>
            <a:ext cx="9144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809×504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307×6002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04×308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02×4001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206×108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9054×6005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03160"/>
            <a:ext cx="9144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809×504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40773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307×6002= 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18426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04×308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1860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602×4001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408602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206×108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224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339966"/>
                </a:solidFill>
                <a:latin typeface="Times New Roman"/>
                <a:ea typeface="黑体"/>
              </a:rPr>
              <a:t>9054×6005=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54369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95280" y="9903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前面已经学了两节，但不管是一位数乘法还是多位数乘法，也不管是被乘数和乘数中间夹不夹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都是整数与整数相乘。但是在实际工作中，不仅仅有整数，而且经常会碰到小数的乘法，而且在小数位很多的时候要求我们保留小数位后的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，这个时候我们就要判断乘积的整数和小数位数。今天我们就一起来学习本章的第三节——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数乘法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第三节    小数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2438280" y="25146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数的定位与位数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2438280" y="3505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积的定位方法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2438280" y="44197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小数乘法例题解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0120" y="5105520"/>
            <a:ext cx="1141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19320" y="12952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空盘前乘法：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23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9900ff"/>
                </a:solidFill>
                <a:latin typeface="Times New Roman"/>
              </a:rPr>
              <a:t>        “</a:t>
            </a:r>
            <a:r>
              <a:rPr b="0" lang="zh-CN" sz="3000" spc="-1" strike="noStrike">
                <a:solidFill>
                  <a:srgbClr val="9900ff"/>
                </a:solidFill>
                <a:latin typeface="Times New Roman"/>
              </a:rPr>
              <a:t>空盘”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是指被乘数和乘数均不置在算盘上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962520"/>
            <a:ext cx="70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000" spc="-1" strike="noStrike">
                <a:solidFill>
                  <a:srgbClr val="9900ff"/>
                </a:solidFill>
                <a:latin typeface="Times New Roman"/>
              </a:rPr>
              <a:t>“</a:t>
            </a:r>
            <a:r>
              <a:rPr b="0" lang="zh-CN" sz="3000" spc="-1" strike="noStrike">
                <a:solidFill>
                  <a:srgbClr val="9900ff"/>
                </a:solidFill>
                <a:latin typeface="Times New Roman"/>
              </a:rPr>
              <a:t>前乘”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是指被乘数和乘数从高位乘起的一种方法。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9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495288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66320" y="7617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珠算计算，定位很重要，如果算盘上没有固定的位数，同样的数就不能确定它数值的大小，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，因此，我们就先给盘上的各档定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2004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宋体"/>
                <a:ea typeface="华文彩云"/>
              </a:rPr>
              <a:t>    </a:t>
            </a:r>
            <a:r>
              <a:rPr b="0" lang="zh-CN" sz="3500" spc="-1" strike="noStrike">
                <a:solidFill>
                  <a:srgbClr val="ff0000"/>
                </a:solidFill>
                <a:latin typeface="宋体"/>
                <a:ea typeface="华文彩云"/>
              </a:rPr>
              <a:t>那我们应该怎样定位呢？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96252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们知道，一个数只要确定了小数点位置后，其位数也就被明确了。我们来看下面这个算盘定位图：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990720" y="685800"/>
            <a:ext cx="7390440" cy="2437920"/>
            <a:chOff x="990720" y="685800"/>
            <a:chExt cx="7390440" cy="2437920"/>
          </a:xfrm>
        </p:grpSpPr>
        <p:grpSp>
          <p:nvGrpSpPr>
            <p:cNvPr id="143" name=""/>
            <p:cNvGrpSpPr/>
            <p:nvPr/>
          </p:nvGrpSpPr>
          <p:grpSpPr>
            <a:xfrm>
              <a:off x="2509200" y="1060560"/>
              <a:ext cx="5098680" cy="906480"/>
              <a:chOff x="2509200" y="1060560"/>
              <a:chExt cx="5098680" cy="90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2509200" y="1060560"/>
                <a:ext cx="0" cy="90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19320" y="1060560"/>
                <a:ext cx="0" cy="90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29800" y="1060560"/>
                <a:ext cx="0" cy="90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39920" y="1060560"/>
                <a:ext cx="0" cy="90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8240" y="1060560"/>
                <a:ext cx="0" cy="90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58360" y="1060560"/>
                <a:ext cx="0" cy="90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68840" y="1060560"/>
                <a:ext cx="0" cy="90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78960" y="1060560"/>
                <a:ext cx="0" cy="90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587640" y="1060560"/>
                <a:ext cx="0" cy="90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98120" y="1060560"/>
                <a:ext cx="0" cy="90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07880" y="1060560"/>
                <a:ext cx="0" cy="90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990720" y="1014840"/>
              <a:ext cx="6960960" cy="997920"/>
            </a:xfrm>
            <a:prstGeom prst="leftArrow">
              <a:avLst>
                <a:gd name="adj1" fmla="val 21157"/>
                <a:gd name="adj2" fmla="val 570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73360" y="1589400"/>
              <a:ext cx="343800" cy="7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45800" y="2117880"/>
              <a:ext cx="163224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</a:rPr>
                <a:t>小数点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76840" y="833760"/>
              <a:ext cx="51552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15600" y="833760"/>
              <a:ext cx="51552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68680" y="833760"/>
              <a:ext cx="515520" cy="12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68640" y="685800"/>
              <a:ext cx="621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+6  +5  +4  +3  +2  +1  0  </a:t>
              </a:r>
              <a:r>
                <a:rPr b="0" lang="zh-CN" sz="27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–</a:t>
              </a:r>
              <a:r>
                <a:rPr b="0" lang="zh-CN" sz="27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1  </a:t>
              </a:r>
              <a:r>
                <a:rPr b="0" lang="zh-CN" sz="27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–</a:t>
              </a:r>
              <a:r>
                <a:rPr b="0" lang="zh-CN" sz="27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2  </a:t>
              </a:r>
              <a:r>
                <a:rPr b="0" lang="zh-CN" sz="27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–</a:t>
              </a:r>
              <a:r>
                <a:rPr b="0" lang="zh-CN" sz="27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3  -4</a:t>
              </a:r>
              <a:r>
                <a:rPr b="0" lang="zh-CN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73911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怎样认识上面这个图的位标呢？它们又分别代表什么呢？我们把红色的那个圆点定为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小数点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，在小数点前面的档依次为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位、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位、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位……；小数点后面的档依次为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位、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位、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位……。这些位标把一个数分为以下三类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数的分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幼圆"/>
              </a:rPr>
              <a:t>正位数：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凡整数和带小数的数字，有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位整数就叫正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位。如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57328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+5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位）      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57.32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+2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位）        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5.7328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+1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位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幼圆"/>
              </a:rPr>
              <a:t>零位数：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凡纯小数的小数点后面到有效数字之间没有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的数。如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0.57328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0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位）      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0.64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0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位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幼圆"/>
              </a:rPr>
              <a:t>负位数：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凡纯小数的小数点到第一个有效数字前，有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就叫负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位。如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0.057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-1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位）       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0.0057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-2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位）       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0.00057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-3</a:t>
            </a:r>
            <a:r>
              <a:rPr b="0" lang="zh-CN" sz="2500" spc="-1" strike="noStrike">
                <a:solidFill>
                  <a:srgbClr val="ff9900"/>
                </a:solidFill>
                <a:latin typeface="Times New Roman"/>
              </a:rPr>
              <a:t>位）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533520"/>
            <a:ext cx="1141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积的定位方法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公式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00"/>
                </a:solidFill>
                <a:uFillTx/>
                <a:latin typeface="Times New Roman"/>
              </a:rPr>
              <a:t>第一单积十位数拨入档位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被乘数位数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乘数位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        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例</a:t>
            </a: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1]  624×90.7=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定位：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3+2=+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×6=54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的</a:t>
            </a:r>
            <a:r>
              <a:rPr b="0" lang="zh-CN" sz="30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</a:rPr>
              <a:t>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，从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+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位拨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    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例</a:t>
            </a: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2]  624×9.07=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定位：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3+1=+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×6=54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的</a:t>
            </a:r>
            <a:r>
              <a:rPr b="0" lang="zh-CN" sz="30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</a:rPr>
              <a:t>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，从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+4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位拨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      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例</a:t>
            </a: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3]  624×0.907=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定位：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3+0=+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×6=54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的</a:t>
            </a:r>
            <a:r>
              <a:rPr b="0" lang="zh-CN" sz="30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</a:rPr>
              <a:t>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，从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+3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位拨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            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例</a:t>
            </a:r>
            <a:r>
              <a:rPr b="0" lang="zh-CN" sz="3500" spc="-1" strike="noStrike">
                <a:solidFill>
                  <a:srgbClr val="3366ff"/>
                </a:solidFill>
                <a:latin typeface="Times New Roman"/>
                <a:ea typeface="黑体"/>
              </a:rPr>
              <a:t>4]  624×0.0907=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定位：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3+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-1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=+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×6=54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的</a:t>
            </a:r>
            <a:r>
              <a:rPr b="0" lang="zh-CN" sz="30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</a:rPr>
              <a:t>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，从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+2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位拨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学生练习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给每题的积定位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8.07×3.0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728.54×2.0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93.16×0.072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07.3×5.0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2.047×0.0095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4278.9×0.0823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给每题的积定位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8288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8.07×3.06=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+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728.54×2.09=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+4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93.16×0.0724=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+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07.3×5.04=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+4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2.047×0.00956=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-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4278.9×0.08236=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+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5]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小数乘法）</a:t>
            </a:r>
            <a:r>
              <a:rPr b="0" lang="zh-CN" sz="6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0.324×6.8=2.2032</a:t>
            </a:r>
            <a:br>
              <a:rPr sz="69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5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第一步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定位（确定第一单积十位数拨入档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0+1=+1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5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第二步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按整数的方法进行计算（注意第一单积十位数应拨在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档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4382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2666880"/>
            <a:ext cx="3733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8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“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正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档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2203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388620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563868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6094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学生练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8.07×3.0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728.54×2.0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93.16×0.072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07.3×5.0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2.047×0.0095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4278.9×0.0823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66ff"/>
                </a:solidFill>
                <a:latin typeface="Times New Roman"/>
              </a:rPr>
              <a:t>学习空盘前乘法的一些预备知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1295280" y="3657600"/>
            <a:ext cx="6096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每个单积必须使用两位数记积法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1295280" y="2514600"/>
            <a:ext cx="563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必须使用大九九口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9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495288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8.07×3.06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24.69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728.54×2.09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522.6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93.16×0.0724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6.7447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07.3×5.04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540.7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2.047×0.00956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0.0195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4278.9×0.08236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352.4102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9" descr=""/>
          <p:cNvPicPr/>
          <p:nvPr/>
        </p:nvPicPr>
        <p:blipFill>
          <a:blip r:embed="rId2"/>
          <a:stretch/>
        </p:blipFill>
        <p:spPr>
          <a:xfrm>
            <a:off x="7696080" y="457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47800" y="838080"/>
            <a:ext cx="7610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完了第三节后，乘法的基本内容也就学完了，但同学都看到了后面还有一个第四节——简捷乘法。这是因为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在实际工作中，存在着许多小数计算，这些繁锁的计算有时因需要又无法回避，有时在保证预定精度的前提下，可省略多余的小数计算，简化运算过程，达到既准确又快速的要求。下面就给大家介绍这种非常实用的方法——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楷体_GB2312"/>
              </a:rPr>
              <a:t>省乘法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第四节    简捷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2438280" y="22860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</a:rPr>
              <a:t>预备知识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31240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</a:rPr>
              <a:t>确定需要运算的档位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9625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</a:rPr>
              <a:t>计算步骤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9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1141560" cy="1081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438280" y="48006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</a:rPr>
              <a:t>例题讲解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预备知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压尾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2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2666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楷体_GB2312"/>
              </a:rPr>
              <a:t>运算档的下一档为压尾档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38098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压尾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472428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楷体_GB2312"/>
              </a:rPr>
              <a:t>压尾档上所有算珠靠梁为压尾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9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需要运算的档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公式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运算档位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=M+N+F+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35268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—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乘数的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—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数的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—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精确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—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确度的保险系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9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计算步骤：</a:t>
            </a:r>
            <a:br>
              <a:rPr sz="38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确定运算档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确定压尾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拨上压尾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乘加各单积时，落在压尾档上的数四舍五入，余下部分不需用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9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例题讲解：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保留二位小数）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  <a:ea typeface="黑体"/>
              </a:rPr>
              <a:t>0.479185×62.7413=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运算档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M+N+F+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=0+2+2</a:t>
            </a:r>
            <a:r>
              <a:rPr b="0" lang="zh-CN" sz="2500" spc="-1" strike="noStrike">
                <a:solidFill>
                  <a:srgbClr val="ff0000"/>
                </a:solidFill>
                <a:latin typeface="Times New Roman"/>
              </a:rPr>
              <a:t>（精确度）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zh-CN" sz="2500" spc="-1" strike="noStrike">
                <a:solidFill>
                  <a:srgbClr val="ff0000"/>
                </a:solidFill>
                <a:latin typeface="Times New Roman"/>
              </a:rPr>
              <a:t>（保险系数）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62920" y="76212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学生练习： </a:t>
            </a:r>
            <a:r>
              <a:rPr b="0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（要求保留二位小数）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1904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8.07×3.0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728.54×2.0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93.16×0.072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07.3×5.0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2.047×0.0095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4278.9×0.0823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8.07×3.06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24.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728.54×2.09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522.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93.16×0.0724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6.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07.3×5.04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540.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2.047×0.00956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0.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4278.9×0.08236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352.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18960" y="1980720"/>
            <a:ext cx="6933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乘法的简捷算法中，最重要的是确定运算档位，它等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+N+F+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然后确定压尾档；在压尾档拨上压尾珠，而且在乘加各单积时，落在压尾档上的数四舍五入，余下部分不需用计算。其余的算法与一般的乘法相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9" descr=""/>
          <p:cNvPicPr/>
          <p:nvPr/>
        </p:nvPicPr>
        <p:blipFill>
          <a:blip r:embed="rId2"/>
          <a:stretch/>
        </p:blipFill>
        <p:spPr>
          <a:xfrm>
            <a:off x="7620120" y="533520"/>
            <a:ext cx="1141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1295280"/>
            <a:ext cx="72388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9900ff"/>
                </a:solidFill>
                <a:latin typeface="Times New Roman"/>
              </a:rPr>
              <a:t>大九九口诀：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大数在前小数在后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9×2=18   8×7=5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9900ff"/>
                </a:solidFill>
                <a:latin typeface="Times New Roman"/>
              </a:rPr>
              <a:t>小九九口诀：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小数在前大数在后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2×9=18   7×8=5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9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43800" y="4952880"/>
            <a:ext cx="113652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1219320"/>
            <a:ext cx="7315200" cy="30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9900ff"/>
                </a:solidFill>
                <a:latin typeface="Times New Roman"/>
              </a:rPr>
              <a:t>    “</a:t>
            </a:r>
            <a:r>
              <a:rPr b="0" lang="zh-CN" sz="3000" spc="-1" strike="noStrike">
                <a:solidFill>
                  <a:srgbClr val="9900ff"/>
                </a:solidFill>
                <a:latin typeface="Times New Roman"/>
              </a:rPr>
              <a:t>单积”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两个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位数相乘所得的积即单积。如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3×5=15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即为单积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9900ff"/>
                </a:solidFill>
                <a:latin typeface="Times New Roman"/>
              </a:rPr>
              <a:t>    “</a:t>
            </a:r>
            <a:r>
              <a:rPr b="0" lang="zh-CN" sz="3000" spc="-1" strike="noStrike">
                <a:solidFill>
                  <a:srgbClr val="9900ff"/>
                </a:solidFill>
                <a:latin typeface="Times New Roman"/>
              </a:rPr>
              <a:t>两位数记积法”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每两个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位数相乘的积必须是两位数，没有数都要用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补齐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6×4=24    1×5=05    3×0=00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447920"/>
            <a:ext cx="441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000" spc="-1" strike="noStrike">
                <a:solidFill>
                  <a:srgbClr val="0066ff"/>
                </a:solidFill>
                <a:latin typeface="宋体"/>
              </a:rPr>
              <a:t>笔算乘法导入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35268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5782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黑体"/>
              </a:rPr>
              <a:t>×6=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38080"/>
            <a:ext cx="9144000" cy="54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珠算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73921×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2956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4×7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+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4×3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+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4×9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+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    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4×2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+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</a:t>
            </a:r>
            <a:r>
              <a:rPr b="0" lang="zh-CN" sz="4000" spc="-1" strike="noStrike" u="sng">
                <a:solidFill>
                  <a:srgbClr val="ff6600"/>
                </a:solidFill>
                <a:uFillTx/>
                <a:latin typeface="Times New Roman"/>
                <a:ea typeface="黑体"/>
              </a:rPr>
              <a:t>4×1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+04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9568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7621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3:04:00Z</dcterms:created>
  <dc:creator>doudou</dc:creator>
  <dc:description/>
  <dc:language>en-US</dc:language>
  <cp:lastModifiedBy>杨帆</cp:lastModifiedBy>
  <dcterms:modified xsi:type="dcterms:W3CDTF">2005-07-12T10:35:53Z</dcterms:modified>
  <cp:revision>65</cp:revision>
  <dc:subject/>
  <dc:title>经贸系专业技能课</dc:title>
</cp:coreProperties>
</file>