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5B1-12EE-4D27-926F-85197AC0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02D-A131-412D-ADE1-063C2F40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FBA-77E6-48E6-9BCB-143E00B3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B85-3451-4C53-ACC7-9D002789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631-D1F4-4610-B7FC-EFF573E1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486-7E41-4B8A-9BC4-9009A90D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701-9976-4827-9B6A-DD4BF05D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102-9F72-4FDE-B084-37B44EAA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0A9-1D5E-4129-BD9C-E24831FE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38A-0C64-490E-A459-93834509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B4A-F928-4D85-80B7-E13EA574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CA9-6597-4A7B-83F7-B6065CD2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1CAF-485E-4024-A6A7-0E8D4FDFE2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660066"/>
                </a:solidFill>
                <a:uFillTx/>
                <a:latin typeface="Times New Roman"/>
                <a:ea typeface="华文行楷"/>
              </a:rPr>
              <a:t>经贸系专业技能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2819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珠  算  技  术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66680" y="762120"/>
          <a:ext cx="7010640" cy="53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762120"/>
                    <a:ext cx="70106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各种算盘尽管在大小形状上有些区别，但他的基本结构不外乎由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框、梁、档、珠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四大部分组成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5800" y="838080"/>
          <a:ext cx="7772400" cy="523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77724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现在人们普通使用经过改进后的算盘，因此，它增加了</a:t>
            </a: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清盘器、计位点、垫脚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等装置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4952880"/>
            <a:ext cx="1141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8380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1.2.2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算盘的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057400"/>
            <a:ext cx="761976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在学习珠算计算方法之前，必须搞清珠算计算不同于其他计算方法，有其自身特殊性，只有认识这些特性，才能充分利用算盘这一传统的计算工具。珠算的</a:t>
            </a:r>
            <a:r>
              <a:rPr b="0" lang="zh-CN" sz="3500" spc="-1" strike="noStrike">
                <a:solidFill>
                  <a:srgbClr val="ff0000"/>
                </a:solidFill>
                <a:latin typeface="Times New Roman"/>
              </a:rPr>
              <a:t>特点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概括如下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算盘以算珠靠梁表示记数。每颗上珠当五，每颗下珠当一，以  空档表示零，以档表示数位。高位在左，低位在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置数前算盘上不能有任何算珠靠梁。置数时，应先定位，由高位到低位（从左向右）将预定数字按位逐档拨珠靠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珠算在进行加减运算时极为方便。珠算加减从左向右进行，与实际工作中读数顺序一致。可以边看边打，在被加数（被减数）上连加（连减）几个数，其结果立即从盘面显示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珠算在熟练地掌握了加减运算方法的基础上，乘除运算在盘上就变成了用大九九口诀的加减运算，不像笔算那样繁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珠算计算采用“五升十进制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算盘计算时，采用的是五升十进制。由于一颗上珠当五，当下珠满五时，需用同档的一颗上珠来代替，称为五升。当一档数满十向左档进一，称为十进。“五升十进制”是珠算运算中的一个规则，也是算盘赖以生存和发展的一个基础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 rot="16968600">
            <a:off x="8076960" y="5715000"/>
            <a:ext cx="761760" cy="457200"/>
          </a:xfrm>
          <a:custGeom>
            <a:avLst/>
            <a:gdLst>
              <a:gd name="textAreaLeft" fmla="*/ 132120 w 761760"/>
              <a:gd name="textAreaRight" fmla="*/ 496440 w 7617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05" hR="21600" stAng="10800000" swAng="-5400000"/>
                <a:lnTo>
                  <a:pt x="10326" y="21600"/>
                </a:lnTo>
                <a:arcTo wR="7505" hR="21600" stAng="5400000" swAng="-2518184"/>
                <a:lnTo>
                  <a:pt x="21096" y="7783"/>
                </a:lnTo>
                <a:lnTo>
                  <a:pt x="16420" y="0"/>
                </a:lnTo>
                <a:lnTo>
                  <a:pt x="10735" y="7783"/>
                </a:lnTo>
                <a:lnTo>
                  <a:pt x="14505" y="7783"/>
                </a:lnTo>
                <a:arcTo wR="7505" hR="21600" stAng="2881816" swAng="2289958"/>
                <a:lnTo>
                  <a:pt x="8915" y="21215"/>
                </a:lnTo>
                <a:arcTo wR="7505" hR="21600" stAng="5628226" swAng="5171774"/>
                <a:close/>
              </a:path>
              <a:path fill="darkenLess" w="21600" h="21600">
                <a:moveTo>
                  <a:pt x="0" y="0"/>
                </a:moveTo>
                <a:arcTo wR="7505" hR="21600" stAng="10800000" swAng="-5400000"/>
                <a:lnTo>
                  <a:pt x="10326" y="21600"/>
                </a:lnTo>
                <a:arcTo wR="7505" hR="21600" stAng="5400000" swAng="228226"/>
                <a:lnTo>
                  <a:pt x="8915" y="21215"/>
                </a:lnTo>
                <a:arcTo wR="7505" hR="21600" stAng="5628226" swAng="5171774"/>
                <a:close/>
              </a:path>
            </a:pathLst>
          </a:cu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1.2.3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算盘的常用名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算盘的专用名词很多，我们只给大家介绍其中的一部分比较常用的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9880" y="4114800"/>
          <a:ext cx="1828800" cy="69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114800"/>
                    <a:ext cx="18288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9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11365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.3 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拨珠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算盘进行数字计算，主要靠手指拨珠来完成，拨珠方法正确与否，直接影响运算效率和准确度，只有正确掌握和熟练运算拨珠指法，才能为今后的学习以及计算水平的提高打下良好的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课介绍三指拨珠法。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三指拨珠是指右手的无名指、小指向掌心自然弯曲，拇指、食指、中指伸出，垂直于算盘进行拨珠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857840"/>
            <a:ext cx="2438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（演示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1" lang="zh-CN" sz="3800" spc="-1" strike="noStrike" u="sng">
                <a:solidFill>
                  <a:srgbClr val="660066"/>
                </a:solidFill>
                <a:uFillTx/>
                <a:latin typeface="宋体"/>
              </a:rPr>
              <a:t>拇指、食指、中指在拨珠过程中有严格的分工：</a:t>
            </a:r>
            <a:r>
              <a:rPr b="1" lang="zh-CN" sz="5400" spc="-1" strike="noStrike" u="sng">
                <a:solidFill>
                  <a:srgbClr val="660066"/>
                </a:solidFill>
                <a:uFillTx/>
                <a:latin typeface="华文行楷"/>
                <a:ea typeface="华文行楷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拇指：专拨下珠靠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2895480"/>
            <a:ext cx="1752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37339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459108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65760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食指：专拨下珠离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4533840"/>
            <a:ext cx="624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中指：专拨上珠靠梁与离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3333cc"/>
                </a:solidFill>
                <a:uFillTx/>
                <a:latin typeface="方正舒体"/>
                <a:ea typeface="方正舒体"/>
              </a:rPr>
              <a:t>珠 算 技 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191120"/>
            <a:ext cx="5105160" cy="914400"/>
          </a:xfrm>
          <a:custGeom>
            <a:avLst/>
            <a:gdLst>
              <a:gd name="textAreaLeft" fmla="*/ 59040 w 5105160"/>
              <a:gd name="textAreaRight" fmla="*/ 5046120 w 510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0555" h="21600">
                <a:moveTo>
                  <a:pt x="0" y="0"/>
                </a:moveTo>
                <a:lnTo>
                  <a:pt x="120555" y="0"/>
                </a:lnTo>
                <a:lnTo>
                  <a:pt x="120555" y="21600"/>
                </a:lnTo>
                <a:lnTo>
                  <a:pt x="0" y="21600"/>
                </a:lnTo>
                <a:close/>
              </a:path>
              <a:path fill="lightenLess" w="120555" h="21600">
                <a:moveTo>
                  <a:pt x="0" y="0"/>
                </a:moveTo>
                <a:lnTo>
                  <a:pt x="120555" y="0"/>
                </a:lnTo>
                <a:lnTo>
                  <a:pt x="119155" y="1400"/>
                </a:lnTo>
                <a:lnTo>
                  <a:pt x="1400" y="1400"/>
                </a:lnTo>
                <a:close/>
              </a:path>
              <a:path fill="darken" w="120555" h="21600">
                <a:moveTo>
                  <a:pt x="120555" y="0"/>
                </a:moveTo>
                <a:lnTo>
                  <a:pt x="120555" y="21600"/>
                </a:lnTo>
                <a:lnTo>
                  <a:pt x="119155" y="20200"/>
                </a:lnTo>
                <a:lnTo>
                  <a:pt x="119155" y="1400"/>
                </a:lnTo>
                <a:close/>
              </a:path>
              <a:path fill="darkenLess" w="120555" h="21600">
                <a:moveTo>
                  <a:pt x="120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155" y="20200"/>
                </a:lnTo>
                <a:close/>
              </a:path>
              <a:path fill="lighten" w="120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三章    珠算基本乘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5105520"/>
            <a:ext cx="5105160" cy="914400"/>
          </a:xfrm>
          <a:custGeom>
            <a:avLst/>
            <a:gdLst>
              <a:gd name="textAreaLeft" fmla="*/ 59040 w 5105160"/>
              <a:gd name="textAreaRight" fmla="*/ 5046120 w 510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0555" h="21600">
                <a:moveTo>
                  <a:pt x="0" y="0"/>
                </a:moveTo>
                <a:lnTo>
                  <a:pt x="120555" y="0"/>
                </a:lnTo>
                <a:lnTo>
                  <a:pt x="120555" y="21600"/>
                </a:lnTo>
                <a:lnTo>
                  <a:pt x="0" y="21600"/>
                </a:lnTo>
                <a:close/>
              </a:path>
              <a:path fill="lightenLess" w="120555" h="21600">
                <a:moveTo>
                  <a:pt x="0" y="0"/>
                </a:moveTo>
                <a:lnTo>
                  <a:pt x="120555" y="0"/>
                </a:lnTo>
                <a:lnTo>
                  <a:pt x="119155" y="1400"/>
                </a:lnTo>
                <a:lnTo>
                  <a:pt x="1400" y="1400"/>
                </a:lnTo>
                <a:close/>
              </a:path>
              <a:path fill="darken" w="120555" h="21600">
                <a:moveTo>
                  <a:pt x="120555" y="0"/>
                </a:moveTo>
                <a:lnTo>
                  <a:pt x="120555" y="21600"/>
                </a:lnTo>
                <a:lnTo>
                  <a:pt x="119155" y="20200"/>
                </a:lnTo>
                <a:lnTo>
                  <a:pt x="119155" y="1400"/>
                </a:lnTo>
                <a:close/>
              </a:path>
              <a:path fill="darkenLess" w="120555" h="21600">
                <a:moveTo>
                  <a:pt x="120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155" y="20200"/>
                </a:lnTo>
                <a:close/>
              </a:path>
              <a:path fill="lighten" w="120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四章    珠算基本除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276720"/>
            <a:ext cx="5105160" cy="914400"/>
          </a:xfrm>
          <a:custGeom>
            <a:avLst/>
            <a:gdLst>
              <a:gd name="textAreaLeft" fmla="*/ 59040 w 5105160"/>
              <a:gd name="textAreaRight" fmla="*/ 5046120 w 510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0555" h="21600">
                <a:moveTo>
                  <a:pt x="0" y="0"/>
                </a:moveTo>
                <a:lnTo>
                  <a:pt x="120555" y="0"/>
                </a:lnTo>
                <a:lnTo>
                  <a:pt x="120555" y="21600"/>
                </a:lnTo>
                <a:lnTo>
                  <a:pt x="0" y="21600"/>
                </a:lnTo>
                <a:close/>
              </a:path>
              <a:path fill="lightenLess" w="120555" h="21600">
                <a:moveTo>
                  <a:pt x="0" y="0"/>
                </a:moveTo>
                <a:lnTo>
                  <a:pt x="120555" y="0"/>
                </a:lnTo>
                <a:lnTo>
                  <a:pt x="119155" y="1400"/>
                </a:lnTo>
                <a:lnTo>
                  <a:pt x="1400" y="1400"/>
                </a:lnTo>
                <a:close/>
              </a:path>
              <a:path fill="darken" w="120555" h="21600">
                <a:moveTo>
                  <a:pt x="120555" y="0"/>
                </a:moveTo>
                <a:lnTo>
                  <a:pt x="120555" y="21600"/>
                </a:lnTo>
                <a:lnTo>
                  <a:pt x="119155" y="20200"/>
                </a:lnTo>
                <a:lnTo>
                  <a:pt x="119155" y="1400"/>
                </a:lnTo>
                <a:close/>
              </a:path>
              <a:path fill="darkenLess" w="120555" h="21600">
                <a:moveTo>
                  <a:pt x="120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155" y="20200"/>
                </a:lnTo>
                <a:close/>
              </a:path>
              <a:path fill="lighten" w="120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二章    珠算基本加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2133720" y="2362320"/>
            <a:ext cx="5105160" cy="914400"/>
          </a:xfrm>
          <a:custGeom>
            <a:avLst/>
            <a:gdLst>
              <a:gd name="textAreaLeft" fmla="*/ 59040 w 5105160"/>
              <a:gd name="textAreaRight" fmla="*/ 5046120 w 510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0555" h="21600">
                <a:moveTo>
                  <a:pt x="0" y="0"/>
                </a:moveTo>
                <a:lnTo>
                  <a:pt x="120555" y="0"/>
                </a:lnTo>
                <a:lnTo>
                  <a:pt x="120555" y="21600"/>
                </a:lnTo>
                <a:lnTo>
                  <a:pt x="0" y="21600"/>
                </a:lnTo>
                <a:close/>
              </a:path>
              <a:path fill="lightenLess" w="120555" h="21600">
                <a:moveTo>
                  <a:pt x="0" y="0"/>
                </a:moveTo>
                <a:lnTo>
                  <a:pt x="120555" y="0"/>
                </a:lnTo>
                <a:lnTo>
                  <a:pt x="119155" y="1400"/>
                </a:lnTo>
                <a:lnTo>
                  <a:pt x="1400" y="1400"/>
                </a:lnTo>
                <a:close/>
              </a:path>
              <a:path fill="darken" w="120555" h="21600">
                <a:moveTo>
                  <a:pt x="120555" y="0"/>
                </a:moveTo>
                <a:lnTo>
                  <a:pt x="120555" y="21600"/>
                </a:lnTo>
                <a:lnTo>
                  <a:pt x="119155" y="20200"/>
                </a:lnTo>
                <a:lnTo>
                  <a:pt x="119155" y="1400"/>
                </a:lnTo>
                <a:close/>
              </a:path>
              <a:path fill="darkenLess" w="120555" h="21600">
                <a:moveTo>
                  <a:pt x="120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155" y="20200"/>
                </a:lnTo>
                <a:close/>
              </a:path>
              <a:path fill="lighten" w="120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一章    概述与基础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按照三个指头的分工，我们把拨珠指法分为以下三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350532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两指联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2286000" y="2514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单指独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45720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三指联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 u="sng">
                <a:solidFill>
                  <a:srgbClr val="3333cc"/>
                </a:solidFill>
                <a:uFillTx/>
                <a:latin typeface="Times New Roman"/>
                <a:ea typeface="幼圆"/>
              </a:rPr>
              <a:t>单指独拨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9051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0" lang="zh-CN" sz="3500" spc="-1" strike="noStrike">
                <a:solidFill>
                  <a:srgbClr val="660066"/>
                </a:solidFill>
                <a:latin typeface="宋体"/>
              </a:rPr>
              <a:t>按照手指分工一个手指一拨的指法叫单指独拨。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35053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拇指：专拨下珠靠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657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638680" y="3809880"/>
            <a:ext cx="762120" cy="457200"/>
            <a:chOff x="5638680" y="3809880"/>
            <a:chExt cx="762120" cy="457200"/>
          </a:xfrm>
        </p:grpSpPr>
        <p:sp>
          <p:nvSpPr>
            <p:cNvPr id="105" name=""/>
            <p:cNvSpPr/>
            <p:nvPr/>
          </p:nvSpPr>
          <p:spPr>
            <a:xfrm>
              <a:off x="5638680" y="38098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019920" y="38862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638680" y="4648320"/>
            <a:ext cx="762120" cy="457200"/>
            <a:chOff x="5638680" y="4648320"/>
            <a:chExt cx="762120" cy="457200"/>
          </a:xfrm>
        </p:grpSpPr>
        <p:sp>
          <p:nvSpPr>
            <p:cNvPr id="108" name=""/>
            <p:cNvSpPr/>
            <p:nvPr/>
          </p:nvSpPr>
          <p:spPr>
            <a:xfrm>
              <a:off x="5638680" y="464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9920" y="472464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086600" y="44197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52578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248520" y="5333760"/>
            <a:ext cx="761760" cy="457560"/>
            <a:chOff x="6248520" y="5333760"/>
            <a:chExt cx="761760" cy="457560"/>
          </a:xfrm>
        </p:grpSpPr>
        <p:sp>
          <p:nvSpPr>
            <p:cNvPr id="113" name=""/>
            <p:cNvSpPr/>
            <p:nvPr/>
          </p:nvSpPr>
          <p:spPr>
            <a:xfrm>
              <a:off x="6248520" y="579132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77120" y="53341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781680" y="533376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9" descr=""/>
          <p:cNvPicPr/>
          <p:nvPr/>
        </p:nvPicPr>
        <p:blipFill>
          <a:blip r:embed="rId2"/>
          <a:stretch/>
        </p:blipFill>
        <p:spPr>
          <a:xfrm>
            <a:off x="7620120" y="533520"/>
            <a:ext cx="114120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4267080"/>
            <a:ext cx="4819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食指：专拨下珠离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105520"/>
            <a:ext cx="54864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中指：专拨上珠靠梁与离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 u="sng">
                <a:solidFill>
                  <a:srgbClr val="3333cc"/>
                </a:solidFill>
                <a:uFillTx/>
                <a:latin typeface="Times New Roman"/>
                <a:ea typeface="幼圆"/>
              </a:rPr>
              <a:t>两指联拨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600200"/>
            <a:ext cx="7162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利用拇指与中指、拇指与食指、食指与中指相互配合来进行拨珠的方法叫两指联拨，它可以提高拨珠量，加快运算速度。两指联拨的基本指法又具体分为以下</a:t>
            </a: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类</a:t>
            </a: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10</a:t>
            </a: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种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双合（拨入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时）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657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双分（拨去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</a:rPr>
              <a:t>时）：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1337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拇指、中指在同一档拨珠靠梁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4495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食指、中指在同一档同时拨珠离梁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129528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3657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629400" y="1219320"/>
            <a:ext cx="685800" cy="914040"/>
            <a:chOff x="6629400" y="1219320"/>
            <a:chExt cx="685800" cy="914040"/>
          </a:xfrm>
        </p:grpSpPr>
        <p:sp>
          <p:nvSpPr>
            <p:cNvPr id="128" name=""/>
            <p:cNvSpPr/>
            <p:nvPr/>
          </p:nvSpPr>
          <p:spPr>
            <a:xfrm>
              <a:off x="6629400" y="16765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4320" y="12193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934320" y="17521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629400" y="3580920"/>
            <a:ext cx="685800" cy="914760"/>
            <a:chOff x="6629400" y="3580920"/>
            <a:chExt cx="685800" cy="914760"/>
          </a:xfrm>
        </p:grpSpPr>
        <p:sp>
          <p:nvSpPr>
            <p:cNvPr id="132" name=""/>
            <p:cNvSpPr/>
            <p:nvPr/>
          </p:nvSpPr>
          <p:spPr>
            <a:xfrm>
              <a:off x="6629400" y="40384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4320" y="41148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934320" y="35809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斜合（拨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4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时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657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斜分（拨去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4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时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9051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拇指、中指在前后档同时靠梁拨珠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441972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食指、中指在前后档同时离梁拨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12193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361944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629400" y="1143000"/>
            <a:ext cx="838080" cy="761760"/>
            <a:chOff x="6629400" y="1143000"/>
            <a:chExt cx="838080" cy="761760"/>
          </a:xfrm>
        </p:grpSpPr>
        <p:sp>
          <p:nvSpPr>
            <p:cNvPr id="142" name=""/>
            <p:cNvSpPr/>
            <p:nvPr/>
          </p:nvSpPr>
          <p:spPr>
            <a:xfrm>
              <a:off x="6629400" y="152388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58000" y="1599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920" y="1143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629400" y="3505320"/>
            <a:ext cx="838080" cy="838080"/>
            <a:chOff x="6629400" y="3505320"/>
            <a:chExt cx="838080" cy="838080"/>
          </a:xfrm>
        </p:grpSpPr>
        <p:sp>
          <p:nvSpPr>
            <p:cNvPr id="146" name=""/>
            <p:cNvSpPr/>
            <p:nvPr/>
          </p:nvSpPr>
          <p:spPr>
            <a:xfrm>
              <a:off x="6629400" y="39625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8000" y="4038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162920" y="35053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3333cc"/>
                </a:solidFill>
                <a:latin typeface="宋体"/>
              </a:rPr>
              <a:t>同上（如拨</a:t>
            </a:r>
            <a:r>
              <a:rPr b="0" lang="zh-CN" sz="3700" spc="-1" strike="noStrike">
                <a:solidFill>
                  <a:srgbClr val="3333cc"/>
                </a:solidFill>
                <a:latin typeface="Times New Roman"/>
              </a:rPr>
              <a:t>5555-1234</a:t>
            </a:r>
            <a:r>
              <a:rPr b="0" lang="zh-CN" sz="3700" spc="-1" strike="noStrike">
                <a:solidFill>
                  <a:srgbClr val="3333cc"/>
                </a:solidFill>
                <a:latin typeface="宋体"/>
              </a:rPr>
              <a:t>时）：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7680" y="3657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3333cc"/>
                </a:solidFill>
                <a:latin typeface="宋体"/>
              </a:rPr>
              <a:t>同下（如拨</a:t>
            </a:r>
            <a:r>
              <a:rPr b="0" lang="zh-CN" sz="3700" spc="-1" strike="noStrike">
                <a:solidFill>
                  <a:srgbClr val="3333cc"/>
                </a:solidFill>
                <a:latin typeface="Times New Roman"/>
              </a:rPr>
              <a:t>1234+4321</a:t>
            </a:r>
            <a:r>
              <a:rPr b="0" lang="zh-CN" sz="3700" spc="-1" strike="noStrike">
                <a:solidFill>
                  <a:srgbClr val="3333cc"/>
                </a:solidFill>
                <a:latin typeface="宋体"/>
              </a:rPr>
              <a:t>时）：</a:t>
            </a:r>
            <a:r>
              <a:rPr b="0" lang="zh-CN" sz="3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05740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拇指、中指在同一档同时向上拨珠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41972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中指、食指在同一档同时向下拨珠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12193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361944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629400" y="1219320"/>
            <a:ext cx="838080" cy="761760"/>
            <a:chOff x="6629400" y="1219320"/>
            <a:chExt cx="838080" cy="761760"/>
          </a:xfrm>
        </p:grpSpPr>
        <p:sp>
          <p:nvSpPr>
            <p:cNvPr id="156" name=""/>
            <p:cNvSpPr/>
            <p:nvPr/>
          </p:nvSpPr>
          <p:spPr>
            <a:xfrm>
              <a:off x="6629400" y="1600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086600" y="1676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86600" y="12193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553080" y="3581280"/>
            <a:ext cx="762120" cy="838440"/>
            <a:chOff x="6553080" y="3581280"/>
            <a:chExt cx="762120" cy="838440"/>
          </a:xfrm>
        </p:grpSpPr>
        <p:sp>
          <p:nvSpPr>
            <p:cNvPr id="160" name=""/>
            <p:cNvSpPr/>
            <p:nvPr/>
          </p:nvSpPr>
          <p:spPr>
            <a:xfrm>
              <a:off x="6553080" y="40384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34320" y="35812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4114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斜上（如拨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5+5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25+5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16+15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等）：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斜下（如拨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10-5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20-5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等）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981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拇指、中指在前后档同时向上拨珠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4197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指、食在前后档同时向下拨珠。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12193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361944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781680" y="990720"/>
            <a:ext cx="762120" cy="914040"/>
            <a:chOff x="6781680" y="990720"/>
            <a:chExt cx="762120" cy="914040"/>
          </a:xfrm>
        </p:grpSpPr>
        <p:sp>
          <p:nvSpPr>
            <p:cNvPr id="170" name=""/>
            <p:cNvSpPr/>
            <p:nvPr/>
          </p:nvSpPr>
          <p:spPr>
            <a:xfrm>
              <a:off x="6781680" y="1447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010280" y="15235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315200" y="9907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24480" y="3429000"/>
            <a:ext cx="914400" cy="914400"/>
            <a:chOff x="6324480" y="3429000"/>
            <a:chExt cx="914400" cy="914400"/>
          </a:xfrm>
        </p:grpSpPr>
        <p:sp>
          <p:nvSpPr>
            <p:cNvPr id="174" name=""/>
            <p:cNvSpPr/>
            <p:nvPr/>
          </p:nvSpPr>
          <p:spPr>
            <a:xfrm>
              <a:off x="6324480" y="38862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39625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34320" y="34290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扭进（如拨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6+9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8+8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4+7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等）：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733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扭退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（如拨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10-8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20-16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85-26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等）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9810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拇指在前一档向上运动的同时，食指在后一档向下拨珠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4197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食指在前一档向下运动的同时，拇指在后一档向上拨珠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12193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361944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29400" y="1447920"/>
            <a:ext cx="838080" cy="380880"/>
            <a:chOff x="6629400" y="1447920"/>
            <a:chExt cx="838080" cy="380880"/>
          </a:xfrm>
        </p:grpSpPr>
        <p:sp>
          <p:nvSpPr>
            <p:cNvPr id="184" name=""/>
            <p:cNvSpPr/>
            <p:nvPr/>
          </p:nvSpPr>
          <p:spPr>
            <a:xfrm>
              <a:off x="6629400" y="14479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858000" y="15235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2920" y="1523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705720" y="3962520"/>
            <a:ext cx="685800" cy="457200"/>
            <a:chOff x="6705720" y="3962520"/>
            <a:chExt cx="685800" cy="457200"/>
          </a:xfrm>
        </p:grpSpPr>
        <p:sp>
          <p:nvSpPr>
            <p:cNvPr id="188" name=""/>
            <p:cNvSpPr/>
            <p:nvPr/>
          </p:nvSpPr>
          <p:spPr>
            <a:xfrm>
              <a:off x="6705720" y="39625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40384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162920" y="40381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9" descr=""/>
          <p:cNvPicPr/>
          <p:nvPr/>
        </p:nvPicPr>
        <p:blipFill>
          <a:blip r:embed="rId2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 u="sng">
                <a:solidFill>
                  <a:srgbClr val="3333cc"/>
                </a:solidFill>
                <a:uFillTx/>
                <a:latin typeface="Times New Roman"/>
                <a:ea typeface="幼圆"/>
              </a:rPr>
              <a:t>三指联拨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  <a:ea typeface="幼圆"/>
              </a:rPr>
              <a:t>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600200"/>
            <a:ext cx="7162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拇指、食指、中指三个手指同时拨动算珠的指法叫三指联拨。包括“三指进”和“三指退”两种指法，具体拨珠方法为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三指进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（如拨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6+4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7+3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9+1</a:t>
            </a:r>
            <a:r>
              <a:rPr b="0" lang="zh-CN" sz="3000" spc="-1" strike="noStrike">
                <a:solidFill>
                  <a:srgbClr val="3333cc"/>
                </a:solidFill>
                <a:latin typeface="宋体"/>
              </a:rPr>
              <a:t>等）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3733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三指退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（如拨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10-2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10-3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10-4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等）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82880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食指、中指在本档拨上、下珠离梁时，拇指在前一档拨下珠靠梁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3434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食指在前档拨下珠离梁时，拇指、中指同时拨上下珠靠梁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12193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361944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81680" y="1142640"/>
            <a:ext cx="685800" cy="762480"/>
            <a:chOff x="6781680" y="1142640"/>
            <a:chExt cx="685800" cy="762480"/>
          </a:xfrm>
        </p:grpSpPr>
        <p:sp>
          <p:nvSpPr>
            <p:cNvPr id="201" name=""/>
            <p:cNvSpPr/>
            <p:nvPr/>
          </p:nvSpPr>
          <p:spPr>
            <a:xfrm>
              <a:off x="6781680" y="15238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238880" y="1142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8880" y="1600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010280" y="1599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781680" y="3657600"/>
            <a:ext cx="685800" cy="762120"/>
            <a:chOff x="6781680" y="3657600"/>
            <a:chExt cx="685800" cy="762120"/>
          </a:xfrm>
        </p:grpSpPr>
        <p:sp>
          <p:nvSpPr>
            <p:cNvPr id="206" name=""/>
            <p:cNvSpPr/>
            <p:nvPr/>
          </p:nvSpPr>
          <p:spPr>
            <a:xfrm>
              <a:off x="6781680" y="40384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10280" y="4114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7238880" y="4114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8880" y="3657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方正舒体"/>
                <a:ea typeface="方正舒体"/>
              </a:rPr>
              <a:t>第一章  珠算基础知识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990720" y="3048120"/>
            <a:ext cx="7391160" cy="761760"/>
          </a:xfrm>
          <a:custGeom>
            <a:avLst/>
            <a:gdLst>
              <a:gd name="textAreaLeft" fmla="*/ 49320 w 7391160"/>
              <a:gd name="textAreaRight" fmla="*/ 7341840 w 73911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09490" h="21600">
                <a:moveTo>
                  <a:pt x="0" y="0"/>
                </a:moveTo>
                <a:lnTo>
                  <a:pt x="209490" y="0"/>
                </a:lnTo>
                <a:lnTo>
                  <a:pt x="209490" y="21600"/>
                </a:lnTo>
                <a:lnTo>
                  <a:pt x="0" y="21600"/>
                </a:lnTo>
                <a:close/>
              </a:path>
              <a:path fill="lightenLess" w="209490" h="21600">
                <a:moveTo>
                  <a:pt x="0" y="0"/>
                </a:moveTo>
                <a:lnTo>
                  <a:pt x="209490" y="0"/>
                </a:lnTo>
                <a:lnTo>
                  <a:pt x="208090" y="1400"/>
                </a:lnTo>
                <a:lnTo>
                  <a:pt x="1400" y="1400"/>
                </a:lnTo>
                <a:close/>
              </a:path>
              <a:path fill="darken" w="209490" h="21600">
                <a:moveTo>
                  <a:pt x="209490" y="0"/>
                </a:moveTo>
                <a:lnTo>
                  <a:pt x="209490" y="21600"/>
                </a:lnTo>
                <a:lnTo>
                  <a:pt x="208090" y="20200"/>
                </a:lnTo>
                <a:lnTo>
                  <a:pt x="208090" y="1400"/>
                </a:lnTo>
                <a:close/>
              </a:path>
              <a:path fill="darkenLess" w="209490" h="21600">
                <a:moveTo>
                  <a:pt x="209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090" y="20200"/>
                </a:lnTo>
                <a:close/>
              </a:path>
              <a:path fill="lighten" w="209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66ff"/>
                </a:solidFill>
                <a:latin typeface="Times New Roman"/>
              </a:rPr>
              <a:t>第二节    算盘的结构、特点与常用名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886200"/>
            <a:ext cx="5519520" cy="762120"/>
          </a:xfrm>
          <a:custGeom>
            <a:avLst/>
            <a:gdLst>
              <a:gd name="textAreaLeft" fmla="*/ 49320 w 5519520"/>
              <a:gd name="textAreaRight" fmla="*/ 5470200 w 5519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6371" h="21600">
                <a:moveTo>
                  <a:pt x="0" y="0"/>
                </a:moveTo>
                <a:lnTo>
                  <a:pt x="156371" y="0"/>
                </a:lnTo>
                <a:lnTo>
                  <a:pt x="156371" y="21600"/>
                </a:lnTo>
                <a:lnTo>
                  <a:pt x="0" y="21600"/>
                </a:lnTo>
                <a:close/>
              </a:path>
              <a:path fill="lightenLess" w="156371" h="21600">
                <a:moveTo>
                  <a:pt x="0" y="0"/>
                </a:moveTo>
                <a:lnTo>
                  <a:pt x="156371" y="0"/>
                </a:lnTo>
                <a:lnTo>
                  <a:pt x="154971" y="1400"/>
                </a:lnTo>
                <a:lnTo>
                  <a:pt x="1400" y="1400"/>
                </a:lnTo>
                <a:close/>
              </a:path>
              <a:path fill="darken" w="156371" h="21600">
                <a:moveTo>
                  <a:pt x="156371" y="0"/>
                </a:moveTo>
                <a:lnTo>
                  <a:pt x="156371" y="21600"/>
                </a:lnTo>
                <a:lnTo>
                  <a:pt x="154971" y="20200"/>
                </a:lnTo>
                <a:lnTo>
                  <a:pt x="154971" y="1400"/>
                </a:lnTo>
                <a:close/>
              </a:path>
              <a:path fill="darkenLess" w="156371" h="21600">
                <a:moveTo>
                  <a:pt x="156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71" y="20200"/>
                </a:lnTo>
                <a:close/>
              </a:path>
              <a:path fill="lighten" w="156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66ff"/>
                </a:solidFill>
                <a:latin typeface="Times New Roman"/>
              </a:rPr>
              <a:t>第三节    拨珠指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724280"/>
            <a:ext cx="5519520" cy="762120"/>
          </a:xfrm>
          <a:custGeom>
            <a:avLst/>
            <a:gdLst>
              <a:gd name="textAreaLeft" fmla="*/ 49320 w 5519520"/>
              <a:gd name="textAreaRight" fmla="*/ 5470200 w 5519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6371" h="21600">
                <a:moveTo>
                  <a:pt x="0" y="0"/>
                </a:moveTo>
                <a:lnTo>
                  <a:pt x="156371" y="0"/>
                </a:lnTo>
                <a:lnTo>
                  <a:pt x="156371" y="21600"/>
                </a:lnTo>
                <a:lnTo>
                  <a:pt x="0" y="21600"/>
                </a:lnTo>
                <a:close/>
              </a:path>
              <a:path fill="lightenLess" w="156371" h="21600">
                <a:moveTo>
                  <a:pt x="0" y="0"/>
                </a:moveTo>
                <a:lnTo>
                  <a:pt x="156371" y="0"/>
                </a:lnTo>
                <a:lnTo>
                  <a:pt x="154971" y="1400"/>
                </a:lnTo>
                <a:lnTo>
                  <a:pt x="1400" y="1400"/>
                </a:lnTo>
                <a:close/>
              </a:path>
              <a:path fill="darken" w="156371" h="21600">
                <a:moveTo>
                  <a:pt x="156371" y="0"/>
                </a:moveTo>
                <a:lnTo>
                  <a:pt x="156371" y="21600"/>
                </a:lnTo>
                <a:lnTo>
                  <a:pt x="154971" y="20200"/>
                </a:lnTo>
                <a:lnTo>
                  <a:pt x="154971" y="1400"/>
                </a:lnTo>
                <a:close/>
              </a:path>
              <a:path fill="darkenLess" w="156371" h="21600">
                <a:moveTo>
                  <a:pt x="156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71" y="20200"/>
                </a:lnTo>
                <a:close/>
              </a:path>
              <a:path fill="lighten" w="156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66ff"/>
                </a:solidFill>
                <a:latin typeface="Times New Roman"/>
              </a:rPr>
              <a:t>第四节    打算盘的基本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9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3800" y="5029200"/>
            <a:ext cx="114156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990720" y="2209680"/>
            <a:ext cx="5519520" cy="762120"/>
          </a:xfrm>
          <a:custGeom>
            <a:avLst/>
            <a:gdLst>
              <a:gd name="textAreaLeft" fmla="*/ 49320 w 5519520"/>
              <a:gd name="textAreaRight" fmla="*/ 5470200 w 5519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6371" h="21600">
                <a:moveTo>
                  <a:pt x="0" y="0"/>
                </a:moveTo>
                <a:lnTo>
                  <a:pt x="156371" y="0"/>
                </a:lnTo>
                <a:lnTo>
                  <a:pt x="156371" y="21600"/>
                </a:lnTo>
                <a:lnTo>
                  <a:pt x="0" y="21600"/>
                </a:lnTo>
                <a:close/>
              </a:path>
              <a:path fill="lightenLess" w="156371" h="21600">
                <a:moveTo>
                  <a:pt x="0" y="0"/>
                </a:moveTo>
                <a:lnTo>
                  <a:pt x="156371" y="0"/>
                </a:lnTo>
                <a:lnTo>
                  <a:pt x="154971" y="1400"/>
                </a:lnTo>
                <a:lnTo>
                  <a:pt x="1400" y="1400"/>
                </a:lnTo>
                <a:close/>
              </a:path>
              <a:path fill="darken" w="156371" h="21600">
                <a:moveTo>
                  <a:pt x="156371" y="0"/>
                </a:moveTo>
                <a:lnTo>
                  <a:pt x="156371" y="21600"/>
                </a:lnTo>
                <a:lnTo>
                  <a:pt x="154971" y="20200"/>
                </a:lnTo>
                <a:lnTo>
                  <a:pt x="154971" y="1400"/>
                </a:lnTo>
                <a:close/>
              </a:path>
              <a:path fill="darkenLess" w="156371" h="21600">
                <a:moveTo>
                  <a:pt x="156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71" y="20200"/>
                </a:lnTo>
                <a:close/>
              </a:path>
              <a:path fill="lighten" w="156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66ff"/>
                </a:solidFill>
                <a:latin typeface="Times New Roman"/>
              </a:rPr>
              <a:t>第一节    珠算的起源与发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学拨珠时，要严格注意手指分工，避免一些错误的拨珠指法，做到拨珠方法规范、自然，可通过练习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法操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达到以上要求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294920" y="990720"/>
            <a:ext cx="6782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60000"/>
              </a:lnSpc>
              <a:spcBef>
                <a:spcPts val="1001"/>
              </a:spcBef>
              <a:spcAft>
                <a:spcPts val="3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练习指法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9966"/>
                </a:solidFill>
                <a:latin typeface="Times New Roman"/>
              </a:rPr>
              <a:t>中指</a:t>
            </a:r>
            <a:r>
              <a:rPr b="1" lang="zh-CN" sz="2800" spc="-1" strike="noStrike">
                <a:solidFill>
                  <a:srgbClr val="3399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339966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9966"/>
                </a:solidFill>
                <a:latin typeface="Times New Roman"/>
              </a:rPr>
              <a:t>中指</a:t>
            </a:r>
            <a:r>
              <a:rPr b="1" lang="zh-CN" sz="2800" spc="-1" strike="noStrike">
                <a:solidFill>
                  <a:srgbClr val="339966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339966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9966"/>
                </a:solidFill>
                <a:latin typeface="Times New Roman"/>
              </a:rPr>
              <a:t>拇指</a:t>
            </a:r>
            <a:r>
              <a:rPr b="1" lang="zh-CN" sz="2800" spc="-1" strike="noStrike">
                <a:solidFill>
                  <a:srgbClr val="3399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339966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339966"/>
                </a:solidFill>
                <a:latin typeface="Times New Roman"/>
              </a:rPr>
              <a:t>食指</a:t>
            </a:r>
            <a:r>
              <a:rPr b="1" lang="zh-CN" sz="2800" spc="-1" strike="noStrike">
                <a:solidFill>
                  <a:srgbClr val="3399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19320" y="2819160"/>
            <a:ext cx="6553080" cy="1524240"/>
            <a:chOff x="1219320" y="2819160"/>
            <a:chExt cx="6553080" cy="1524240"/>
          </a:xfrm>
        </p:grpSpPr>
        <p:sp>
          <p:nvSpPr>
            <p:cNvPr id="213" name=""/>
            <p:cNvSpPr/>
            <p:nvPr/>
          </p:nvSpPr>
          <p:spPr>
            <a:xfrm>
              <a:off x="1219320" y="3505320"/>
              <a:ext cx="655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28954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8880" y="3809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343400" y="37335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867280" y="28191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553080" y="129528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方正舒体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另外，练习拨珠运算时要注意以下几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用力要适度，算珠要拨到位。不能用力过重，也不能太轻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手指离开盘面距离要小，拨珠要连贯，做到指不离档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看准算珠再拨，力戒重复拨动某一算珠，减少不必要的附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加动作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拨珠顺序。拨珠应先后有序，有条不紊为好，即便二指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拨、三指联拨，也有先后顺序，不能先后颠倒，层次不分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拨珠要顺畅自然。拨珠时要做到手指协调自然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以上拨珠要领要熟练掌握，才能提高拨珠效率，在拨珠过程中充分运用联拨运算，力求减少单指独拨，做到拨珠既稳又准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9" descr=""/>
          <p:cNvPicPr/>
          <p:nvPr/>
        </p:nvPicPr>
        <p:blipFill>
          <a:blip r:embed="rId2"/>
          <a:stretch/>
        </p:blipFill>
        <p:spPr>
          <a:xfrm>
            <a:off x="7772400" y="53352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90720" y="838080"/>
            <a:ext cx="69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3333cc"/>
                </a:solidFill>
                <a:latin typeface="Times New Roman"/>
              </a:rPr>
              <a:t>1.4    </a:t>
            </a:r>
            <a:r>
              <a:rPr b="0" lang="zh-CN" sz="4500" spc="-1" strike="noStrike">
                <a:solidFill>
                  <a:srgbClr val="3333cc"/>
                </a:solidFill>
                <a:latin typeface="Times New Roman"/>
              </a:rPr>
              <a:t>打算盘的基本功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297180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4.2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正确的坐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38098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4.3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看数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548640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4.5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正确的定位与清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46483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4.4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写数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22096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4.1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握笔运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0720" y="182880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了减少在运算过程中拿笔与放笔的时间，提高计算效率，必须养成握笔运算的好习惯，这是必备的基本功之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.4.1 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握笔运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198108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将笔横握于右手掌心，用无名指和小指夹住笔杆，笔杆的上端伸出虎口，笔尖露于小指外，将笔竖直即可写数，将笔复回原位又可运算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幼圆"/>
                <a:ea typeface="幼圆"/>
              </a:rPr>
              <a:t>握笔方法：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182880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算盘的姿势正确与否直接影响运算的准与快。因为眼、脑、手要并用，配合要默契，动作要连贯，所以打算盘时，身要正，腰要直，肘和腕离开桌面，头稍低，要求视线落在算盘与练习交界处，运算时靠视觉转移看数拨珠，不能摆头。打算盘时肘部摆动的幅度不宜过大，手离开桌面距离大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.5c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过低在运算中会产生带珠，过高会发生手指上下跳动拨珠。要做到指不离档，手指与盘面的角度，一般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~60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较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身体与桌沿的距离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c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算盘放在适当的位置，并与桌边基本平行。使用算盘时，左手握住算盘的左端，利用算盘的边与计算资料的行次进行运算。这样才能加快速度，提高运算质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.4.2 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正确的坐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182880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珠算运算，首先遇到的是看数。看数快与准直接影响到以后计算的速度和准确率。看数一般从位数较少的开始，秩序渐进。最好一开始就养成一眼一笔数的好习惯，如果不能这样，那么也可以分节看数，看数时万、千、百、个等位数和元、角、分等单位可不记，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87683.2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一次看完记住，也可以分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87-683.2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还可以分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87-683-5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看，分节次数越少越有利于运算速度的提高。看数的同时，右手立即拨珠，快要拨完一节，随即看下一节数，要上下环节连接起来，做到边看边打，否则中间就会出现拨珠停顿，从而影响计算速度。数的位数与盘面上计位点应对照起来，位数才能准确无误。熟练以后要做到眼睛能兼顾到计算资料和算盘，使计算动作环环相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.4.3 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看数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762120"/>
            <a:ext cx="7619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如已具有一定计算水平，可以根据自身情况在简单看数的基础上练习并行看数，做到眼到数出，随即拨入算盘中。看数是珠算计算最关键的第一步，无论是初学者，还是有一定技术水平的选手都必须重视，只有看数水平提高了，才能提高计算水平。看数时应注意以下三方面的问题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411480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、计算资料离算盘的距离尽量缩短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、看数时切忌念出声音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、看数时头不要上下或左右摆动。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`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2120" y="175248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计算完毕，将算盘上的答案记录下来，这是珠算运算的最后一个环节。表面上看抄写数字与计算关系不大，但一道题的正确与否，除取决于运算拨珠是否正确外，还与抄写数字有较大关系。一是数字抄写是否准确、清晰、整齐；二是抄写是否快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运算过程中，要养成笔不离手的习惯，写数时，应在准的基础上求快。要养成盯盘写数的好习惯，这就要锻炼眼睛捕捉盘上数字的能力，当一道题计算完毕，左手握住清盘器，眼睛盯盘，在确定写数位置后，一笔数就能从高位到低们很快写完。写数时从高位到低位连同小数要一次书写完毕。只有做到盯盘写数，并认真练习，才能达到书写数字的准与快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.4.4 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写数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cc"/>
                </a:solidFill>
                <a:latin typeface="Times New Roman"/>
              </a:rPr>
              <a:t>1.1    </a:t>
            </a:r>
            <a:r>
              <a:rPr b="0" lang="zh-CN" sz="3500" spc="-1" strike="noStrike">
                <a:solidFill>
                  <a:srgbClr val="3333cc"/>
                </a:solidFill>
                <a:latin typeface="Times New Roman"/>
              </a:rPr>
              <a:t>珠算的起源与发展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002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5000"/>
              </a:lnSpc>
              <a:spcAft>
                <a:spcPts val="16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珠算是以算盘为工具，数学理论为基础，运用手指拨珠，进行运算的一门计算技术，它是我国古代劳动人民重要的发明创造之一，千百年来这一技术不断扩散，传播到世界各国，推进着人类文明的发展历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珠算和算盘是由我国古代的“筹算”和“算筹”发展演变而来的。算筹是小竹棍。用算筹表示数和进行计算叫“筹算”。从我国最早的天文学、数学著作《周髀算经》中可以知道“筹算”至少在春秋时代就有了广泛的应用。近年我国考古学者已从秦汉古墓中发现了古代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算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62120" y="16765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计算水平的高低，除了计算各环节相互衔接外，主要是要提高计算效率，尽量减少一些环节，如定位、清盘等在整个计算过程中所占用的时间。具体做法为：在一道题快要计算到尾数时，位数就已确定，就应抓紧时间书写答案，当答案书写到末位数时，左手中指按下清盘器随即清盘。这样，定位、清盘就不占用计算时间，大大提高了运算的节秦和运算的效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装有清盘器的算盘，应直接使用清盘器进行清盘。使用没有清盘器的算盘，其清盘方法是：将右手的拇指和食指捏拢，顺梁的两侧从右向左迅速将上下珠排开并靠边，每次清盘要求用力适当，动作不要重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1.4.5  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正确的定位与清盘：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1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924680" y="609480"/>
          <a:ext cx="1219320" cy="11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609480"/>
                    <a:ext cx="121932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90720" y="838080"/>
          <a:ext cx="6858000" cy="505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838080"/>
                    <a:ext cx="685800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96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据史书记载，南宋时代已有珠算歌诀出现，珠算自产生之日起发展到今，已有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年的历史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96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珠算所具有优越的计算功能、教育功能和启智功能，即使社会已进入电子时代，计算工具中的传统算盘仍然具有广泛的适用性，发挥着重大作用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6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楷体_GB2312"/>
              </a:rPr>
              <a:t>新中国成立后，</a:t>
            </a: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楷体_GB2312"/>
              </a:rPr>
              <a:t>党和国家领导人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楷体_GB2312"/>
              </a:rPr>
              <a:t>十分重视珠算事业的发展。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72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楷体_GB2312"/>
              </a:rPr>
              <a:t>年，周恩来总理在接见美籍物理学家李政道博士时说：“要告诉下面不要把算盘丢掉，猴子吃桃子最危险。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79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楷体_GB2312"/>
              </a:rPr>
              <a:t>年，薄一波同志为《珠算》杂志题词“算盘是我国的传统计算工作。一千多年以来，在金融贸易和人民生活等方面起了重要作用。用算盘和用电子计算机并不矛盾。现在还应充分发挥算盘的功能，为我国经济建设事业服务。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685800"/>
          <a:ext cx="7543800" cy="556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85800"/>
                    <a:ext cx="754380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>
            <a:hlinkClick r:id="rId4" action="ppaction://hlinksldjump"/>
          </p:cNvPr>
          <p:cNvSpPr/>
          <p:nvPr/>
        </p:nvSpPr>
        <p:spPr>
          <a:xfrm rot="16968600">
            <a:off x="8229240" y="5333400"/>
            <a:ext cx="762120" cy="457200"/>
          </a:xfrm>
          <a:custGeom>
            <a:avLst/>
            <a:gdLst>
              <a:gd name="textAreaLeft" fmla="*/ 132120 w 762120"/>
              <a:gd name="textAreaRight" fmla="*/ 496800 w 762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05" hR="21600" stAng="10800000" swAng="-5400000"/>
                <a:lnTo>
                  <a:pt x="10326" y="21600"/>
                </a:lnTo>
                <a:arcTo wR="7505" hR="21600" stAng="5400000" swAng="-2518184"/>
                <a:lnTo>
                  <a:pt x="21096" y="7783"/>
                </a:lnTo>
                <a:lnTo>
                  <a:pt x="16420" y="0"/>
                </a:lnTo>
                <a:lnTo>
                  <a:pt x="10735" y="7783"/>
                </a:lnTo>
                <a:lnTo>
                  <a:pt x="14505" y="7783"/>
                </a:lnTo>
                <a:arcTo wR="7505" hR="21600" stAng="2881816" swAng="2289958"/>
                <a:lnTo>
                  <a:pt x="8915" y="21215"/>
                </a:lnTo>
                <a:arcTo wR="7505" hR="21600" stAng="5628226" swAng="5171774"/>
                <a:close/>
              </a:path>
              <a:path fill="darkenLess" w="21600" h="21600">
                <a:moveTo>
                  <a:pt x="0" y="0"/>
                </a:moveTo>
                <a:arcTo wR="7505" hR="21600" stAng="10800000" swAng="-5400000"/>
                <a:lnTo>
                  <a:pt x="10326" y="21600"/>
                </a:lnTo>
                <a:arcTo wR="7505" hR="21600" stAng="5400000" swAng="228226"/>
                <a:lnTo>
                  <a:pt x="8915" y="21215"/>
                </a:lnTo>
                <a:arcTo wR="7505" hR="21600" stAng="5628226" swAng="5171774"/>
                <a:close/>
              </a:path>
            </a:pathLst>
          </a:cu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1.2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算盘的结构、特点与常用名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198108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2.1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算盘的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1828800" y="32767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2.2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算盘的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1828800" y="4267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2.3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算盘的常用名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9" descr=""/>
          <p:cNvPicPr/>
          <p:nvPr/>
        </p:nvPicPr>
        <p:blipFill>
          <a:blip r:embed="rId5"/>
          <a:stretch/>
        </p:blipFill>
        <p:spPr>
          <a:xfrm>
            <a:off x="7543800" y="5105520"/>
            <a:ext cx="114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1.2.1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算盘的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算盘的发明历史悠久，在长期的社会实践过程中，我国劳动人民创造出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各种精美的算盘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3:04:00Z</dcterms:created>
  <dc:creator>doudou</dc:creator>
  <dc:description/>
  <dc:language>en-US</dc:language>
  <cp:lastModifiedBy>杨帆</cp:lastModifiedBy>
  <dcterms:modified xsi:type="dcterms:W3CDTF">2005-07-12T10:29:30Z</dcterms:modified>
  <cp:revision>72</cp:revision>
  <dc:subject/>
  <dc:title>经贸系专业技能课</dc:title>
</cp:coreProperties>
</file>