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11.jpeg" ContentType="image/jpeg"/>
  <Override PartName="/ppt/media/image9.jpeg" ContentType="image/jpeg"/>
  <Override PartName="/ppt/media/image31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29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F6E-0BDD-4BBF-BF15-38B8F1E6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5D2-6474-4DFB-8767-F35981B1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18F-3956-4BAE-9671-29F194C2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8B8-F1A2-42AC-AF73-C4F66E02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F28-854E-4614-AEDF-CDB74BC4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E04-B508-41DD-B279-540D145A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B73-16DE-47FE-A599-36529C30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DD1-D20A-49C3-AA4A-19E9AB77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282-9214-4ACE-A960-0303B0F7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57E-031A-4892-A17D-066AB264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3CD-55E7-40E8-A89B-7A0085D9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645-5E68-4DD0-8152-6B80FCB9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038F-936F-4615-82FD-CD427C62AD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0.png"/><Relationship Id="rId7" Type="http://schemas.openxmlformats.org/officeDocument/2006/relationships/image" Target="../media/image34.png"/><Relationship Id="rId8" Type="http://schemas.openxmlformats.org/officeDocument/2006/relationships/image" Target="../media/image30.png"/><Relationship Id="rId9" Type="http://schemas.openxmlformats.org/officeDocument/2006/relationships/image" Target="../media/image35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568440" y="613800"/>
            <a:ext cx="59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Waning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wax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of yin and ya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367280" y="2509560"/>
            <a:ext cx="57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Freestyle Script"/>
              </a:rPr>
              <a:t>If winter com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Freestyle Script"/>
              </a:rPr>
              <a:t>can spring be far behin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941640" y="3596760"/>
            <a:ext cx="17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Freestyle Script"/>
              </a:rPr>
              <a:t>Shelle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1888200" y="1100880"/>
            <a:ext cx="587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he Five Element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natura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hilosophy in ancient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wood"/>
          <p:cNvPicPr/>
          <p:nvPr/>
        </p:nvPicPr>
        <p:blipFill>
          <a:blip r:embed="rId1"/>
          <a:stretch/>
        </p:blipFill>
        <p:spPr>
          <a:xfrm>
            <a:off x="566640" y="1538280"/>
            <a:ext cx="936720" cy="820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huo"/>
          <p:cNvPicPr/>
          <p:nvPr/>
        </p:nvPicPr>
        <p:blipFill>
          <a:blip r:embed="rId2"/>
          <a:stretch/>
        </p:blipFill>
        <p:spPr>
          <a:xfrm>
            <a:off x="566640" y="2494080"/>
            <a:ext cx="936720" cy="820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tu"/>
          <p:cNvPicPr/>
          <p:nvPr/>
        </p:nvPicPr>
        <p:blipFill>
          <a:blip r:embed="rId3"/>
          <a:stretch/>
        </p:blipFill>
        <p:spPr>
          <a:xfrm>
            <a:off x="566640" y="3449520"/>
            <a:ext cx="938160" cy="820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hui"/>
          <p:cNvPicPr/>
          <p:nvPr/>
        </p:nvPicPr>
        <p:blipFill>
          <a:blip r:embed="rId4"/>
          <a:stretch/>
        </p:blipFill>
        <p:spPr>
          <a:xfrm>
            <a:off x="566640" y="5362560"/>
            <a:ext cx="936720" cy="82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jin"/>
          <p:cNvPicPr/>
          <p:nvPr/>
        </p:nvPicPr>
        <p:blipFill>
          <a:blip r:embed="rId5"/>
          <a:stretch/>
        </p:blipFill>
        <p:spPr>
          <a:xfrm>
            <a:off x="566640" y="4405320"/>
            <a:ext cx="936720" cy="820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565200" y="613800"/>
            <a:ext cx="71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Basic substanc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to constitute the unive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560960" y="1762920"/>
            <a:ext cx="29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he nature of growing fre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560240" y="272988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he nature of flaring 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1561320" y="369828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he nature of giving birth to all th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1562400" y="46648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he nature of purifying and desce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1560600" y="563328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he nature of mo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566640" y="1133640"/>
            <a:ext cx="8010720" cy="535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5877000" y="1133640"/>
            <a:ext cx="2700360" cy="5356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967000" y="1756800"/>
            <a:ext cx="25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liver      eye        ea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6" descr="wood"/>
          <p:cNvPicPr/>
          <p:nvPr/>
        </p:nvPicPr>
        <p:blipFill>
          <a:blip r:embed="rId6"/>
          <a:stretch/>
        </p:blipFill>
        <p:spPr>
          <a:xfrm>
            <a:off x="566640" y="1538280"/>
            <a:ext cx="936720" cy="8208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7"/>
          <p:cNvSpPr/>
          <p:nvPr/>
        </p:nvSpPr>
        <p:spPr>
          <a:xfrm>
            <a:off x="5965560" y="271224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eart     lingua    sou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5977800" y="3684240"/>
            <a:ext cx="27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spleen    mouth     middl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5964480" y="462528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lung       nose       w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5965560" y="558252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kidne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ear        nor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66640" y="584640"/>
            <a:ext cx="66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Genera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promote, aid or bring forth another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2279880" y="1544760"/>
            <a:ext cx="4965480" cy="4583160"/>
            <a:chOff x="2279880" y="1544760"/>
            <a:chExt cx="4965480" cy="4583160"/>
          </a:xfrm>
        </p:grpSpPr>
        <p:pic>
          <p:nvPicPr>
            <p:cNvPr id="88" name="Picture 4" descr="wood"/>
            <p:cNvPicPr/>
            <p:nvPr/>
          </p:nvPicPr>
          <p:blipFill>
            <a:blip r:embed="rId1"/>
            <a:stretch/>
          </p:blipFill>
          <p:spPr>
            <a:xfrm>
              <a:off x="4104000" y="1544760"/>
              <a:ext cx="93636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未知"/>
            <p:cNvSpPr/>
            <p:nvPr/>
          </p:nvSpPr>
          <p:spPr>
            <a:xfrm rot="20269800">
              <a:off x="2727360" y="2221200"/>
              <a:ext cx="1514520" cy="45720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06" h="1093">
                  <a:moveTo>
                    <a:pt x="0" y="1093"/>
                  </a:moveTo>
                  <a:lnTo>
                    <a:pt x="247" y="884"/>
                  </a:lnTo>
                  <a:lnTo>
                    <a:pt x="350" y="793"/>
                  </a:lnTo>
                  <a:lnTo>
                    <a:pt x="451" y="708"/>
                  </a:lnTo>
                  <a:lnTo>
                    <a:pt x="553" y="631"/>
                  </a:lnTo>
                  <a:lnTo>
                    <a:pt x="655" y="562"/>
                  </a:lnTo>
                  <a:lnTo>
                    <a:pt x="756" y="497"/>
                  </a:lnTo>
                  <a:lnTo>
                    <a:pt x="856" y="439"/>
                  </a:lnTo>
                  <a:lnTo>
                    <a:pt x="955" y="388"/>
                  </a:lnTo>
                  <a:lnTo>
                    <a:pt x="1053" y="342"/>
                  </a:lnTo>
                  <a:lnTo>
                    <a:pt x="1148" y="300"/>
                  </a:lnTo>
                  <a:lnTo>
                    <a:pt x="1242" y="264"/>
                  </a:lnTo>
                  <a:lnTo>
                    <a:pt x="1331" y="232"/>
                  </a:lnTo>
                  <a:lnTo>
                    <a:pt x="1419" y="204"/>
                  </a:lnTo>
                  <a:lnTo>
                    <a:pt x="1504" y="182"/>
                  </a:lnTo>
                  <a:lnTo>
                    <a:pt x="1586" y="160"/>
                  </a:lnTo>
                  <a:lnTo>
                    <a:pt x="1664" y="144"/>
                  </a:lnTo>
                  <a:lnTo>
                    <a:pt x="1737" y="131"/>
                  </a:lnTo>
                  <a:lnTo>
                    <a:pt x="1807" y="121"/>
                  </a:lnTo>
                  <a:lnTo>
                    <a:pt x="1871" y="112"/>
                  </a:lnTo>
                  <a:lnTo>
                    <a:pt x="1932" y="107"/>
                  </a:lnTo>
                  <a:lnTo>
                    <a:pt x="1988" y="103"/>
                  </a:lnTo>
                  <a:lnTo>
                    <a:pt x="2038" y="100"/>
                  </a:lnTo>
                  <a:lnTo>
                    <a:pt x="2082" y="99"/>
                  </a:lnTo>
                  <a:lnTo>
                    <a:pt x="2121" y="100"/>
                  </a:lnTo>
                  <a:lnTo>
                    <a:pt x="2152" y="99"/>
                  </a:lnTo>
                  <a:lnTo>
                    <a:pt x="2178" y="101"/>
                  </a:lnTo>
                  <a:lnTo>
                    <a:pt x="2195" y="102"/>
                  </a:lnTo>
                  <a:lnTo>
                    <a:pt x="2206" y="102"/>
                  </a:lnTo>
                  <a:lnTo>
                    <a:pt x="2210" y="102"/>
                  </a:lnTo>
                  <a:lnTo>
                    <a:pt x="2146" y="0"/>
                  </a:lnTo>
                  <a:lnTo>
                    <a:pt x="2706" y="330"/>
                  </a:lnTo>
                  <a:lnTo>
                    <a:pt x="2270" y="473"/>
                  </a:lnTo>
                  <a:lnTo>
                    <a:pt x="2336" y="358"/>
                  </a:lnTo>
                  <a:lnTo>
                    <a:pt x="2335" y="357"/>
                  </a:lnTo>
                  <a:lnTo>
                    <a:pt x="2326" y="354"/>
                  </a:lnTo>
                  <a:lnTo>
                    <a:pt x="2313" y="350"/>
                  </a:lnTo>
                  <a:lnTo>
                    <a:pt x="2293" y="345"/>
                  </a:lnTo>
                  <a:lnTo>
                    <a:pt x="2270" y="337"/>
                  </a:lnTo>
                  <a:lnTo>
                    <a:pt x="2241" y="330"/>
                  </a:lnTo>
                  <a:lnTo>
                    <a:pt x="2207" y="323"/>
                  </a:lnTo>
                  <a:lnTo>
                    <a:pt x="2168" y="317"/>
                  </a:lnTo>
                  <a:lnTo>
                    <a:pt x="2124" y="311"/>
                  </a:lnTo>
                  <a:lnTo>
                    <a:pt x="2075" y="306"/>
                  </a:lnTo>
                  <a:lnTo>
                    <a:pt x="2024" y="301"/>
                  </a:lnTo>
                  <a:lnTo>
                    <a:pt x="1966" y="298"/>
                  </a:lnTo>
                  <a:lnTo>
                    <a:pt x="1905" y="295"/>
                  </a:lnTo>
                  <a:lnTo>
                    <a:pt x="1838" y="298"/>
                  </a:lnTo>
                  <a:lnTo>
                    <a:pt x="1767" y="301"/>
                  </a:lnTo>
                  <a:lnTo>
                    <a:pt x="1692" y="309"/>
                  </a:lnTo>
                  <a:lnTo>
                    <a:pt x="1613" y="317"/>
                  </a:lnTo>
                  <a:lnTo>
                    <a:pt x="1533" y="330"/>
                  </a:lnTo>
                  <a:lnTo>
                    <a:pt x="1445" y="349"/>
                  </a:lnTo>
                  <a:lnTo>
                    <a:pt x="1354" y="371"/>
                  </a:lnTo>
                  <a:lnTo>
                    <a:pt x="1262" y="397"/>
                  </a:lnTo>
                  <a:lnTo>
                    <a:pt x="1164" y="428"/>
                  </a:lnTo>
                  <a:lnTo>
                    <a:pt x="1065" y="464"/>
                  </a:lnTo>
                  <a:lnTo>
                    <a:pt x="960" y="505"/>
                  </a:lnTo>
                  <a:lnTo>
                    <a:pt x="853" y="553"/>
                  </a:lnTo>
                  <a:lnTo>
                    <a:pt x="742" y="608"/>
                  </a:lnTo>
                  <a:lnTo>
                    <a:pt x="629" y="669"/>
                  </a:lnTo>
                  <a:lnTo>
                    <a:pt x="512" y="736"/>
                  </a:lnTo>
                  <a:lnTo>
                    <a:pt x="393" y="809"/>
                  </a:lnTo>
                  <a:lnTo>
                    <a:pt x="271" y="892"/>
                  </a:lnTo>
                  <a:lnTo>
                    <a:pt x="0" y="1093"/>
                  </a:lnTo>
                  <a:close/>
                </a:path>
              </a:pathLst>
            </a:cu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13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6" descr="shui"/>
            <p:cNvPicPr/>
            <p:nvPr/>
          </p:nvPicPr>
          <p:blipFill>
            <a:blip r:embed="rId2"/>
            <a:stretch/>
          </p:blipFill>
          <p:spPr>
            <a:xfrm>
              <a:off x="2411640" y="2889360"/>
              <a:ext cx="9367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7" descr="huo"/>
            <p:cNvPicPr/>
            <p:nvPr/>
          </p:nvPicPr>
          <p:blipFill>
            <a:blip r:embed="rId3"/>
            <a:stretch/>
          </p:blipFill>
          <p:spPr>
            <a:xfrm>
              <a:off x="5967720" y="2934000"/>
              <a:ext cx="936360" cy="82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8" descr="jin"/>
            <p:cNvPicPr/>
            <p:nvPr/>
          </p:nvPicPr>
          <p:blipFill>
            <a:blip r:embed="rId4"/>
            <a:stretch/>
          </p:blipFill>
          <p:spPr>
            <a:xfrm>
              <a:off x="3041640" y="5094360"/>
              <a:ext cx="9367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9" descr="tu"/>
            <p:cNvPicPr/>
            <p:nvPr/>
          </p:nvPicPr>
          <p:blipFill>
            <a:blip r:embed="rId5"/>
            <a:stretch/>
          </p:blipFill>
          <p:spPr>
            <a:xfrm>
              <a:off x="5247000" y="5094360"/>
              <a:ext cx="93816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未知"/>
            <p:cNvSpPr/>
            <p:nvPr/>
          </p:nvSpPr>
          <p:spPr>
            <a:xfrm rot="2651400">
              <a:off x="4932360" y="2175120"/>
              <a:ext cx="1514520" cy="45720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06" h="1093">
                  <a:moveTo>
                    <a:pt x="0" y="1093"/>
                  </a:moveTo>
                  <a:lnTo>
                    <a:pt x="247" y="884"/>
                  </a:lnTo>
                  <a:lnTo>
                    <a:pt x="350" y="793"/>
                  </a:lnTo>
                  <a:lnTo>
                    <a:pt x="451" y="708"/>
                  </a:lnTo>
                  <a:lnTo>
                    <a:pt x="553" y="631"/>
                  </a:lnTo>
                  <a:lnTo>
                    <a:pt x="655" y="562"/>
                  </a:lnTo>
                  <a:lnTo>
                    <a:pt x="756" y="497"/>
                  </a:lnTo>
                  <a:lnTo>
                    <a:pt x="856" y="439"/>
                  </a:lnTo>
                  <a:lnTo>
                    <a:pt x="955" y="388"/>
                  </a:lnTo>
                  <a:lnTo>
                    <a:pt x="1053" y="342"/>
                  </a:lnTo>
                  <a:lnTo>
                    <a:pt x="1148" y="300"/>
                  </a:lnTo>
                  <a:lnTo>
                    <a:pt x="1242" y="264"/>
                  </a:lnTo>
                  <a:lnTo>
                    <a:pt x="1331" y="232"/>
                  </a:lnTo>
                  <a:lnTo>
                    <a:pt x="1419" y="204"/>
                  </a:lnTo>
                  <a:lnTo>
                    <a:pt x="1504" y="182"/>
                  </a:lnTo>
                  <a:lnTo>
                    <a:pt x="1586" y="160"/>
                  </a:lnTo>
                  <a:lnTo>
                    <a:pt x="1664" y="144"/>
                  </a:lnTo>
                  <a:lnTo>
                    <a:pt x="1737" y="131"/>
                  </a:lnTo>
                  <a:lnTo>
                    <a:pt x="1807" y="121"/>
                  </a:lnTo>
                  <a:lnTo>
                    <a:pt x="1871" y="112"/>
                  </a:lnTo>
                  <a:lnTo>
                    <a:pt x="1932" y="107"/>
                  </a:lnTo>
                  <a:lnTo>
                    <a:pt x="1988" y="103"/>
                  </a:lnTo>
                  <a:lnTo>
                    <a:pt x="2038" y="100"/>
                  </a:lnTo>
                  <a:lnTo>
                    <a:pt x="2082" y="99"/>
                  </a:lnTo>
                  <a:lnTo>
                    <a:pt x="2121" y="100"/>
                  </a:lnTo>
                  <a:lnTo>
                    <a:pt x="2152" y="99"/>
                  </a:lnTo>
                  <a:lnTo>
                    <a:pt x="2178" y="101"/>
                  </a:lnTo>
                  <a:lnTo>
                    <a:pt x="2195" y="102"/>
                  </a:lnTo>
                  <a:lnTo>
                    <a:pt x="2206" y="102"/>
                  </a:lnTo>
                  <a:lnTo>
                    <a:pt x="2210" y="102"/>
                  </a:lnTo>
                  <a:lnTo>
                    <a:pt x="2146" y="0"/>
                  </a:lnTo>
                  <a:lnTo>
                    <a:pt x="2706" y="330"/>
                  </a:lnTo>
                  <a:lnTo>
                    <a:pt x="2270" y="473"/>
                  </a:lnTo>
                  <a:lnTo>
                    <a:pt x="2336" y="358"/>
                  </a:lnTo>
                  <a:lnTo>
                    <a:pt x="2335" y="357"/>
                  </a:lnTo>
                  <a:lnTo>
                    <a:pt x="2326" y="354"/>
                  </a:lnTo>
                  <a:lnTo>
                    <a:pt x="2313" y="350"/>
                  </a:lnTo>
                  <a:lnTo>
                    <a:pt x="2293" y="345"/>
                  </a:lnTo>
                  <a:lnTo>
                    <a:pt x="2270" y="337"/>
                  </a:lnTo>
                  <a:lnTo>
                    <a:pt x="2241" y="330"/>
                  </a:lnTo>
                  <a:lnTo>
                    <a:pt x="2207" y="323"/>
                  </a:lnTo>
                  <a:lnTo>
                    <a:pt x="2168" y="317"/>
                  </a:lnTo>
                  <a:lnTo>
                    <a:pt x="2124" y="311"/>
                  </a:lnTo>
                  <a:lnTo>
                    <a:pt x="2075" y="306"/>
                  </a:lnTo>
                  <a:lnTo>
                    <a:pt x="2024" y="301"/>
                  </a:lnTo>
                  <a:lnTo>
                    <a:pt x="1966" y="298"/>
                  </a:lnTo>
                  <a:lnTo>
                    <a:pt x="1905" y="295"/>
                  </a:lnTo>
                  <a:lnTo>
                    <a:pt x="1838" y="298"/>
                  </a:lnTo>
                  <a:lnTo>
                    <a:pt x="1767" y="301"/>
                  </a:lnTo>
                  <a:lnTo>
                    <a:pt x="1692" y="309"/>
                  </a:lnTo>
                  <a:lnTo>
                    <a:pt x="1613" y="317"/>
                  </a:lnTo>
                  <a:lnTo>
                    <a:pt x="1533" y="330"/>
                  </a:lnTo>
                  <a:lnTo>
                    <a:pt x="1445" y="349"/>
                  </a:lnTo>
                  <a:lnTo>
                    <a:pt x="1354" y="371"/>
                  </a:lnTo>
                  <a:lnTo>
                    <a:pt x="1262" y="397"/>
                  </a:lnTo>
                  <a:lnTo>
                    <a:pt x="1164" y="428"/>
                  </a:lnTo>
                  <a:lnTo>
                    <a:pt x="1065" y="464"/>
                  </a:lnTo>
                  <a:lnTo>
                    <a:pt x="960" y="505"/>
                  </a:lnTo>
                  <a:lnTo>
                    <a:pt x="853" y="553"/>
                  </a:lnTo>
                  <a:lnTo>
                    <a:pt x="742" y="608"/>
                  </a:lnTo>
                  <a:lnTo>
                    <a:pt x="629" y="669"/>
                  </a:lnTo>
                  <a:lnTo>
                    <a:pt x="512" y="736"/>
                  </a:lnTo>
                  <a:lnTo>
                    <a:pt x="393" y="809"/>
                  </a:lnTo>
                  <a:lnTo>
                    <a:pt x="271" y="892"/>
                  </a:lnTo>
                  <a:lnTo>
                    <a:pt x="0" y="1093"/>
                  </a:lnTo>
                  <a:close/>
                </a:path>
              </a:pathLst>
            </a:cu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189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 rot="7329600">
              <a:off x="5529600" y="4280040"/>
              <a:ext cx="1514160" cy="457200"/>
            </a:xfrm>
            <a:custGeom>
              <a:avLst/>
              <a:gdLst>
                <a:gd name="textAreaLeft" fmla="*/ 0 w 1514160"/>
                <a:gd name="textAreaRight" fmla="*/ 1514520 w 15141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06" h="1093">
                  <a:moveTo>
                    <a:pt x="0" y="1093"/>
                  </a:moveTo>
                  <a:lnTo>
                    <a:pt x="247" y="884"/>
                  </a:lnTo>
                  <a:lnTo>
                    <a:pt x="350" y="793"/>
                  </a:lnTo>
                  <a:lnTo>
                    <a:pt x="451" y="708"/>
                  </a:lnTo>
                  <a:lnTo>
                    <a:pt x="553" y="631"/>
                  </a:lnTo>
                  <a:lnTo>
                    <a:pt x="655" y="562"/>
                  </a:lnTo>
                  <a:lnTo>
                    <a:pt x="756" y="497"/>
                  </a:lnTo>
                  <a:lnTo>
                    <a:pt x="856" y="439"/>
                  </a:lnTo>
                  <a:lnTo>
                    <a:pt x="955" y="388"/>
                  </a:lnTo>
                  <a:lnTo>
                    <a:pt x="1053" y="342"/>
                  </a:lnTo>
                  <a:lnTo>
                    <a:pt x="1148" y="300"/>
                  </a:lnTo>
                  <a:lnTo>
                    <a:pt x="1242" y="264"/>
                  </a:lnTo>
                  <a:lnTo>
                    <a:pt x="1331" y="232"/>
                  </a:lnTo>
                  <a:lnTo>
                    <a:pt x="1419" y="204"/>
                  </a:lnTo>
                  <a:lnTo>
                    <a:pt x="1504" y="182"/>
                  </a:lnTo>
                  <a:lnTo>
                    <a:pt x="1586" y="160"/>
                  </a:lnTo>
                  <a:lnTo>
                    <a:pt x="1664" y="144"/>
                  </a:lnTo>
                  <a:lnTo>
                    <a:pt x="1737" y="131"/>
                  </a:lnTo>
                  <a:lnTo>
                    <a:pt x="1807" y="121"/>
                  </a:lnTo>
                  <a:lnTo>
                    <a:pt x="1871" y="112"/>
                  </a:lnTo>
                  <a:lnTo>
                    <a:pt x="1932" y="107"/>
                  </a:lnTo>
                  <a:lnTo>
                    <a:pt x="1988" y="103"/>
                  </a:lnTo>
                  <a:lnTo>
                    <a:pt x="2038" y="100"/>
                  </a:lnTo>
                  <a:lnTo>
                    <a:pt x="2082" y="99"/>
                  </a:lnTo>
                  <a:lnTo>
                    <a:pt x="2121" y="100"/>
                  </a:lnTo>
                  <a:lnTo>
                    <a:pt x="2152" y="99"/>
                  </a:lnTo>
                  <a:lnTo>
                    <a:pt x="2178" y="101"/>
                  </a:lnTo>
                  <a:lnTo>
                    <a:pt x="2195" y="102"/>
                  </a:lnTo>
                  <a:lnTo>
                    <a:pt x="2206" y="102"/>
                  </a:lnTo>
                  <a:lnTo>
                    <a:pt x="2210" y="102"/>
                  </a:lnTo>
                  <a:lnTo>
                    <a:pt x="2146" y="0"/>
                  </a:lnTo>
                  <a:lnTo>
                    <a:pt x="2706" y="330"/>
                  </a:lnTo>
                  <a:lnTo>
                    <a:pt x="2270" y="473"/>
                  </a:lnTo>
                  <a:lnTo>
                    <a:pt x="2336" y="358"/>
                  </a:lnTo>
                  <a:lnTo>
                    <a:pt x="2335" y="357"/>
                  </a:lnTo>
                  <a:lnTo>
                    <a:pt x="2326" y="354"/>
                  </a:lnTo>
                  <a:lnTo>
                    <a:pt x="2313" y="350"/>
                  </a:lnTo>
                  <a:lnTo>
                    <a:pt x="2293" y="345"/>
                  </a:lnTo>
                  <a:lnTo>
                    <a:pt x="2270" y="337"/>
                  </a:lnTo>
                  <a:lnTo>
                    <a:pt x="2241" y="330"/>
                  </a:lnTo>
                  <a:lnTo>
                    <a:pt x="2207" y="323"/>
                  </a:lnTo>
                  <a:lnTo>
                    <a:pt x="2168" y="317"/>
                  </a:lnTo>
                  <a:lnTo>
                    <a:pt x="2124" y="311"/>
                  </a:lnTo>
                  <a:lnTo>
                    <a:pt x="2075" y="306"/>
                  </a:lnTo>
                  <a:lnTo>
                    <a:pt x="2024" y="301"/>
                  </a:lnTo>
                  <a:lnTo>
                    <a:pt x="1966" y="298"/>
                  </a:lnTo>
                  <a:lnTo>
                    <a:pt x="1905" y="295"/>
                  </a:lnTo>
                  <a:lnTo>
                    <a:pt x="1838" y="298"/>
                  </a:lnTo>
                  <a:lnTo>
                    <a:pt x="1767" y="301"/>
                  </a:lnTo>
                  <a:lnTo>
                    <a:pt x="1692" y="309"/>
                  </a:lnTo>
                  <a:lnTo>
                    <a:pt x="1613" y="317"/>
                  </a:lnTo>
                  <a:lnTo>
                    <a:pt x="1533" y="330"/>
                  </a:lnTo>
                  <a:lnTo>
                    <a:pt x="1445" y="349"/>
                  </a:lnTo>
                  <a:lnTo>
                    <a:pt x="1354" y="371"/>
                  </a:lnTo>
                  <a:lnTo>
                    <a:pt x="1262" y="397"/>
                  </a:lnTo>
                  <a:lnTo>
                    <a:pt x="1164" y="428"/>
                  </a:lnTo>
                  <a:lnTo>
                    <a:pt x="1065" y="464"/>
                  </a:lnTo>
                  <a:lnTo>
                    <a:pt x="960" y="505"/>
                  </a:lnTo>
                  <a:lnTo>
                    <a:pt x="853" y="553"/>
                  </a:lnTo>
                  <a:lnTo>
                    <a:pt x="742" y="608"/>
                  </a:lnTo>
                  <a:lnTo>
                    <a:pt x="629" y="669"/>
                  </a:lnTo>
                  <a:lnTo>
                    <a:pt x="512" y="736"/>
                  </a:lnTo>
                  <a:lnTo>
                    <a:pt x="393" y="809"/>
                  </a:lnTo>
                  <a:lnTo>
                    <a:pt x="271" y="892"/>
                  </a:lnTo>
                  <a:lnTo>
                    <a:pt x="0" y="1093"/>
                  </a:lnTo>
                  <a:close/>
                </a:path>
              </a:pathLst>
            </a:cu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1426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 rot="11584200">
              <a:off x="3814560" y="5505120"/>
              <a:ext cx="1514520" cy="45720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06" h="1093">
                  <a:moveTo>
                    <a:pt x="0" y="1093"/>
                  </a:moveTo>
                  <a:lnTo>
                    <a:pt x="247" y="884"/>
                  </a:lnTo>
                  <a:lnTo>
                    <a:pt x="350" y="793"/>
                  </a:lnTo>
                  <a:lnTo>
                    <a:pt x="451" y="708"/>
                  </a:lnTo>
                  <a:lnTo>
                    <a:pt x="553" y="631"/>
                  </a:lnTo>
                  <a:lnTo>
                    <a:pt x="655" y="562"/>
                  </a:lnTo>
                  <a:lnTo>
                    <a:pt x="756" y="497"/>
                  </a:lnTo>
                  <a:lnTo>
                    <a:pt x="856" y="439"/>
                  </a:lnTo>
                  <a:lnTo>
                    <a:pt x="955" y="388"/>
                  </a:lnTo>
                  <a:lnTo>
                    <a:pt x="1053" y="342"/>
                  </a:lnTo>
                  <a:lnTo>
                    <a:pt x="1148" y="300"/>
                  </a:lnTo>
                  <a:lnTo>
                    <a:pt x="1242" y="264"/>
                  </a:lnTo>
                  <a:lnTo>
                    <a:pt x="1331" y="232"/>
                  </a:lnTo>
                  <a:lnTo>
                    <a:pt x="1419" y="204"/>
                  </a:lnTo>
                  <a:lnTo>
                    <a:pt x="1504" y="182"/>
                  </a:lnTo>
                  <a:lnTo>
                    <a:pt x="1586" y="160"/>
                  </a:lnTo>
                  <a:lnTo>
                    <a:pt x="1664" y="144"/>
                  </a:lnTo>
                  <a:lnTo>
                    <a:pt x="1737" y="131"/>
                  </a:lnTo>
                  <a:lnTo>
                    <a:pt x="1807" y="121"/>
                  </a:lnTo>
                  <a:lnTo>
                    <a:pt x="1871" y="112"/>
                  </a:lnTo>
                  <a:lnTo>
                    <a:pt x="1932" y="107"/>
                  </a:lnTo>
                  <a:lnTo>
                    <a:pt x="1988" y="103"/>
                  </a:lnTo>
                  <a:lnTo>
                    <a:pt x="2038" y="100"/>
                  </a:lnTo>
                  <a:lnTo>
                    <a:pt x="2082" y="99"/>
                  </a:lnTo>
                  <a:lnTo>
                    <a:pt x="2121" y="100"/>
                  </a:lnTo>
                  <a:lnTo>
                    <a:pt x="2152" y="99"/>
                  </a:lnTo>
                  <a:lnTo>
                    <a:pt x="2178" y="101"/>
                  </a:lnTo>
                  <a:lnTo>
                    <a:pt x="2195" y="102"/>
                  </a:lnTo>
                  <a:lnTo>
                    <a:pt x="2206" y="102"/>
                  </a:lnTo>
                  <a:lnTo>
                    <a:pt x="2210" y="102"/>
                  </a:lnTo>
                  <a:lnTo>
                    <a:pt x="2146" y="0"/>
                  </a:lnTo>
                  <a:lnTo>
                    <a:pt x="2706" y="330"/>
                  </a:lnTo>
                  <a:lnTo>
                    <a:pt x="2270" y="473"/>
                  </a:lnTo>
                  <a:lnTo>
                    <a:pt x="2336" y="358"/>
                  </a:lnTo>
                  <a:lnTo>
                    <a:pt x="2335" y="357"/>
                  </a:lnTo>
                  <a:lnTo>
                    <a:pt x="2326" y="354"/>
                  </a:lnTo>
                  <a:lnTo>
                    <a:pt x="2313" y="350"/>
                  </a:lnTo>
                  <a:lnTo>
                    <a:pt x="2293" y="345"/>
                  </a:lnTo>
                  <a:lnTo>
                    <a:pt x="2270" y="337"/>
                  </a:lnTo>
                  <a:lnTo>
                    <a:pt x="2241" y="330"/>
                  </a:lnTo>
                  <a:lnTo>
                    <a:pt x="2207" y="323"/>
                  </a:lnTo>
                  <a:lnTo>
                    <a:pt x="2168" y="317"/>
                  </a:lnTo>
                  <a:lnTo>
                    <a:pt x="2124" y="311"/>
                  </a:lnTo>
                  <a:lnTo>
                    <a:pt x="2075" y="306"/>
                  </a:lnTo>
                  <a:lnTo>
                    <a:pt x="2024" y="301"/>
                  </a:lnTo>
                  <a:lnTo>
                    <a:pt x="1966" y="298"/>
                  </a:lnTo>
                  <a:lnTo>
                    <a:pt x="1905" y="295"/>
                  </a:lnTo>
                  <a:lnTo>
                    <a:pt x="1838" y="298"/>
                  </a:lnTo>
                  <a:lnTo>
                    <a:pt x="1767" y="301"/>
                  </a:lnTo>
                  <a:lnTo>
                    <a:pt x="1692" y="309"/>
                  </a:lnTo>
                  <a:lnTo>
                    <a:pt x="1613" y="317"/>
                  </a:lnTo>
                  <a:lnTo>
                    <a:pt x="1533" y="330"/>
                  </a:lnTo>
                  <a:lnTo>
                    <a:pt x="1445" y="349"/>
                  </a:lnTo>
                  <a:lnTo>
                    <a:pt x="1354" y="371"/>
                  </a:lnTo>
                  <a:lnTo>
                    <a:pt x="1262" y="397"/>
                  </a:lnTo>
                  <a:lnTo>
                    <a:pt x="1164" y="428"/>
                  </a:lnTo>
                  <a:lnTo>
                    <a:pt x="1065" y="464"/>
                  </a:lnTo>
                  <a:lnTo>
                    <a:pt x="960" y="505"/>
                  </a:lnTo>
                  <a:lnTo>
                    <a:pt x="853" y="553"/>
                  </a:lnTo>
                  <a:lnTo>
                    <a:pt x="742" y="608"/>
                  </a:lnTo>
                  <a:lnTo>
                    <a:pt x="629" y="669"/>
                  </a:lnTo>
                  <a:lnTo>
                    <a:pt x="512" y="736"/>
                  </a:lnTo>
                  <a:lnTo>
                    <a:pt x="393" y="809"/>
                  </a:lnTo>
                  <a:lnTo>
                    <a:pt x="271" y="892"/>
                  </a:lnTo>
                  <a:lnTo>
                    <a:pt x="0" y="1093"/>
                  </a:lnTo>
                  <a:close/>
                </a:path>
              </a:pathLst>
            </a:cu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100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 rot="15914400">
              <a:off x="2243160" y="4188960"/>
              <a:ext cx="1514520" cy="45720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06" h="1093">
                  <a:moveTo>
                    <a:pt x="0" y="1093"/>
                  </a:moveTo>
                  <a:lnTo>
                    <a:pt x="247" y="884"/>
                  </a:lnTo>
                  <a:lnTo>
                    <a:pt x="350" y="793"/>
                  </a:lnTo>
                  <a:lnTo>
                    <a:pt x="451" y="708"/>
                  </a:lnTo>
                  <a:lnTo>
                    <a:pt x="553" y="631"/>
                  </a:lnTo>
                  <a:lnTo>
                    <a:pt x="655" y="562"/>
                  </a:lnTo>
                  <a:lnTo>
                    <a:pt x="756" y="497"/>
                  </a:lnTo>
                  <a:lnTo>
                    <a:pt x="856" y="439"/>
                  </a:lnTo>
                  <a:lnTo>
                    <a:pt x="955" y="388"/>
                  </a:lnTo>
                  <a:lnTo>
                    <a:pt x="1053" y="342"/>
                  </a:lnTo>
                  <a:lnTo>
                    <a:pt x="1148" y="300"/>
                  </a:lnTo>
                  <a:lnTo>
                    <a:pt x="1242" y="264"/>
                  </a:lnTo>
                  <a:lnTo>
                    <a:pt x="1331" y="232"/>
                  </a:lnTo>
                  <a:lnTo>
                    <a:pt x="1419" y="204"/>
                  </a:lnTo>
                  <a:lnTo>
                    <a:pt x="1504" y="182"/>
                  </a:lnTo>
                  <a:lnTo>
                    <a:pt x="1586" y="160"/>
                  </a:lnTo>
                  <a:lnTo>
                    <a:pt x="1664" y="144"/>
                  </a:lnTo>
                  <a:lnTo>
                    <a:pt x="1737" y="131"/>
                  </a:lnTo>
                  <a:lnTo>
                    <a:pt x="1807" y="121"/>
                  </a:lnTo>
                  <a:lnTo>
                    <a:pt x="1871" y="112"/>
                  </a:lnTo>
                  <a:lnTo>
                    <a:pt x="1932" y="107"/>
                  </a:lnTo>
                  <a:lnTo>
                    <a:pt x="1988" y="103"/>
                  </a:lnTo>
                  <a:lnTo>
                    <a:pt x="2038" y="100"/>
                  </a:lnTo>
                  <a:lnTo>
                    <a:pt x="2082" y="99"/>
                  </a:lnTo>
                  <a:lnTo>
                    <a:pt x="2121" y="100"/>
                  </a:lnTo>
                  <a:lnTo>
                    <a:pt x="2152" y="99"/>
                  </a:lnTo>
                  <a:lnTo>
                    <a:pt x="2178" y="101"/>
                  </a:lnTo>
                  <a:lnTo>
                    <a:pt x="2195" y="102"/>
                  </a:lnTo>
                  <a:lnTo>
                    <a:pt x="2206" y="102"/>
                  </a:lnTo>
                  <a:lnTo>
                    <a:pt x="2210" y="102"/>
                  </a:lnTo>
                  <a:lnTo>
                    <a:pt x="2146" y="0"/>
                  </a:lnTo>
                  <a:lnTo>
                    <a:pt x="2706" y="330"/>
                  </a:lnTo>
                  <a:lnTo>
                    <a:pt x="2270" y="473"/>
                  </a:lnTo>
                  <a:lnTo>
                    <a:pt x="2336" y="358"/>
                  </a:lnTo>
                  <a:lnTo>
                    <a:pt x="2335" y="357"/>
                  </a:lnTo>
                  <a:lnTo>
                    <a:pt x="2326" y="354"/>
                  </a:lnTo>
                  <a:lnTo>
                    <a:pt x="2313" y="350"/>
                  </a:lnTo>
                  <a:lnTo>
                    <a:pt x="2293" y="345"/>
                  </a:lnTo>
                  <a:lnTo>
                    <a:pt x="2270" y="337"/>
                  </a:lnTo>
                  <a:lnTo>
                    <a:pt x="2241" y="330"/>
                  </a:lnTo>
                  <a:lnTo>
                    <a:pt x="2207" y="323"/>
                  </a:lnTo>
                  <a:lnTo>
                    <a:pt x="2168" y="317"/>
                  </a:lnTo>
                  <a:lnTo>
                    <a:pt x="2124" y="311"/>
                  </a:lnTo>
                  <a:lnTo>
                    <a:pt x="2075" y="306"/>
                  </a:lnTo>
                  <a:lnTo>
                    <a:pt x="2024" y="301"/>
                  </a:lnTo>
                  <a:lnTo>
                    <a:pt x="1966" y="298"/>
                  </a:lnTo>
                  <a:lnTo>
                    <a:pt x="1905" y="295"/>
                  </a:lnTo>
                  <a:lnTo>
                    <a:pt x="1838" y="298"/>
                  </a:lnTo>
                  <a:lnTo>
                    <a:pt x="1767" y="301"/>
                  </a:lnTo>
                  <a:lnTo>
                    <a:pt x="1692" y="309"/>
                  </a:lnTo>
                  <a:lnTo>
                    <a:pt x="1613" y="317"/>
                  </a:lnTo>
                  <a:lnTo>
                    <a:pt x="1533" y="330"/>
                  </a:lnTo>
                  <a:lnTo>
                    <a:pt x="1445" y="349"/>
                  </a:lnTo>
                  <a:lnTo>
                    <a:pt x="1354" y="371"/>
                  </a:lnTo>
                  <a:lnTo>
                    <a:pt x="1262" y="397"/>
                  </a:lnTo>
                  <a:lnTo>
                    <a:pt x="1164" y="428"/>
                  </a:lnTo>
                  <a:lnTo>
                    <a:pt x="1065" y="464"/>
                  </a:lnTo>
                  <a:lnTo>
                    <a:pt x="960" y="505"/>
                  </a:lnTo>
                  <a:lnTo>
                    <a:pt x="853" y="553"/>
                  </a:lnTo>
                  <a:lnTo>
                    <a:pt x="742" y="608"/>
                  </a:lnTo>
                  <a:lnTo>
                    <a:pt x="629" y="669"/>
                  </a:lnTo>
                  <a:lnTo>
                    <a:pt x="512" y="736"/>
                  </a:lnTo>
                  <a:lnTo>
                    <a:pt x="393" y="809"/>
                  </a:lnTo>
                  <a:lnTo>
                    <a:pt x="271" y="892"/>
                  </a:lnTo>
                  <a:lnTo>
                    <a:pt x="0" y="1093"/>
                  </a:lnTo>
                  <a:close/>
                </a:path>
              </a:pathLst>
            </a:cu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56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4"/>
            <p:cNvSpPr/>
            <p:nvPr/>
          </p:nvSpPr>
          <p:spPr>
            <a:xfrm>
              <a:off x="2730600" y="226548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gener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5"/>
            <p:cNvSpPr/>
            <p:nvPr/>
          </p:nvSpPr>
          <p:spPr>
            <a:xfrm>
              <a:off x="5316480" y="225900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gener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6"/>
            <p:cNvSpPr/>
            <p:nvPr/>
          </p:nvSpPr>
          <p:spPr>
            <a:xfrm>
              <a:off x="5924520" y="41497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gener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7"/>
            <p:cNvSpPr/>
            <p:nvPr/>
          </p:nvSpPr>
          <p:spPr>
            <a:xfrm>
              <a:off x="2279880" y="41497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gener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8"/>
            <p:cNvSpPr/>
            <p:nvPr/>
          </p:nvSpPr>
          <p:spPr>
            <a:xfrm>
              <a:off x="4033800" y="563400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gener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62360" y="584640"/>
            <a:ext cx="67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  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Restric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: bringing under control or restra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 flipV="1">
            <a:off x="3672000" y="2349360"/>
            <a:ext cx="900000" cy="278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616280" y="2349360"/>
            <a:ext cx="900360" cy="278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ood"/>
          <p:cNvPicPr/>
          <p:nvPr/>
        </p:nvPicPr>
        <p:blipFill>
          <a:blip r:embed="rId1"/>
          <a:stretch/>
        </p:blipFill>
        <p:spPr>
          <a:xfrm>
            <a:off x="4103640" y="1544760"/>
            <a:ext cx="936720" cy="820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shui"/>
          <p:cNvPicPr/>
          <p:nvPr/>
        </p:nvPicPr>
        <p:blipFill>
          <a:blip r:embed="rId2"/>
          <a:stretch/>
        </p:blipFill>
        <p:spPr>
          <a:xfrm>
            <a:off x="2411280" y="2889360"/>
            <a:ext cx="936720" cy="820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huo"/>
          <p:cNvPicPr/>
          <p:nvPr/>
        </p:nvPicPr>
        <p:blipFill>
          <a:blip r:embed="rId3"/>
          <a:stretch/>
        </p:blipFill>
        <p:spPr>
          <a:xfrm>
            <a:off x="5967360" y="2933640"/>
            <a:ext cx="936720" cy="820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jin"/>
          <p:cNvPicPr/>
          <p:nvPr/>
        </p:nvPicPr>
        <p:blipFill>
          <a:blip r:embed="rId4"/>
          <a:stretch/>
        </p:blipFill>
        <p:spPr>
          <a:xfrm>
            <a:off x="3041640" y="5094360"/>
            <a:ext cx="936720" cy="82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tu"/>
          <p:cNvPicPr/>
          <p:nvPr/>
        </p:nvPicPr>
        <p:blipFill>
          <a:blip r:embed="rId5"/>
          <a:stretch/>
        </p:blipFill>
        <p:spPr>
          <a:xfrm>
            <a:off x="5246640" y="5094360"/>
            <a:ext cx="938160" cy="820800"/>
          </a:xfrm>
          <a:prstGeom prst="rect">
            <a:avLst/>
          </a:prstGeom>
          <a:ln w="0">
            <a:noFill/>
          </a:ln>
        </p:spPr>
      </p:pic>
      <p:sp>
        <p:nvSpPr>
          <p:cNvPr id="111" name="Line 10"/>
          <p:cNvSpPr/>
          <p:nvPr/>
        </p:nvSpPr>
        <p:spPr>
          <a:xfrm>
            <a:off x="3176640" y="3384720"/>
            <a:ext cx="2835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3672000" y="3429000"/>
            <a:ext cx="2386080" cy="175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 flipH="1" flipV="1">
            <a:off x="3176640" y="3473280"/>
            <a:ext cx="2340000" cy="171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988800" y="30686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 rot="4275000">
            <a:off x="4709160" y="37882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 rot="17185200">
            <a:off x="3309480" y="38318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 rot="2111400">
            <a:off x="4483440" y="44636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 rot="19519800">
            <a:off x="3630240" y="4419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 flipV="1">
            <a:off x="3672000" y="2349360"/>
            <a:ext cx="900000" cy="278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4616280" y="2349360"/>
            <a:ext cx="900360" cy="278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2279880" y="1544760"/>
            <a:ext cx="4965480" cy="4583160"/>
            <a:chOff x="2279880" y="1544760"/>
            <a:chExt cx="4965480" cy="4583160"/>
          </a:xfrm>
        </p:grpSpPr>
        <p:pic>
          <p:nvPicPr>
            <p:cNvPr id="122" name="Picture 5" descr="wood"/>
            <p:cNvPicPr/>
            <p:nvPr/>
          </p:nvPicPr>
          <p:blipFill>
            <a:blip r:embed="rId1"/>
            <a:stretch/>
          </p:blipFill>
          <p:spPr>
            <a:xfrm>
              <a:off x="4104000" y="1544760"/>
              <a:ext cx="93636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未知"/>
            <p:cNvSpPr/>
            <p:nvPr/>
          </p:nvSpPr>
          <p:spPr>
            <a:xfrm rot="20269800">
              <a:off x="2727360" y="2221200"/>
              <a:ext cx="1514520" cy="45720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06" h="1093">
                  <a:moveTo>
                    <a:pt x="0" y="1093"/>
                  </a:moveTo>
                  <a:lnTo>
                    <a:pt x="247" y="884"/>
                  </a:lnTo>
                  <a:lnTo>
                    <a:pt x="350" y="793"/>
                  </a:lnTo>
                  <a:lnTo>
                    <a:pt x="451" y="708"/>
                  </a:lnTo>
                  <a:lnTo>
                    <a:pt x="553" y="631"/>
                  </a:lnTo>
                  <a:lnTo>
                    <a:pt x="655" y="562"/>
                  </a:lnTo>
                  <a:lnTo>
                    <a:pt x="756" y="497"/>
                  </a:lnTo>
                  <a:lnTo>
                    <a:pt x="856" y="439"/>
                  </a:lnTo>
                  <a:lnTo>
                    <a:pt x="955" y="388"/>
                  </a:lnTo>
                  <a:lnTo>
                    <a:pt x="1053" y="342"/>
                  </a:lnTo>
                  <a:lnTo>
                    <a:pt x="1148" y="300"/>
                  </a:lnTo>
                  <a:lnTo>
                    <a:pt x="1242" y="264"/>
                  </a:lnTo>
                  <a:lnTo>
                    <a:pt x="1331" y="232"/>
                  </a:lnTo>
                  <a:lnTo>
                    <a:pt x="1419" y="204"/>
                  </a:lnTo>
                  <a:lnTo>
                    <a:pt x="1504" y="182"/>
                  </a:lnTo>
                  <a:lnTo>
                    <a:pt x="1586" y="160"/>
                  </a:lnTo>
                  <a:lnTo>
                    <a:pt x="1664" y="144"/>
                  </a:lnTo>
                  <a:lnTo>
                    <a:pt x="1737" y="131"/>
                  </a:lnTo>
                  <a:lnTo>
                    <a:pt x="1807" y="121"/>
                  </a:lnTo>
                  <a:lnTo>
                    <a:pt x="1871" y="112"/>
                  </a:lnTo>
                  <a:lnTo>
                    <a:pt x="1932" y="107"/>
                  </a:lnTo>
                  <a:lnTo>
                    <a:pt x="1988" y="103"/>
                  </a:lnTo>
                  <a:lnTo>
                    <a:pt x="2038" y="100"/>
                  </a:lnTo>
                  <a:lnTo>
                    <a:pt x="2082" y="99"/>
                  </a:lnTo>
                  <a:lnTo>
                    <a:pt x="2121" y="100"/>
                  </a:lnTo>
                  <a:lnTo>
                    <a:pt x="2152" y="99"/>
                  </a:lnTo>
                  <a:lnTo>
                    <a:pt x="2178" y="101"/>
                  </a:lnTo>
                  <a:lnTo>
                    <a:pt x="2195" y="102"/>
                  </a:lnTo>
                  <a:lnTo>
                    <a:pt x="2206" y="102"/>
                  </a:lnTo>
                  <a:lnTo>
                    <a:pt x="2210" y="102"/>
                  </a:lnTo>
                  <a:lnTo>
                    <a:pt x="2146" y="0"/>
                  </a:lnTo>
                  <a:lnTo>
                    <a:pt x="2706" y="330"/>
                  </a:lnTo>
                  <a:lnTo>
                    <a:pt x="2270" y="473"/>
                  </a:lnTo>
                  <a:lnTo>
                    <a:pt x="2336" y="358"/>
                  </a:lnTo>
                  <a:lnTo>
                    <a:pt x="2335" y="357"/>
                  </a:lnTo>
                  <a:lnTo>
                    <a:pt x="2326" y="354"/>
                  </a:lnTo>
                  <a:lnTo>
                    <a:pt x="2313" y="350"/>
                  </a:lnTo>
                  <a:lnTo>
                    <a:pt x="2293" y="345"/>
                  </a:lnTo>
                  <a:lnTo>
                    <a:pt x="2270" y="337"/>
                  </a:lnTo>
                  <a:lnTo>
                    <a:pt x="2241" y="330"/>
                  </a:lnTo>
                  <a:lnTo>
                    <a:pt x="2207" y="323"/>
                  </a:lnTo>
                  <a:lnTo>
                    <a:pt x="2168" y="317"/>
                  </a:lnTo>
                  <a:lnTo>
                    <a:pt x="2124" y="311"/>
                  </a:lnTo>
                  <a:lnTo>
                    <a:pt x="2075" y="306"/>
                  </a:lnTo>
                  <a:lnTo>
                    <a:pt x="2024" y="301"/>
                  </a:lnTo>
                  <a:lnTo>
                    <a:pt x="1966" y="298"/>
                  </a:lnTo>
                  <a:lnTo>
                    <a:pt x="1905" y="295"/>
                  </a:lnTo>
                  <a:lnTo>
                    <a:pt x="1838" y="298"/>
                  </a:lnTo>
                  <a:lnTo>
                    <a:pt x="1767" y="301"/>
                  </a:lnTo>
                  <a:lnTo>
                    <a:pt x="1692" y="309"/>
                  </a:lnTo>
                  <a:lnTo>
                    <a:pt x="1613" y="317"/>
                  </a:lnTo>
                  <a:lnTo>
                    <a:pt x="1533" y="330"/>
                  </a:lnTo>
                  <a:lnTo>
                    <a:pt x="1445" y="349"/>
                  </a:lnTo>
                  <a:lnTo>
                    <a:pt x="1354" y="371"/>
                  </a:lnTo>
                  <a:lnTo>
                    <a:pt x="1262" y="397"/>
                  </a:lnTo>
                  <a:lnTo>
                    <a:pt x="1164" y="428"/>
                  </a:lnTo>
                  <a:lnTo>
                    <a:pt x="1065" y="464"/>
                  </a:lnTo>
                  <a:lnTo>
                    <a:pt x="960" y="505"/>
                  </a:lnTo>
                  <a:lnTo>
                    <a:pt x="853" y="553"/>
                  </a:lnTo>
                  <a:lnTo>
                    <a:pt x="742" y="608"/>
                  </a:lnTo>
                  <a:lnTo>
                    <a:pt x="629" y="669"/>
                  </a:lnTo>
                  <a:lnTo>
                    <a:pt x="512" y="736"/>
                  </a:lnTo>
                  <a:lnTo>
                    <a:pt x="393" y="809"/>
                  </a:lnTo>
                  <a:lnTo>
                    <a:pt x="271" y="892"/>
                  </a:lnTo>
                  <a:lnTo>
                    <a:pt x="0" y="1093"/>
                  </a:lnTo>
                  <a:close/>
                </a:path>
              </a:pathLst>
            </a:cu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13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7" descr="shui"/>
            <p:cNvPicPr/>
            <p:nvPr/>
          </p:nvPicPr>
          <p:blipFill>
            <a:blip r:embed="rId2"/>
            <a:stretch/>
          </p:blipFill>
          <p:spPr>
            <a:xfrm>
              <a:off x="2411640" y="2889360"/>
              <a:ext cx="9367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8" descr="huo"/>
            <p:cNvPicPr/>
            <p:nvPr/>
          </p:nvPicPr>
          <p:blipFill>
            <a:blip r:embed="rId3"/>
            <a:stretch/>
          </p:blipFill>
          <p:spPr>
            <a:xfrm>
              <a:off x="5967720" y="2934000"/>
              <a:ext cx="936360" cy="82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9" descr="jin"/>
            <p:cNvPicPr/>
            <p:nvPr/>
          </p:nvPicPr>
          <p:blipFill>
            <a:blip r:embed="rId4"/>
            <a:stretch/>
          </p:blipFill>
          <p:spPr>
            <a:xfrm>
              <a:off x="3041640" y="5094360"/>
              <a:ext cx="9367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0" descr="tu"/>
            <p:cNvPicPr/>
            <p:nvPr/>
          </p:nvPicPr>
          <p:blipFill>
            <a:blip r:embed="rId5"/>
            <a:stretch/>
          </p:blipFill>
          <p:spPr>
            <a:xfrm>
              <a:off x="5247000" y="5094360"/>
              <a:ext cx="93816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未知"/>
            <p:cNvSpPr/>
            <p:nvPr/>
          </p:nvSpPr>
          <p:spPr>
            <a:xfrm rot="2651400">
              <a:off x="4932360" y="2175120"/>
              <a:ext cx="1514520" cy="45720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06" h="1093">
                  <a:moveTo>
                    <a:pt x="0" y="1093"/>
                  </a:moveTo>
                  <a:lnTo>
                    <a:pt x="247" y="884"/>
                  </a:lnTo>
                  <a:lnTo>
                    <a:pt x="350" y="793"/>
                  </a:lnTo>
                  <a:lnTo>
                    <a:pt x="451" y="708"/>
                  </a:lnTo>
                  <a:lnTo>
                    <a:pt x="553" y="631"/>
                  </a:lnTo>
                  <a:lnTo>
                    <a:pt x="655" y="562"/>
                  </a:lnTo>
                  <a:lnTo>
                    <a:pt x="756" y="497"/>
                  </a:lnTo>
                  <a:lnTo>
                    <a:pt x="856" y="439"/>
                  </a:lnTo>
                  <a:lnTo>
                    <a:pt x="955" y="388"/>
                  </a:lnTo>
                  <a:lnTo>
                    <a:pt x="1053" y="342"/>
                  </a:lnTo>
                  <a:lnTo>
                    <a:pt x="1148" y="300"/>
                  </a:lnTo>
                  <a:lnTo>
                    <a:pt x="1242" y="264"/>
                  </a:lnTo>
                  <a:lnTo>
                    <a:pt x="1331" y="232"/>
                  </a:lnTo>
                  <a:lnTo>
                    <a:pt x="1419" y="204"/>
                  </a:lnTo>
                  <a:lnTo>
                    <a:pt x="1504" y="182"/>
                  </a:lnTo>
                  <a:lnTo>
                    <a:pt x="1586" y="160"/>
                  </a:lnTo>
                  <a:lnTo>
                    <a:pt x="1664" y="144"/>
                  </a:lnTo>
                  <a:lnTo>
                    <a:pt x="1737" y="131"/>
                  </a:lnTo>
                  <a:lnTo>
                    <a:pt x="1807" y="121"/>
                  </a:lnTo>
                  <a:lnTo>
                    <a:pt x="1871" y="112"/>
                  </a:lnTo>
                  <a:lnTo>
                    <a:pt x="1932" y="107"/>
                  </a:lnTo>
                  <a:lnTo>
                    <a:pt x="1988" y="103"/>
                  </a:lnTo>
                  <a:lnTo>
                    <a:pt x="2038" y="100"/>
                  </a:lnTo>
                  <a:lnTo>
                    <a:pt x="2082" y="99"/>
                  </a:lnTo>
                  <a:lnTo>
                    <a:pt x="2121" y="100"/>
                  </a:lnTo>
                  <a:lnTo>
                    <a:pt x="2152" y="99"/>
                  </a:lnTo>
                  <a:lnTo>
                    <a:pt x="2178" y="101"/>
                  </a:lnTo>
                  <a:lnTo>
                    <a:pt x="2195" y="102"/>
                  </a:lnTo>
                  <a:lnTo>
                    <a:pt x="2206" y="102"/>
                  </a:lnTo>
                  <a:lnTo>
                    <a:pt x="2210" y="102"/>
                  </a:lnTo>
                  <a:lnTo>
                    <a:pt x="2146" y="0"/>
                  </a:lnTo>
                  <a:lnTo>
                    <a:pt x="2706" y="330"/>
                  </a:lnTo>
                  <a:lnTo>
                    <a:pt x="2270" y="473"/>
                  </a:lnTo>
                  <a:lnTo>
                    <a:pt x="2336" y="358"/>
                  </a:lnTo>
                  <a:lnTo>
                    <a:pt x="2335" y="357"/>
                  </a:lnTo>
                  <a:lnTo>
                    <a:pt x="2326" y="354"/>
                  </a:lnTo>
                  <a:lnTo>
                    <a:pt x="2313" y="350"/>
                  </a:lnTo>
                  <a:lnTo>
                    <a:pt x="2293" y="345"/>
                  </a:lnTo>
                  <a:lnTo>
                    <a:pt x="2270" y="337"/>
                  </a:lnTo>
                  <a:lnTo>
                    <a:pt x="2241" y="330"/>
                  </a:lnTo>
                  <a:lnTo>
                    <a:pt x="2207" y="323"/>
                  </a:lnTo>
                  <a:lnTo>
                    <a:pt x="2168" y="317"/>
                  </a:lnTo>
                  <a:lnTo>
                    <a:pt x="2124" y="311"/>
                  </a:lnTo>
                  <a:lnTo>
                    <a:pt x="2075" y="306"/>
                  </a:lnTo>
                  <a:lnTo>
                    <a:pt x="2024" y="301"/>
                  </a:lnTo>
                  <a:lnTo>
                    <a:pt x="1966" y="298"/>
                  </a:lnTo>
                  <a:lnTo>
                    <a:pt x="1905" y="295"/>
                  </a:lnTo>
                  <a:lnTo>
                    <a:pt x="1838" y="298"/>
                  </a:lnTo>
                  <a:lnTo>
                    <a:pt x="1767" y="301"/>
                  </a:lnTo>
                  <a:lnTo>
                    <a:pt x="1692" y="309"/>
                  </a:lnTo>
                  <a:lnTo>
                    <a:pt x="1613" y="317"/>
                  </a:lnTo>
                  <a:lnTo>
                    <a:pt x="1533" y="330"/>
                  </a:lnTo>
                  <a:lnTo>
                    <a:pt x="1445" y="349"/>
                  </a:lnTo>
                  <a:lnTo>
                    <a:pt x="1354" y="371"/>
                  </a:lnTo>
                  <a:lnTo>
                    <a:pt x="1262" y="397"/>
                  </a:lnTo>
                  <a:lnTo>
                    <a:pt x="1164" y="428"/>
                  </a:lnTo>
                  <a:lnTo>
                    <a:pt x="1065" y="464"/>
                  </a:lnTo>
                  <a:lnTo>
                    <a:pt x="960" y="505"/>
                  </a:lnTo>
                  <a:lnTo>
                    <a:pt x="853" y="553"/>
                  </a:lnTo>
                  <a:lnTo>
                    <a:pt x="742" y="608"/>
                  </a:lnTo>
                  <a:lnTo>
                    <a:pt x="629" y="669"/>
                  </a:lnTo>
                  <a:lnTo>
                    <a:pt x="512" y="736"/>
                  </a:lnTo>
                  <a:lnTo>
                    <a:pt x="393" y="809"/>
                  </a:lnTo>
                  <a:lnTo>
                    <a:pt x="271" y="892"/>
                  </a:lnTo>
                  <a:lnTo>
                    <a:pt x="0" y="1093"/>
                  </a:lnTo>
                  <a:close/>
                </a:path>
              </a:pathLst>
            </a:cu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189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 rot="7329600">
              <a:off x="5529600" y="4280040"/>
              <a:ext cx="1514160" cy="457200"/>
            </a:xfrm>
            <a:custGeom>
              <a:avLst/>
              <a:gdLst>
                <a:gd name="textAreaLeft" fmla="*/ 0 w 1514160"/>
                <a:gd name="textAreaRight" fmla="*/ 1514520 w 15141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06" h="1093">
                  <a:moveTo>
                    <a:pt x="0" y="1093"/>
                  </a:moveTo>
                  <a:lnTo>
                    <a:pt x="247" y="884"/>
                  </a:lnTo>
                  <a:lnTo>
                    <a:pt x="350" y="793"/>
                  </a:lnTo>
                  <a:lnTo>
                    <a:pt x="451" y="708"/>
                  </a:lnTo>
                  <a:lnTo>
                    <a:pt x="553" y="631"/>
                  </a:lnTo>
                  <a:lnTo>
                    <a:pt x="655" y="562"/>
                  </a:lnTo>
                  <a:lnTo>
                    <a:pt x="756" y="497"/>
                  </a:lnTo>
                  <a:lnTo>
                    <a:pt x="856" y="439"/>
                  </a:lnTo>
                  <a:lnTo>
                    <a:pt x="955" y="388"/>
                  </a:lnTo>
                  <a:lnTo>
                    <a:pt x="1053" y="342"/>
                  </a:lnTo>
                  <a:lnTo>
                    <a:pt x="1148" y="300"/>
                  </a:lnTo>
                  <a:lnTo>
                    <a:pt x="1242" y="264"/>
                  </a:lnTo>
                  <a:lnTo>
                    <a:pt x="1331" y="232"/>
                  </a:lnTo>
                  <a:lnTo>
                    <a:pt x="1419" y="204"/>
                  </a:lnTo>
                  <a:lnTo>
                    <a:pt x="1504" y="182"/>
                  </a:lnTo>
                  <a:lnTo>
                    <a:pt x="1586" y="160"/>
                  </a:lnTo>
                  <a:lnTo>
                    <a:pt x="1664" y="144"/>
                  </a:lnTo>
                  <a:lnTo>
                    <a:pt x="1737" y="131"/>
                  </a:lnTo>
                  <a:lnTo>
                    <a:pt x="1807" y="121"/>
                  </a:lnTo>
                  <a:lnTo>
                    <a:pt x="1871" y="112"/>
                  </a:lnTo>
                  <a:lnTo>
                    <a:pt x="1932" y="107"/>
                  </a:lnTo>
                  <a:lnTo>
                    <a:pt x="1988" y="103"/>
                  </a:lnTo>
                  <a:lnTo>
                    <a:pt x="2038" y="100"/>
                  </a:lnTo>
                  <a:lnTo>
                    <a:pt x="2082" y="99"/>
                  </a:lnTo>
                  <a:lnTo>
                    <a:pt x="2121" y="100"/>
                  </a:lnTo>
                  <a:lnTo>
                    <a:pt x="2152" y="99"/>
                  </a:lnTo>
                  <a:lnTo>
                    <a:pt x="2178" y="101"/>
                  </a:lnTo>
                  <a:lnTo>
                    <a:pt x="2195" y="102"/>
                  </a:lnTo>
                  <a:lnTo>
                    <a:pt x="2206" y="102"/>
                  </a:lnTo>
                  <a:lnTo>
                    <a:pt x="2210" y="102"/>
                  </a:lnTo>
                  <a:lnTo>
                    <a:pt x="2146" y="0"/>
                  </a:lnTo>
                  <a:lnTo>
                    <a:pt x="2706" y="330"/>
                  </a:lnTo>
                  <a:lnTo>
                    <a:pt x="2270" y="473"/>
                  </a:lnTo>
                  <a:lnTo>
                    <a:pt x="2336" y="358"/>
                  </a:lnTo>
                  <a:lnTo>
                    <a:pt x="2335" y="357"/>
                  </a:lnTo>
                  <a:lnTo>
                    <a:pt x="2326" y="354"/>
                  </a:lnTo>
                  <a:lnTo>
                    <a:pt x="2313" y="350"/>
                  </a:lnTo>
                  <a:lnTo>
                    <a:pt x="2293" y="345"/>
                  </a:lnTo>
                  <a:lnTo>
                    <a:pt x="2270" y="337"/>
                  </a:lnTo>
                  <a:lnTo>
                    <a:pt x="2241" y="330"/>
                  </a:lnTo>
                  <a:lnTo>
                    <a:pt x="2207" y="323"/>
                  </a:lnTo>
                  <a:lnTo>
                    <a:pt x="2168" y="317"/>
                  </a:lnTo>
                  <a:lnTo>
                    <a:pt x="2124" y="311"/>
                  </a:lnTo>
                  <a:lnTo>
                    <a:pt x="2075" y="306"/>
                  </a:lnTo>
                  <a:lnTo>
                    <a:pt x="2024" y="301"/>
                  </a:lnTo>
                  <a:lnTo>
                    <a:pt x="1966" y="298"/>
                  </a:lnTo>
                  <a:lnTo>
                    <a:pt x="1905" y="295"/>
                  </a:lnTo>
                  <a:lnTo>
                    <a:pt x="1838" y="298"/>
                  </a:lnTo>
                  <a:lnTo>
                    <a:pt x="1767" y="301"/>
                  </a:lnTo>
                  <a:lnTo>
                    <a:pt x="1692" y="309"/>
                  </a:lnTo>
                  <a:lnTo>
                    <a:pt x="1613" y="317"/>
                  </a:lnTo>
                  <a:lnTo>
                    <a:pt x="1533" y="330"/>
                  </a:lnTo>
                  <a:lnTo>
                    <a:pt x="1445" y="349"/>
                  </a:lnTo>
                  <a:lnTo>
                    <a:pt x="1354" y="371"/>
                  </a:lnTo>
                  <a:lnTo>
                    <a:pt x="1262" y="397"/>
                  </a:lnTo>
                  <a:lnTo>
                    <a:pt x="1164" y="428"/>
                  </a:lnTo>
                  <a:lnTo>
                    <a:pt x="1065" y="464"/>
                  </a:lnTo>
                  <a:lnTo>
                    <a:pt x="960" y="505"/>
                  </a:lnTo>
                  <a:lnTo>
                    <a:pt x="853" y="553"/>
                  </a:lnTo>
                  <a:lnTo>
                    <a:pt x="742" y="608"/>
                  </a:lnTo>
                  <a:lnTo>
                    <a:pt x="629" y="669"/>
                  </a:lnTo>
                  <a:lnTo>
                    <a:pt x="512" y="736"/>
                  </a:lnTo>
                  <a:lnTo>
                    <a:pt x="393" y="809"/>
                  </a:lnTo>
                  <a:lnTo>
                    <a:pt x="271" y="892"/>
                  </a:lnTo>
                  <a:lnTo>
                    <a:pt x="0" y="1093"/>
                  </a:lnTo>
                  <a:close/>
                </a:path>
              </a:pathLst>
            </a:cu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1426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 rot="11584200">
              <a:off x="3814560" y="5505120"/>
              <a:ext cx="1514520" cy="45720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06" h="1093">
                  <a:moveTo>
                    <a:pt x="0" y="1093"/>
                  </a:moveTo>
                  <a:lnTo>
                    <a:pt x="247" y="884"/>
                  </a:lnTo>
                  <a:lnTo>
                    <a:pt x="350" y="793"/>
                  </a:lnTo>
                  <a:lnTo>
                    <a:pt x="451" y="708"/>
                  </a:lnTo>
                  <a:lnTo>
                    <a:pt x="553" y="631"/>
                  </a:lnTo>
                  <a:lnTo>
                    <a:pt x="655" y="562"/>
                  </a:lnTo>
                  <a:lnTo>
                    <a:pt x="756" y="497"/>
                  </a:lnTo>
                  <a:lnTo>
                    <a:pt x="856" y="439"/>
                  </a:lnTo>
                  <a:lnTo>
                    <a:pt x="955" y="388"/>
                  </a:lnTo>
                  <a:lnTo>
                    <a:pt x="1053" y="342"/>
                  </a:lnTo>
                  <a:lnTo>
                    <a:pt x="1148" y="300"/>
                  </a:lnTo>
                  <a:lnTo>
                    <a:pt x="1242" y="264"/>
                  </a:lnTo>
                  <a:lnTo>
                    <a:pt x="1331" y="232"/>
                  </a:lnTo>
                  <a:lnTo>
                    <a:pt x="1419" y="204"/>
                  </a:lnTo>
                  <a:lnTo>
                    <a:pt x="1504" y="182"/>
                  </a:lnTo>
                  <a:lnTo>
                    <a:pt x="1586" y="160"/>
                  </a:lnTo>
                  <a:lnTo>
                    <a:pt x="1664" y="144"/>
                  </a:lnTo>
                  <a:lnTo>
                    <a:pt x="1737" y="131"/>
                  </a:lnTo>
                  <a:lnTo>
                    <a:pt x="1807" y="121"/>
                  </a:lnTo>
                  <a:lnTo>
                    <a:pt x="1871" y="112"/>
                  </a:lnTo>
                  <a:lnTo>
                    <a:pt x="1932" y="107"/>
                  </a:lnTo>
                  <a:lnTo>
                    <a:pt x="1988" y="103"/>
                  </a:lnTo>
                  <a:lnTo>
                    <a:pt x="2038" y="100"/>
                  </a:lnTo>
                  <a:lnTo>
                    <a:pt x="2082" y="99"/>
                  </a:lnTo>
                  <a:lnTo>
                    <a:pt x="2121" y="100"/>
                  </a:lnTo>
                  <a:lnTo>
                    <a:pt x="2152" y="99"/>
                  </a:lnTo>
                  <a:lnTo>
                    <a:pt x="2178" y="101"/>
                  </a:lnTo>
                  <a:lnTo>
                    <a:pt x="2195" y="102"/>
                  </a:lnTo>
                  <a:lnTo>
                    <a:pt x="2206" y="102"/>
                  </a:lnTo>
                  <a:lnTo>
                    <a:pt x="2210" y="102"/>
                  </a:lnTo>
                  <a:lnTo>
                    <a:pt x="2146" y="0"/>
                  </a:lnTo>
                  <a:lnTo>
                    <a:pt x="2706" y="330"/>
                  </a:lnTo>
                  <a:lnTo>
                    <a:pt x="2270" y="473"/>
                  </a:lnTo>
                  <a:lnTo>
                    <a:pt x="2336" y="358"/>
                  </a:lnTo>
                  <a:lnTo>
                    <a:pt x="2335" y="357"/>
                  </a:lnTo>
                  <a:lnTo>
                    <a:pt x="2326" y="354"/>
                  </a:lnTo>
                  <a:lnTo>
                    <a:pt x="2313" y="350"/>
                  </a:lnTo>
                  <a:lnTo>
                    <a:pt x="2293" y="345"/>
                  </a:lnTo>
                  <a:lnTo>
                    <a:pt x="2270" y="337"/>
                  </a:lnTo>
                  <a:lnTo>
                    <a:pt x="2241" y="330"/>
                  </a:lnTo>
                  <a:lnTo>
                    <a:pt x="2207" y="323"/>
                  </a:lnTo>
                  <a:lnTo>
                    <a:pt x="2168" y="317"/>
                  </a:lnTo>
                  <a:lnTo>
                    <a:pt x="2124" y="311"/>
                  </a:lnTo>
                  <a:lnTo>
                    <a:pt x="2075" y="306"/>
                  </a:lnTo>
                  <a:lnTo>
                    <a:pt x="2024" y="301"/>
                  </a:lnTo>
                  <a:lnTo>
                    <a:pt x="1966" y="298"/>
                  </a:lnTo>
                  <a:lnTo>
                    <a:pt x="1905" y="295"/>
                  </a:lnTo>
                  <a:lnTo>
                    <a:pt x="1838" y="298"/>
                  </a:lnTo>
                  <a:lnTo>
                    <a:pt x="1767" y="301"/>
                  </a:lnTo>
                  <a:lnTo>
                    <a:pt x="1692" y="309"/>
                  </a:lnTo>
                  <a:lnTo>
                    <a:pt x="1613" y="317"/>
                  </a:lnTo>
                  <a:lnTo>
                    <a:pt x="1533" y="330"/>
                  </a:lnTo>
                  <a:lnTo>
                    <a:pt x="1445" y="349"/>
                  </a:lnTo>
                  <a:lnTo>
                    <a:pt x="1354" y="371"/>
                  </a:lnTo>
                  <a:lnTo>
                    <a:pt x="1262" y="397"/>
                  </a:lnTo>
                  <a:lnTo>
                    <a:pt x="1164" y="428"/>
                  </a:lnTo>
                  <a:lnTo>
                    <a:pt x="1065" y="464"/>
                  </a:lnTo>
                  <a:lnTo>
                    <a:pt x="960" y="505"/>
                  </a:lnTo>
                  <a:lnTo>
                    <a:pt x="853" y="553"/>
                  </a:lnTo>
                  <a:lnTo>
                    <a:pt x="742" y="608"/>
                  </a:lnTo>
                  <a:lnTo>
                    <a:pt x="629" y="669"/>
                  </a:lnTo>
                  <a:lnTo>
                    <a:pt x="512" y="736"/>
                  </a:lnTo>
                  <a:lnTo>
                    <a:pt x="393" y="809"/>
                  </a:lnTo>
                  <a:lnTo>
                    <a:pt x="271" y="892"/>
                  </a:lnTo>
                  <a:lnTo>
                    <a:pt x="0" y="1093"/>
                  </a:lnTo>
                  <a:close/>
                </a:path>
              </a:pathLst>
            </a:cu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100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 rot="15914400">
              <a:off x="2243160" y="4188960"/>
              <a:ext cx="1514520" cy="45720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06" h="1093">
                  <a:moveTo>
                    <a:pt x="0" y="1093"/>
                  </a:moveTo>
                  <a:lnTo>
                    <a:pt x="247" y="884"/>
                  </a:lnTo>
                  <a:lnTo>
                    <a:pt x="350" y="793"/>
                  </a:lnTo>
                  <a:lnTo>
                    <a:pt x="451" y="708"/>
                  </a:lnTo>
                  <a:lnTo>
                    <a:pt x="553" y="631"/>
                  </a:lnTo>
                  <a:lnTo>
                    <a:pt x="655" y="562"/>
                  </a:lnTo>
                  <a:lnTo>
                    <a:pt x="756" y="497"/>
                  </a:lnTo>
                  <a:lnTo>
                    <a:pt x="856" y="439"/>
                  </a:lnTo>
                  <a:lnTo>
                    <a:pt x="955" y="388"/>
                  </a:lnTo>
                  <a:lnTo>
                    <a:pt x="1053" y="342"/>
                  </a:lnTo>
                  <a:lnTo>
                    <a:pt x="1148" y="300"/>
                  </a:lnTo>
                  <a:lnTo>
                    <a:pt x="1242" y="264"/>
                  </a:lnTo>
                  <a:lnTo>
                    <a:pt x="1331" y="232"/>
                  </a:lnTo>
                  <a:lnTo>
                    <a:pt x="1419" y="204"/>
                  </a:lnTo>
                  <a:lnTo>
                    <a:pt x="1504" y="182"/>
                  </a:lnTo>
                  <a:lnTo>
                    <a:pt x="1586" y="160"/>
                  </a:lnTo>
                  <a:lnTo>
                    <a:pt x="1664" y="144"/>
                  </a:lnTo>
                  <a:lnTo>
                    <a:pt x="1737" y="131"/>
                  </a:lnTo>
                  <a:lnTo>
                    <a:pt x="1807" y="121"/>
                  </a:lnTo>
                  <a:lnTo>
                    <a:pt x="1871" y="112"/>
                  </a:lnTo>
                  <a:lnTo>
                    <a:pt x="1932" y="107"/>
                  </a:lnTo>
                  <a:lnTo>
                    <a:pt x="1988" y="103"/>
                  </a:lnTo>
                  <a:lnTo>
                    <a:pt x="2038" y="100"/>
                  </a:lnTo>
                  <a:lnTo>
                    <a:pt x="2082" y="99"/>
                  </a:lnTo>
                  <a:lnTo>
                    <a:pt x="2121" y="100"/>
                  </a:lnTo>
                  <a:lnTo>
                    <a:pt x="2152" y="99"/>
                  </a:lnTo>
                  <a:lnTo>
                    <a:pt x="2178" y="101"/>
                  </a:lnTo>
                  <a:lnTo>
                    <a:pt x="2195" y="102"/>
                  </a:lnTo>
                  <a:lnTo>
                    <a:pt x="2206" y="102"/>
                  </a:lnTo>
                  <a:lnTo>
                    <a:pt x="2210" y="102"/>
                  </a:lnTo>
                  <a:lnTo>
                    <a:pt x="2146" y="0"/>
                  </a:lnTo>
                  <a:lnTo>
                    <a:pt x="2706" y="330"/>
                  </a:lnTo>
                  <a:lnTo>
                    <a:pt x="2270" y="473"/>
                  </a:lnTo>
                  <a:lnTo>
                    <a:pt x="2336" y="358"/>
                  </a:lnTo>
                  <a:lnTo>
                    <a:pt x="2335" y="357"/>
                  </a:lnTo>
                  <a:lnTo>
                    <a:pt x="2326" y="354"/>
                  </a:lnTo>
                  <a:lnTo>
                    <a:pt x="2313" y="350"/>
                  </a:lnTo>
                  <a:lnTo>
                    <a:pt x="2293" y="345"/>
                  </a:lnTo>
                  <a:lnTo>
                    <a:pt x="2270" y="337"/>
                  </a:lnTo>
                  <a:lnTo>
                    <a:pt x="2241" y="330"/>
                  </a:lnTo>
                  <a:lnTo>
                    <a:pt x="2207" y="323"/>
                  </a:lnTo>
                  <a:lnTo>
                    <a:pt x="2168" y="317"/>
                  </a:lnTo>
                  <a:lnTo>
                    <a:pt x="2124" y="311"/>
                  </a:lnTo>
                  <a:lnTo>
                    <a:pt x="2075" y="306"/>
                  </a:lnTo>
                  <a:lnTo>
                    <a:pt x="2024" y="301"/>
                  </a:lnTo>
                  <a:lnTo>
                    <a:pt x="1966" y="298"/>
                  </a:lnTo>
                  <a:lnTo>
                    <a:pt x="1905" y="295"/>
                  </a:lnTo>
                  <a:lnTo>
                    <a:pt x="1838" y="298"/>
                  </a:lnTo>
                  <a:lnTo>
                    <a:pt x="1767" y="301"/>
                  </a:lnTo>
                  <a:lnTo>
                    <a:pt x="1692" y="309"/>
                  </a:lnTo>
                  <a:lnTo>
                    <a:pt x="1613" y="317"/>
                  </a:lnTo>
                  <a:lnTo>
                    <a:pt x="1533" y="330"/>
                  </a:lnTo>
                  <a:lnTo>
                    <a:pt x="1445" y="349"/>
                  </a:lnTo>
                  <a:lnTo>
                    <a:pt x="1354" y="371"/>
                  </a:lnTo>
                  <a:lnTo>
                    <a:pt x="1262" y="397"/>
                  </a:lnTo>
                  <a:lnTo>
                    <a:pt x="1164" y="428"/>
                  </a:lnTo>
                  <a:lnTo>
                    <a:pt x="1065" y="464"/>
                  </a:lnTo>
                  <a:lnTo>
                    <a:pt x="960" y="505"/>
                  </a:lnTo>
                  <a:lnTo>
                    <a:pt x="853" y="553"/>
                  </a:lnTo>
                  <a:lnTo>
                    <a:pt x="742" y="608"/>
                  </a:lnTo>
                  <a:lnTo>
                    <a:pt x="629" y="669"/>
                  </a:lnTo>
                  <a:lnTo>
                    <a:pt x="512" y="736"/>
                  </a:lnTo>
                  <a:lnTo>
                    <a:pt x="393" y="809"/>
                  </a:lnTo>
                  <a:lnTo>
                    <a:pt x="271" y="892"/>
                  </a:lnTo>
                  <a:lnTo>
                    <a:pt x="0" y="1093"/>
                  </a:lnTo>
                  <a:close/>
                </a:path>
              </a:pathLst>
            </a:custGeom>
            <a:gradFill rotWithShape="0">
              <a:gsLst>
                <a:gs pos="0">
                  <a:srgbClr val="990033"/>
                </a:gs>
                <a:gs pos="50000">
                  <a:srgbClr val="ffffff"/>
                </a:gs>
                <a:gs pos="100000">
                  <a:srgbClr val="990033"/>
                </a:gs>
              </a:gsLst>
              <a:lin ang="56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>
              <a:off x="2730600" y="226548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gener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5316480" y="225900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gener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7"/>
            <p:cNvSpPr/>
            <p:nvPr/>
          </p:nvSpPr>
          <p:spPr>
            <a:xfrm>
              <a:off x="5924520" y="41497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gener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8"/>
            <p:cNvSpPr/>
            <p:nvPr/>
          </p:nvSpPr>
          <p:spPr>
            <a:xfrm>
              <a:off x="2279880" y="41497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gener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9"/>
            <p:cNvSpPr/>
            <p:nvPr/>
          </p:nvSpPr>
          <p:spPr>
            <a:xfrm>
              <a:off x="4033800" y="563400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gener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Line 20"/>
          <p:cNvSpPr/>
          <p:nvPr/>
        </p:nvSpPr>
        <p:spPr>
          <a:xfrm>
            <a:off x="3176640" y="3384720"/>
            <a:ext cx="2835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"/>
          <p:cNvSpPr/>
          <p:nvPr/>
        </p:nvSpPr>
        <p:spPr>
          <a:xfrm flipH="1">
            <a:off x="3672000" y="3429000"/>
            <a:ext cx="2386080" cy="175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H="1" flipV="1">
            <a:off x="3176640" y="3473280"/>
            <a:ext cx="2340000" cy="171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3988800" y="30686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 rot="4275000">
            <a:off x="4709160" y="37882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 rot="17185200">
            <a:off x="3309480" y="38318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570960" y="630720"/>
            <a:ext cx="59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relationships of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generation, restri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 rot="2111400">
            <a:off x="4483440" y="44636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 rot="19519800">
            <a:off x="3630240" y="4419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358800" y="1042200"/>
            <a:ext cx="263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Q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e root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569880" y="457200"/>
            <a:ext cx="631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fundamental substances constituting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human bod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and maintaining its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life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1475280" y="727560"/>
            <a:ext cx="659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eridians And Collat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e pathways to link the whol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561240" y="630720"/>
            <a:ext cx="73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 theoretical basis of all clinical subjects of TC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95000" y="1133640"/>
            <a:ext cx="77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ts origin can be traced back t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remote antiquit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566640" y="311364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edic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964080" y="356400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lant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689280" y="356400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351120" y="356400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eral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385920" y="3113640"/>
            <a:ext cx="78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he Four Diagnost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053080" y="17182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sp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569880" y="37882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uscultation and Olf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463800" y="25722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quiry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880200" y="212292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ulse-taking and Palp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566640" y="311364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edical 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未知"/>
          <p:cNvSpPr/>
          <p:nvPr/>
        </p:nvSpPr>
        <p:spPr>
          <a:xfrm>
            <a:off x="1889280" y="990720"/>
            <a:ext cx="4105080" cy="4967280"/>
          </a:xfrm>
          <a:custGeom>
            <a:avLst/>
            <a:gdLst>
              <a:gd name="textAreaLeft" fmla="*/ 0 w 4105080"/>
              <a:gd name="textAreaRight" fmla="*/ 4105440 w 4105080"/>
              <a:gd name="textAreaTop" fmla="*/ 0 h 4967280"/>
              <a:gd name="textAreaBottom" fmla="*/ 4967640 h 4967280"/>
            </a:gdLst>
            <a:ahLst/>
            <a:rect l="textAreaLeft" t="textAreaTop" r="textAreaRight" b="textAreaBottom"/>
            <a:pathLst>
              <a:path w="2404" h="2767">
                <a:moveTo>
                  <a:pt x="0" y="2767"/>
                </a:moveTo>
                <a:cubicBezTo>
                  <a:pt x="412" y="2566"/>
                  <a:pt x="824" y="2366"/>
                  <a:pt x="1225" y="1905"/>
                </a:cubicBezTo>
                <a:cubicBezTo>
                  <a:pt x="1626" y="1444"/>
                  <a:pt x="2015" y="722"/>
                  <a:pt x="2404" y="0"/>
                </a:cubicBezTo>
              </a:path>
            </a:pathLst>
          </a:cu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54353453543"/>
          <p:cNvPicPr/>
          <p:nvPr/>
        </p:nvPicPr>
        <p:blipFill>
          <a:blip r:embed="rId1"/>
          <a:stretch/>
        </p:blipFill>
        <p:spPr>
          <a:xfrm>
            <a:off x="2104920" y="5526000"/>
            <a:ext cx="371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"/>
          <p:cNvPicPr/>
          <p:nvPr/>
        </p:nvPicPr>
        <p:blipFill>
          <a:blip r:embed="rId2"/>
          <a:stretch/>
        </p:blipFill>
        <p:spPr>
          <a:xfrm>
            <a:off x="1015920" y="4238640"/>
            <a:ext cx="1887480" cy="1419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"/>
          <p:cNvPicPr/>
          <p:nvPr/>
        </p:nvPicPr>
        <p:blipFill>
          <a:blip r:embed="rId3"/>
          <a:stretch/>
        </p:blipFill>
        <p:spPr>
          <a:xfrm>
            <a:off x="1736640" y="3564000"/>
            <a:ext cx="1752840" cy="1317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54353453543"/>
          <p:cNvPicPr/>
          <p:nvPr/>
        </p:nvPicPr>
        <p:blipFill>
          <a:blip r:embed="rId4"/>
          <a:stretch/>
        </p:blipFill>
        <p:spPr>
          <a:xfrm>
            <a:off x="3132000" y="4869000"/>
            <a:ext cx="371520" cy="447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3"/>
          <p:cNvPicPr/>
          <p:nvPr/>
        </p:nvPicPr>
        <p:blipFill>
          <a:blip r:embed="rId5"/>
          <a:stretch/>
        </p:blipFill>
        <p:spPr>
          <a:xfrm>
            <a:off x="2727360" y="2979720"/>
            <a:ext cx="1573200" cy="1182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54353453543"/>
          <p:cNvPicPr/>
          <p:nvPr/>
        </p:nvPicPr>
        <p:blipFill>
          <a:blip r:embed="rId6"/>
          <a:stretch/>
        </p:blipFill>
        <p:spPr>
          <a:xfrm>
            <a:off x="3808440" y="4103640"/>
            <a:ext cx="371520" cy="447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4"/>
          <p:cNvPicPr/>
          <p:nvPr/>
        </p:nvPicPr>
        <p:blipFill>
          <a:blip r:embed="rId7"/>
          <a:stretch/>
        </p:blipFill>
        <p:spPr>
          <a:xfrm rot="20367600">
            <a:off x="3132000" y="2123640"/>
            <a:ext cx="1933560" cy="1454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54353453543"/>
          <p:cNvPicPr/>
          <p:nvPr/>
        </p:nvPicPr>
        <p:blipFill>
          <a:blip r:embed="rId8"/>
          <a:stretch/>
        </p:blipFill>
        <p:spPr>
          <a:xfrm>
            <a:off x="4483080" y="3203640"/>
            <a:ext cx="371520" cy="447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5"/>
          <p:cNvPicPr/>
          <p:nvPr/>
        </p:nvPicPr>
        <p:blipFill>
          <a:blip r:embed="rId9"/>
          <a:stretch/>
        </p:blipFill>
        <p:spPr>
          <a:xfrm>
            <a:off x="3313080" y="907920"/>
            <a:ext cx="2249640" cy="1690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54353453543"/>
          <p:cNvPicPr/>
          <p:nvPr/>
        </p:nvPicPr>
        <p:blipFill>
          <a:blip r:embed="rId10"/>
          <a:stretch/>
        </p:blipFill>
        <p:spPr>
          <a:xfrm>
            <a:off x="5157720" y="1944720"/>
            <a:ext cx="371520" cy="4474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3"/>
          <p:cNvSpPr/>
          <p:nvPr/>
        </p:nvSpPr>
        <p:spPr>
          <a:xfrm>
            <a:off x="5474520" y="18536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ing Dynas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5286240" y="2123280"/>
            <a:ext cx="26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en Cao Gang Mu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4844880" y="31186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81-682 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4608720" y="3337920"/>
            <a:ext cx="33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ei Ji Qian Jin Yao Fan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3405960" y="48236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an Dynasty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4124880" y="4058640"/>
            <a:ext cx="23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estern Jin Dynasty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3934080" y="4284000"/>
            <a:ext cx="27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Zhen Jiu Jia Yi Jin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213360" y="5049000"/>
            <a:ext cx="23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hang Han Lun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2415960" y="55890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,000 years 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2180160" y="5814360"/>
            <a:ext cx="25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uang Di Nei jin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88320" y="1135080"/>
            <a:ext cx="63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ome people say it is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uperst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896280" y="2573280"/>
            <a:ext cx="447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’s time to know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206280" y="3113640"/>
            <a:ext cx="39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heoretic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197880" y="1132560"/>
            <a:ext cx="329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in And Y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e law of nature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57720" y="613800"/>
            <a:ext cx="79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verything in the universe contains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yi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ya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92000" y="1268280"/>
            <a:ext cx="3870360" cy="486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853240" y="1760040"/>
            <a:ext cx="163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647360" y="1760040"/>
            <a:ext cx="178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ubsta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tc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未标题-1"/>
          <p:cNvPicPr/>
          <p:nvPr/>
        </p:nvPicPr>
        <p:blipFill>
          <a:blip r:embed="rId1"/>
          <a:stretch/>
        </p:blipFill>
        <p:spPr>
          <a:xfrm>
            <a:off x="3897360" y="2798640"/>
            <a:ext cx="1552680" cy="1571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3762720" y="212400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in  Y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 rot="11863800">
            <a:off x="566280" y="1449360"/>
            <a:ext cx="7952040" cy="468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 rot="11863800">
            <a:off x="566280" y="1449360"/>
            <a:ext cx="7952040" cy="4680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568800" y="613800"/>
            <a:ext cx="76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Unity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Opposi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Between yin and ya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2244600" y="2225520"/>
            <a:ext cx="1941480" cy="1941840"/>
          </a:xfrm>
          <a:prstGeom prst="ellipse">
            <a:avLst/>
          </a:prstGeom>
          <a:blipFill rotWithShape="0">
            <a:blip r:embed="rId3">
              <a:alphaModFix amt="8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4122720" y="1943280"/>
            <a:ext cx="1682640" cy="1684080"/>
          </a:xfrm>
          <a:prstGeom prst="ellipse">
            <a:avLst/>
          </a:prstGeom>
          <a:blipFill rotWithShape="0">
            <a:blip r:embed="rId4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4751280" y="2933640"/>
            <a:ext cx="2135160" cy="2135160"/>
          </a:xfrm>
          <a:prstGeom prst="ellipse">
            <a:avLst/>
          </a:prstGeom>
          <a:blipFill rotWithShape="0">
            <a:blip r:embed="rId5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8"/>
          <p:cNvSpPr/>
          <p:nvPr/>
        </p:nvSpPr>
        <p:spPr>
          <a:xfrm>
            <a:off x="3311640" y="3564000"/>
            <a:ext cx="1747800" cy="1747800"/>
          </a:xfrm>
          <a:prstGeom prst="ellipse">
            <a:avLst/>
          </a:prstGeom>
          <a:blipFill rotWithShape="0">
            <a:blip r:embed="rId6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 rot="993000">
            <a:off x="1646280" y="522828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he variations  of the four seas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 rot="993000">
            <a:off x="1962000" y="5589000"/>
            <a:ext cx="28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dynamic equilibriu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569160" y="613800"/>
            <a:ext cx="65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Interdependen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etween yin and ya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920200" y="302436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ithout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ithout sha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14:32:58Z</dcterms:created>
  <dc:creator/>
  <dc:description/>
  <cp:keywords/>
  <dc:language>en-US</dc:language>
  <cp:lastModifiedBy>Administrator</cp:lastModifiedBy>
  <cp:lastPrinted>1899-12-30T00:00:00Z</cp:lastPrinted>
  <dcterms:modified xsi:type="dcterms:W3CDTF">2015-02-16T01:20:55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